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5C7-1A8F-46C0-A99A-354AC87C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F2B-D80B-45EC-9FD2-C4D4DDB8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E41-CECF-46D6-B41F-00BE0414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33A-91F8-4914-925C-47FF59F6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D5FA-4E06-4889-894C-25B9635F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4883-BFF7-4090-B81F-10CEF471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9E27-CA81-4648-9CB3-DAC3542D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B159-BA95-4D87-AA46-65117B5C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D7C5-5F9B-4E85-B1AF-35EAD459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130C-5EE4-4CA6-88CE-DF76A4CB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A549-BC5A-40C1-AF0F-011CFC11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38B-5354-4A25-AB2E-4AECBACE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7ED8-A97D-4CA8-BFB9-8F1F5D97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C4F5-A62A-446D-8789-FF4A04C2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0FAE-1697-453F-8C7C-E323B489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C42E-7DFB-4F9D-A5A0-BFABEA35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EF96-A3A3-42D7-AEB4-3EDCB478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E70-3104-4A37-8103-D09F1183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16C-79E3-4A26-B38C-67DB7D9E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BA6-0E1E-4AA3-BCF4-F797723B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C8F-667F-4D2F-A57A-15FB7F32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6DB-31A7-4D03-99CE-FD98CE50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652-B1BE-4418-A0FC-5A44D71C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03B-675F-47A3-87CA-566677D0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AA43-05BF-4251-9343-8D3AF69C336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2988-8AD7-468E-BA8B-9D759497F97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95280" y="220968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CLAS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ROCAS CARBONA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2076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85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OSPARITE or GRAIN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55627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678280" cy="3740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33920" y="838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Biomicrit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37040" cy="3690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57600" y="762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spar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76920" cy="4049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7672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pelspar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484960" cy="3943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2680" y="7621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rasparrud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832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9880" y="685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lspar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894640" cy="4102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19520" y="5335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lit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stromatoporoi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ffle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31960" y="1000080"/>
            <a:ext cx="60404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03480" y="1747800"/>
            <a:ext cx="4937040" cy="3360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195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esparita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03480" y="1736640"/>
            <a:ext cx="4937040" cy="338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146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esparita pobremente la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57320" y="380880"/>
            <a:ext cx="6791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334120" cy="3603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668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iomicrita empaque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4125960" cy="278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4160880" cy="281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791320" y="1219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iomicrita disp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830920" cy="3878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62320" y="533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ioesparita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416560" cy="3571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14600" y="457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lesparita mal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170680" cy="3610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raesparita mal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52480" y="1994040"/>
            <a:ext cx="5639040" cy="3713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52480" y="609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icrita fosilí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10440" cy="3727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lesparita pobremente la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INTERPRETACION DE AMBIENTES EN ROCAS CARBONATICA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Grande"/>
              </a:rPr>
              <a:t>MICROFACIE: </a:t>
            </a:r>
            <a:r>
              <a:rPr b="0" lang="es-ES_tradnl" sz="2400" spc="-1" strike="noStrike">
                <a:solidFill>
                  <a:srgbClr val="000000"/>
                </a:solidFill>
                <a:latin typeface="Lucida Grande"/>
              </a:rPr>
              <a:t>Cjto. De criterios paleontológicos y sedimentológicos (petrológicos) que pueden ser determinados en secciones delgadas. Sirve para tener interpretación genétic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Grande"/>
              </a:rPr>
              <a:t>Los datos aportados por sección delgada deben ser complementados con observaciones de mayor escal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Datos paleontológic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tipos de organismos, diversidad, icnofósiles. Connotaciones ecológicas o paleoecológica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Datos sedimentológicos - petrológic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tipos de partículas, aspectos texturales (tamaño, selección, redondez), fábrica (empaquetamiento, orientación, relación granos/matriz, etc), tipos de cemento, tipos de huecos, tipos de reemplazo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INTERPRETACION DE AMBIENTES EN ROCAS CARBONATICA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Grande"/>
              </a:rPr>
              <a:t>Según Wilson (1970, 1974), los medios carbonatados más frecuentes so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Carbonatos profundos - isla barrera - lagoon con salinidad normal. En el lagoon se encontrarán gran cantidad de fósiles de organismos que vivían a baja profundida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Carbonatos profundos - isla barrera - lagoon con circulación restringida (hipersalino). Se encontrarán evaporitas, estromatolitos y oncolitos. Muy pocos o ningún fósil de otro organismo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Carbonatos profundos - arrecife - lagoon con salinidad normal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ELEMENTOS INDICADORES DE AMBIENTE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El hecho de existir rx´s carbonáceas ya indica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climas cálidos y con poca cantidad de aporte de terrígenos continentale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Presencia de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micrit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indic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ambiente de sedimentación tranquil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, ya sea por encima o por debajo del nivel de oleaje. Su ausencia no implica necesariamente oleaj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Oolito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indica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zonas de alta energí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Extraclastos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y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 terrígenos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indica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proximidad a áreas emergida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Ostrácodos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viven en cualquier ambiente (marino o continental), pero en general aparecen e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zonas profunda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Las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carófita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sólo viven e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agua dulce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Los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Oncolito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y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estromatolito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se forman en medios mareales e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zonas hipersalina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Las Algas rojas pueden vivir en arrecifes, lagoones y profundidades de hasta 250 m. También habitan cualquier tipo de clima. Resto de algas sólo vive en climas cálidos y baja profundida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9051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05120" y="380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lk (1959, 19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ELEMENTOS EN AMBIENTES SEDIMENTARIO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Zonas profundas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micrita, radiolarios, diatomeas, espículas de esponjas y globigerinas, es decir, organismos planctónico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Islas barreras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oolitos, coquinas, conchas fracturadas, orientadas y algo redondeadas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No se encuentra micrit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(Grainstones)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Zonas de arrecifes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organismos arrecifales, a veces grainston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Lagoones con circulación normal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gran cantidad de fósiles de organismos que viven a baja profundidad (foraminíferos bentónicos, briozoos, bivalvos, etc), micrita, peloides y granos agregado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Lagoones con circulación restringid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: evaporitas, estromatolitos, oncolitos. Procesos de dolomitización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9051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Lucida Grande"/>
              </a:rPr>
              <a:t>SECUENCIA DE BANDAS DE FACIES (WILSON, 1975)</a:t>
            </a:r>
            <a:endParaRPr b="1" lang="en-US" sz="2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6868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66400" cy="513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90720" y="3049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asificacón de Dunham modificada por Klovan y Embry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53080" y="6172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osparrud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324480" y="6324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ospa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77120" y="6324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ospa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4857840" cy="181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OMICRITE or MUDSTONE / WACK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4879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elo Farías</cp:lastModifiedBy>
  <dcterms:modified xsi:type="dcterms:W3CDTF">2004-08-19T20:48:27Z</dcterms:modified>
  <cp:revision>15</cp:revision>
  <dc:subject/>
  <dc:title>Presentación de PowerPoint</dc:title>
</cp:coreProperties>
</file>