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4.png" ContentType="image/png"/>
  <Override PartName="/ppt/media/image11.png" ContentType="image/png"/>
  <Override PartName="/ppt/media/image12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2DA9-DE7A-4A81-892C-95AF419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DA03-6E10-4474-A9F7-B6C3F852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EC5C-2349-4B16-80EA-E62C5F6FA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E0B-BF6B-4DEB-AC6A-A00DEE421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A8CC-6C36-4F2F-8B7F-66EB6EF0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7300-45E9-44A8-A5DF-1DF8848C2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4BD7-C34B-4834-B8BC-7838FEB1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C6329-8AE9-49AB-AE4A-D41E4A1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E9AA-ED52-455A-A2E4-66CF1461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4A2-77C8-49C8-88F5-66FB87C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6BA1-7684-4C36-8CC4-2BDEA25D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9C8B-E14F-4876-AEC8-D611C5147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F4D9-01F1-46DF-AE2C-FBF07AE9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F9F5-D62C-4E41-BE88-6D120AC1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425C-71F6-43D6-B7DC-A1AE5212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67FC-40BF-4A49-A0DC-9A5941024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BF14-379F-4F25-8192-140A63F6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AAFA-9498-4B2B-929A-845AB3C4D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FE0C-ECC8-4C67-A20B-55A005600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FA21-8F72-4B63-8B6D-C2E40ACF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A428-FB12-4E75-955A-D57C8B88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19C3-9FE0-46D9-81FC-33BEC1C0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EB6E-DACD-438B-82D4-6448FC76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29BD-4D6D-4246-A522-9E1B6640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0C4-B8DD-4119-85DC-3CE6129CA58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A380-9E2B-4D1E-A66F-27CC576910E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Proyección Geográfica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600360" cy="18586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5080" y="1839960"/>
            <a:ext cx="4037040" cy="168912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95280" y="4111560"/>
            <a:ext cx="3529080" cy="1970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645080" y="4041720"/>
            <a:ext cx="4037040" cy="19335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11440" y="359244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quidistant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02160" y="609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Mercato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000" y="352116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Lamber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50720" y="596916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ola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90360"/>
          <a:ext cx="9144000" cy="665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360"/>
                    <a:ext cx="9144000" cy="66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Proyección de Merca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La proyección mas utilizada en Chile es la proyección Universal Transversa de Mercator (UTM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Ideal para escalas grandes ( Mayores a 1:250.000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Conserva los ángulo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Distorsiona todas las superficies sobre los objetos originales así como las distancias existent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 mide la distancia en metros con respecto a dos líneas perpendicular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645080" y="2573280"/>
          <a:ext cx="4037040" cy="254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5080" y="2573280"/>
                    <a:ext cx="403704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1252440" y="1598760"/>
          <a:ext cx="2443320" cy="44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2440" y="1598760"/>
                    <a:ext cx="244332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3642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e trata de una proyección cilíndrica en la que la Tierra se divide en 60 husos con una anchura de 6 grados de long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os lados y aumentan hacia el meridiano central (es por tanto una proyección secante), especialmente cuando se incremente la latitud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UTM no debe usarse en latitudes altas y suele reemplazarse por proyecciones azimutales polar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meridiano central tiene siempre un valor X= 500.000 metros y en el Ecuador Y=0 metro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040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42920" y="836640"/>
            <a:ext cx="8893080" cy="5062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700360" y="1125360"/>
            <a:ext cx="287280" cy="3816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826920" y="239760"/>
            <a:ext cx="7777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142920" y="907920"/>
            <a:ext cx="88930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oordenadas UT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437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Ejemplo coordena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Es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340.00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6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Norte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6.123.580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(7 Dígito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uso 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19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Zona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Datum 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SAD 69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desia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la ciencia que estudia la forma y tamaño de la Tierra y las posiciones sobre la misma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Geoide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es una superficie en la que todos sus puntos experimentan la misma atracción gravitatoria siendo esta equivalente a la experimentada al nivel del mar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La forma del Geoide puede aproximarse utilizando diferentes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lips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o </a:t>
            </a:r>
            <a:r>
              <a:rPr b="1" lang="es-ES" sz="2000" spc="-1" strike="noStrike">
                <a:solidFill>
                  <a:srgbClr val="eaeaea"/>
                </a:solidFill>
                <a:latin typeface="Arial"/>
              </a:rPr>
              <a:t>esferoides</a:t>
            </a:r>
            <a:r>
              <a:rPr b="0" lang="es-ES" sz="2000" spc="-1" strike="noStrike">
                <a:solidFill>
                  <a:srgbClr val="eaeaea"/>
                </a:solidFill>
                <a:latin typeface="Arial"/>
              </a:rPr>
              <a:t> que resultan de la revolución de una elips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019320" cy="22100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52720" cy="22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24000" y="285840"/>
            <a:ext cx="842472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ccecff"/>
                </a:solidFill>
                <a:latin typeface="Arial"/>
              </a:rPr>
              <a:t>Mapa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148600" cy="24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a mapa geologico no es solo un dibujo. Debe tener información suficiente para que sea entendible con SOLO ver el mapa, sin necesidad de ver el tex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532944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ron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Uso de Colores  y simbologí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ntact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continua contacto observa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Linea discontinua contacto infer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sistentes los rumbos y manteos con la topografia (=&gt; REGLA DE LAS V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orizont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tratos Vertic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213080" y="163044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211640" y="3645000"/>
            <a:ext cx="1847880" cy="16761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6443640" y="3645000"/>
            <a:ext cx="1387440" cy="16556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6372360" y="1627200"/>
            <a:ext cx="133488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contra la Pendi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en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659640" y="4221000"/>
            <a:ext cx="1385640" cy="1656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427640" y="4200480"/>
            <a:ext cx="1847880" cy="1676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640560" y="1627200"/>
            <a:ext cx="13874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Regla de las V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99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Manteo a favor de la pendiente (ángulo mayor que la pendient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804000" y="177336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500720" y="1700280"/>
            <a:ext cx="18475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y Form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Juntar varios cuerpos iguales a un cuerpo grande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Estratos: Juntar varios estratos parecidos para una unidad o formación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eaeaea"/>
                </a:solidFill>
                <a:latin typeface="Arial"/>
              </a:rPr>
              <a:t>No dibujar el cuerpo</a:t>
            </a:r>
            <a:r>
              <a:rPr b="0" lang="es-CL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TODO LO ANTERIOR ES FUNCION DE LA ESCALA Y CALIDAD DE LA INFORMAC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Para cualquier tipo de coordenadas deben cumplirse las siguientes regl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el Punto sea UNIC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quede perfectamente identificado el sistema de proyección empleado para localizar 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Que permita referenciar la coordenada “Z” del punt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763640" y="1628640"/>
          <a:ext cx="568980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628640"/>
                    <a:ext cx="568980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051560" y="5516640"/>
            <a:ext cx="741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arios cuerpos pequeños agrupados en un cuerpo mayor o destacad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mo un conjun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835280" y="3716280"/>
          <a:ext cx="5689440" cy="16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3716280"/>
                    <a:ext cx="5689440" cy="16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979640" y="1557360"/>
          <a:ext cx="583236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57360"/>
                    <a:ext cx="583236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2050920" y="3500280"/>
          <a:ext cx="5761080" cy="21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3500280"/>
                    <a:ext cx="5761080" cy="21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85920" y="2881440"/>
          <a:ext cx="6564240" cy="19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920" y="2881440"/>
                    <a:ext cx="656424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ronolog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"/>
              </a:rPr>
              <a:t>Ser consistentes con los periodos de tiemp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12720" y="3141720"/>
          <a:ext cx="7559640" cy="34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2720" y="3141720"/>
                    <a:ext cx="7559640" cy="34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-7920"/>
            <a:ext cx="9540720" cy="689292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2484360" y="2421000"/>
            <a:ext cx="3456000" cy="4437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" y="4265640"/>
          <a:ext cx="4037040" cy="19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4265640"/>
                    <a:ext cx="40370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4643280" y="4221000"/>
          <a:ext cx="4037040" cy="20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4221000"/>
                    <a:ext cx="4037040" cy="20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260360" y="404640"/>
          <a:ext cx="6480360" cy="321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60360" y="404640"/>
                    <a:ext cx="648036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 flipH="1">
            <a:off x="2771280" y="3645000"/>
            <a:ext cx="863640" cy="647640"/>
          </a:xfrm>
          <a:prstGeom prst="line">
            <a:avLst/>
          </a:prstGeom>
          <a:ln w="7632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6320" y="630864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jo con la temporalidad de los evento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Para mapas en blanco y neg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859280" y="1916280"/>
            <a:ext cx="4037040" cy="163980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4859280" y="4508640"/>
            <a:ext cx="4037040" cy="21222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3"/>
          <a:stretch/>
        </p:blipFill>
        <p:spPr>
          <a:xfrm>
            <a:off x="179280" y="2852640"/>
            <a:ext cx="443880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Dibujo de Mapas: Simbologí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Mapas en Col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época por color": Cada época tiene su color propia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Esquema " litología y color": Cada roca tiene su color propia</a:t>
            </a:r>
            <a:r>
              <a:rPr b="0" lang="es-CL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512760" y="2565360"/>
            <a:ext cx="262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lores por época para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rocas sedimentarias y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volcánica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826920" y="620640"/>
          <a:ext cx="52628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52628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Colores por litologi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Intrusivas -&gt; Roj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Volcanicas -&gt; verd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onglomerados -&gt; Naranj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Calizas -&gt; azu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Rocas metámorficas -&gt; gris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l sistema de coordenadas natural de un esferoide es el de latitud y longitud que suele denominarse 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coordenadas geográficas</a:t>
            </a:r>
            <a:r>
              <a:rPr b="1" lang="es-ES" sz="2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representación cartográfica de la Tierra (sea considerado como una esfera o un elipsoide) genera un problema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NO ES POSIBLE REPRESENTAR TODA LA SUPERFICIE SIN DEFORMARLA E INCLUSO REPRESENTARLA FIELMENT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yecciones se utilizan para minimizar las deformaciones al representar la superficie terrestre en un mapa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Reglas básic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Siempre amarillo claro exclusivamente para cuaternar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eaeaea"/>
                </a:solidFill>
                <a:latin typeface="Arial"/>
              </a:rPr>
              <a:t>Rojo solo para rocas intrusivas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7920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Nombre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Autores del Map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Escala: grafica y con palabr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Ubicación del Norte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dicar Norte magnético y declinació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Tiene que llevar coordenada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Simbologi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Información acerca del tipo de proyección geográfica utilizada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"/>
              </a:rPr>
              <a:t>Pequeño mapa con CALIDAD DE LA INFORMACION (sectores observados en terreno, quien observo cada sector, sectores foto interpretados, etc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ccecff"/>
                </a:solidFill>
                <a:latin typeface="Arial"/>
              </a:rPr>
              <a:t>Construcción del Map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Arial"/>
              </a:rPr>
              <a:t>Leyenda Geológ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Unidades ordenadas Tempor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Muestra la simbología de cada unidad y su símbol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eaea"/>
                </a:solidFill>
                <a:latin typeface="Arial"/>
              </a:rPr>
              <a:t>Breve descripción de la uni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8137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eaeaea"/>
                </a:solidFill>
                <a:latin typeface="Arial"/>
              </a:rPr>
              <a:t>proyección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s el proceso de transformar las coordenadas geográficas del esferoide a coordenadas planas para representarlo en dos dimensiones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x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y=f(lat,long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 proyección implica siempre una distorsió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propiedades del elipsoide que pueden mantenerse son: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onformidad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os ángulos que dos líneas forman en la superficie terrestre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vale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superfic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Equidistancia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la proyección mantiene las distancia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 forma de clasificar las proyecciones es con referencia a la figura geométrica que genera el plano bidimension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ilíndr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cónica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Arial"/>
              </a:rPr>
              <a:t>acimutale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Las distorsiones son nulas en la linea donde la figura corta al elipsoide y aumentan con la distancia a esta. Para minimizar el error medio suelen utilizarse planos secantes en lugar de planos tangent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61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8T23:29:57Z</dcterms:created>
  <dc:creator>andrés</dc:creator>
  <dc:description/>
  <dc:language>en-US</dc:language>
  <cp:lastModifiedBy>andres</cp:lastModifiedBy>
  <dcterms:modified xsi:type="dcterms:W3CDTF">2004-08-12T22:59:09Z</dcterms:modified>
  <cp:revision>11</cp:revision>
  <dc:subject/>
  <dc:title>Proyección Geográfic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