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png" ContentType="image/png"/>
  <Override PartName="/ppt/media/image1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F06-F01F-47FD-BDDF-D3F91D47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A43-2602-4EBF-9A07-0815A9E0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ED6-93ED-4F73-B332-BEF86580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33D-508C-43EA-90DD-DEAC0DD7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FB70-9A7B-4EE0-AAC9-8CE97C83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8E1D-34D8-4617-9478-A58090F4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E1C1-AFCC-4E8F-BE55-5052F82F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B717-20D3-4C11-9343-8CBB9A3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6346-6509-4569-AC85-F4DF05FA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D472-5B94-453D-8C3C-4E38030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F93A-E4F8-4591-80F8-9E18A1E7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5B3-78DA-42BD-BD4E-5537DF8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5E7B-1F07-47F7-84A0-6D2ECD62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148F-0CB0-4D22-834F-14BFA27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A764-0D60-48BC-897A-28198627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CA33-A12E-4AFA-8C72-97244F96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F48F-61C7-4FBB-9681-2BC07BF5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72B-F56E-47B0-980C-A094786E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BAE-F7AD-4E3A-9BB0-817C694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C52-D827-49D7-94F2-7834A7FA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AC6-312C-48F5-BAEA-1012C6B0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E18-54FA-499F-B62A-C2365FBE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46E-DAE4-4623-BBAF-F2CA6F38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C27-0B79-4DC4-BA41-22CFE09D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2C2F-06DA-4384-998C-9122940FC5F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8437-0B9F-476E-AA46-08077B6BE84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5080" y="2573280"/>
          <a:ext cx="403704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573280"/>
                    <a:ext cx="403704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52440" y="1598760"/>
          <a:ext cx="2443320" cy="44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1598760"/>
                    <a:ext cx="244332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a anchura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o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U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andres</cp:lastModifiedBy>
  <dcterms:modified xsi:type="dcterms:W3CDTF">2004-08-12T22:59:09Z</dcterms:modified>
  <cp:revision>11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