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1.png" ContentType="image/png"/>
  <Override PartName="/ppt/media/image1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403-E70E-49EF-AA77-55819030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AAF-4B51-4586-B9D1-367B0A1A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31B-6742-4BFC-9507-F10FD7C0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A23-36BB-4E44-940C-37234F24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AE64-1120-4DB6-9333-B6B4181B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CFDE-14BE-4B02-9229-6F3AF51E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B9AA-DBAE-48B6-A814-16EA5867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A6D0-E671-4923-90A5-68DFD51F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3139-9836-4285-BB97-AF44EFD9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BAA4-CEA6-4E55-B632-826FA880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59E2-B317-4B2F-A1ED-82716204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A01-80CB-47C7-AF33-60D50C8C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9F79-CDF8-4A71-B65C-E8E69485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D026-3E12-4232-8B5A-9B717CB9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26CF-EF09-47A1-A5FD-7BA01BB9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FF16-0209-47C1-BD0F-E4C2B4DD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AAE7-98FC-437B-B1D3-1C658A53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7F53-3D4A-4477-80DF-62EBB695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65B-8823-466F-A1F7-A3A38BE3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F73-3C2D-4670-A31B-8EF4057A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A73-D4F5-4CA0-AEEF-543BA114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438-E8CB-45F8-AB3C-CB326784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EDA-63AB-4807-B0CA-B3AD35D9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277-B248-4E0A-8981-40D1F29C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AFFD-7313-4827-8C01-45ED3157D25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A1FA-58AC-4AE8-9EC6-91C72240AEE2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5080" y="2573280"/>
          <a:ext cx="403704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2573280"/>
                    <a:ext cx="403704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252440" y="1598760"/>
          <a:ext cx="2443320" cy="44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1598760"/>
                    <a:ext cx="244332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a anchura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o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U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andres</cp:lastModifiedBy>
  <dcterms:modified xsi:type="dcterms:W3CDTF">2004-08-12T22:59:09Z</dcterms:modified>
  <cp:revision>11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