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B7C-18D0-41CE-8599-F89DABE5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568-9FE4-4B80-A364-3DE21977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83D-EAD8-4893-A5C6-69019944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63B-53D7-4DEC-89ED-22FF91D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D87E-6B1E-4826-B247-FB21ECAE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B5B2-4F43-4461-9EAC-2FA5FAA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315E-A0FE-48B6-8047-F27124E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B24-34E3-421E-B640-DEE7224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316-9040-47CE-96A1-46A13F4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BC2-8F7A-4EF0-9FB3-8B3592AE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2AF-4E17-4DC7-8A1E-549EC45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A75-C09B-4A78-96AF-09B9E26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5D9-2AE6-4BF4-827B-4C7051D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68FB-15BA-4EF2-A4C4-40968DD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771-CF3B-48A0-BF68-99B0993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3FE9-932A-4F01-B096-81487227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3B8-5703-47DD-ABFD-930008BD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DFA-314C-420F-8B66-C029006B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B32-8AA7-4547-846F-3F8FF00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887-BE25-4BFE-97CB-01DAB349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E16-B5D4-47B6-8A3D-D20425EB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163-6268-4F0D-AAF8-C6CEF7F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0A3-18B5-4389-8CB3-F5B691A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5F1-0A66-49D3-89FE-B0DEDB8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856-6DC4-49BB-8170-864DB435C24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75A-BAC4-4279-84F1-0E4A3C41691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Stres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(Esfuerzo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lipsoide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544760"/>
          <a:ext cx="4907160" cy="46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44760"/>
                    <a:ext cx="4907160" cy="46209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57400" y="1926720"/>
            <a:ext cx="4567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Esfuerzos principal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y las direcciones según las cuales actúan se denominan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irecciones principal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n siempre esfuerzos norm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lipsoide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s tres planos perpendiculares entre sí que contienen a los ejes del elipsoide son aquellos sobre los que actúan los esfuerzos principales, y se llaman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lanos principale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 elipsoide de esfuerz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s planos principales no experimentan nunca esfuerzos de cizal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ipos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Un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B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Tr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Poliaxial σ1 &gt; σ2 &gt;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Axial</a:t>
            </a: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σ1= σ2 o σ2 =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Hidroestático 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1 = σ2 =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Litoestático Peso de la columna de roc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92720" y="5157720"/>
          <a:ext cx="29336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5157720"/>
                    <a:ext cx="2933640" cy="7113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29400" y="4221000"/>
          <a:ext cx="20826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4221000"/>
                    <a:ext cx="2082600" cy="7113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Deformación Frágil vs. Dúcti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558880"/>
          <a:ext cx="822960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58880"/>
                    <a:ext cx="8229600" cy="2613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24000"/>
          </a:blip>
          <a:srcRect l="0" t="70999" r="7521" b="0"/>
          <a:stretch/>
        </p:blipFill>
        <p:spPr>
          <a:xfrm>
            <a:off x="2108160" y="3935520"/>
            <a:ext cx="5622840" cy="2751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bright="24000"/>
          </a:blip>
          <a:srcRect l="0" t="34724" r="7106" b="28365"/>
          <a:stretch/>
        </p:blipFill>
        <p:spPr>
          <a:xfrm>
            <a:off x="2108160" y="262080"/>
            <a:ext cx="5646600" cy="3500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6200000">
            <a:off x="1254960" y="4934520"/>
            <a:ext cx="863640" cy="801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rot="5400000">
            <a:off x="7704720" y="4934520"/>
            <a:ext cx="863640" cy="801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5520" y="4697280"/>
            <a:ext cx="13669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s-CL" sz="7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57640" y="677880"/>
            <a:ext cx="3368520" cy="2628720"/>
            <a:chOff x="3257640" y="677880"/>
            <a:chExt cx="3368520" cy="2628720"/>
          </a:xfrm>
        </p:grpSpPr>
        <p:sp>
          <p:nvSpPr>
            <p:cNvPr id="151" name=""/>
            <p:cNvSpPr/>
            <p:nvPr/>
          </p:nvSpPr>
          <p:spPr>
            <a:xfrm>
              <a:off x="3532320" y="1265400"/>
              <a:ext cx="2543040" cy="1765080"/>
            </a:xfrm>
            <a:custGeom>
              <a:avLst/>
              <a:gdLst/>
              <a:ahLst/>
              <a:rect l="l" t="t" r="r" b="b"/>
              <a:pathLst>
                <a:path w="1602" h="1112">
                  <a:moveTo>
                    <a:pt x="1602" y="1112"/>
                  </a:moveTo>
                  <a:cubicBezTo>
                    <a:pt x="1439" y="996"/>
                    <a:pt x="1276" y="880"/>
                    <a:pt x="1121" y="757"/>
                  </a:cubicBezTo>
                  <a:cubicBezTo>
                    <a:pt x="966" y="634"/>
                    <a:pt x="858" y="497"/>
                    <a:pt x="671" y="371"/>
                  </a:cubicBezTo>
                  <a:cubicBezTo>
                    <a:pt x="484" y="245"/>
                    <a:pt x="242" y="122"/>
                    <a:pt x="0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988920"/>
              <a:ext cx="1390680" cy="914400"/>
            </a:xfrm>
            <a:custGeom>
              <a:avLst/>
              <a:gdLst/>
              <a:ahLst/>
              <a:rect l="l" t="t" r="r" b="b"/>
              <a:pathLst>
                <a:path w="876" h="576">
                  <a:moveTo>
                    <a:pt x="876" y="0"/>
                  </a:moveTo>
                  <a:cubicBezTo>
                    <a:pt x="842" y="37"/>
                    <a:pt x="726" y="166"/>
                    <a:pt x="671" y="221"/>
                  </a:cubicBezTo>
                  <a:cubicBezTo>
                    <a:pt x="616" y="276"/>
                    <a:pt x="656" y="273"/>
                    <a:pt x="544" y="332"/>
                  </a:cubicBezTo>
                  <a:cubicBezTo>
                    <a:pt x="432" y="391"/>
                    <a:pt x="113" y="525"/>
                    <a:pt x="0" y="57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9960" y="927000"/>
              <a:ext cx="1127160" cy="814320"/>
            </a:xfrm>
            <a:custGeom>
              <a:avLst/>
              <a:gdLst/>
              <a:ahLst/>
              <a:rect l="l" t="t" r="r" b="b"/>
              <a:pathLst>
                <a:path w="710" h="513">
                  <a:moveTo>
                    <a:pt x="710" y="0"/>
                  </a:moveTo>
                  <a:cubicBezTo>
                    <a:pt x="572" y="107"/>
                    <a:pt x="434" y="215"/>
                    <a:pt x="316" y="300"/>
                  </a:cubicBezTo>
                  <a:cubicBezTo>
                    <a:pt x="198" y="385"/>
                    <a:pt x="99" y="449"/>
                    <a:pt x="0" y="513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3840" y="801720"/>
              <a:ext cx="1090800" cy="714240"/>
            </a:xfrm>
            <a:custGeom>
              <a:avLst/>
              <a:gdLst/>
              <a:ahLst/>
              <a:rect l="l" t="t" r="r" b="b"/>
              <a:pathLst>
                <a:path w="687" h="450">
                  <a:moveTo>
                    <a:pt x="687" y="0"/>
                  </a:moveTo>
                  <a:cubicBezTo>
                    <a:pt x="558" y="69"/>
                    <a:pt x="430" y="138"/>
                    <a:pt x="316" y="213"/>
                  </a:cubicBezTo>
                  <a:cubicBezTo>
                    <a:pt x="202" y="288"/>
                    <a:pt x="101" y="369"/>
                    <a:pt x="0" y="45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7640" y="1916280"/>
              <a:ext cx="963360" cy="1164960"/>
            </a:xfrm>
            <a:custGeom>
              <a:avLst/>
              <a:gdLst/>
              <a:ahLst/>
              <a:rect l="l" t="t" r="r" b="b"/>
              <a:pathLst>
                <a:path w="607" h="734">
                  <a:moveTo>
                    <a:pt x="607" y="0"/>
                  </a:moveTo>
                  <a:cubicBezTo>
                    <a:pt x="484" y="152"/>
                    <a:pt x="361" y="304"/>
                    <a:pt x="260" y="426"/>
                  </a:cubicBezTo>
                  <a:cubicBezTo>
                    <a:pt x="159" y="548"/>
                    <a:pt x="79" y="641"/>
                    <a:pt x="0" y="7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5640" y="1339920"/>
              <a:ext cx="2630520" cy="1554120"/>
            </a:xfrm>
            <a:custGeom>
              <a:avLst/>
              <a:gdLst/>
              <a:ahLst/>
              <a:rect l="l" t="t" r="r" b="b"/>
              <a:pathLst>
                <a:path w="1657" h="979">
                  <a:moveTo>
                    <a:pt x="0" y="0"/>
                  </a:moveTo>
                  <a:cubicBezTo>
                    <a:pt x="42" y="6"/>
                    <a:pt x="85" y="12"/>
                    <a:pt x="189" y="79"/>
                  </a:cubicBezTo>
                  <a:cubicBezTo>
                    <a:pt x="293" y="146"/>
                    <a:pt x="494" y="318"/>
                    <a:pt x="623" y="403"/>
                  </a:cubicBezTo>
                  <a:cubicBezTo>
                    <a:pt x="752" y="488"/>
                    <a:pt x="837" y="532"/>
                    <a:pt x="963" y="592"/>
                  </a:cubicBezTo>
                  <a:cubicBezTo>
                    <a:pt x="1089" y="652"/>
                    <a:pt x="1265" y="702"/>
                    <a:pt x="1381" y="766"/>
                  </a:cubicBezTo>
                  <a:cubicBezTo>
                    <a:pt x="1497" y="830"/>
                    <a:pt x="1577" y="904"/>
                    <a:pt x="1657" y="9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57760" y="1665360"/>
              <a:ext cx="1554120" cy="1554120"/>
            </a:xfrm>
            <a:custGeom>
              <a:avLst/>
              <a:gdLst/>
              <a:ahLst/>
              <a:rect l="l" t="t" r="r" b="b"/>
              <a:pathLst>
                <a:path w="979" h="979">
                  <a:moveTo>
                    <a:pt x="16" y="0"/>
                  </a:moveTo>
                  <a:cubicBezTo>
                    <a:pt x="8" y="6"/>
                    <a:pt x="0" y="12"/>
                    <a:pt x="71" y="71"/>
                  </a:cubicBezTo>
                  <a:cubicBezTo>
                    <a:pt x="142" y="130"/>
                    <a:pt x="329" y="242"/>
                    <a:pt x="442" y="355"/>
                  </a:cubicBezTo>
                  <a:cubicBezTo>
                    <a:pt x="555" y="468"/>
                    <a:pt x="661" y="646"/>
                    <a:pt x="750" y="750"/>
                  </a:cubicBezTo>
                  <a:cubicBezTo>
                    <a:pt x="839" y="854"/>
                    <a:pt x="909" y="916"/>
                    <a:pt x="979" y="9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84840" y="826920"/>
              <a:ext cx="338040" cy="22572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73680" y="67788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93440" y="93816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0800000">
              <a:off x="5070960" y="308124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0800000">
              <a:off x="6248880" y="279252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3304800" y="2930040"/>
              <a:ext cx="338040" cy="22572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440" y="1428840"/>
              <a:ext cx="537840" cy="637920"/>
            </a:xfrm>
            <a:custGeom>
              <a:avLst/>
              <a:gdLst/>
              <a:ahLst/>
              <a:rect l="l" t="t" r="r" b="b"/>
              <a:pathLst>
                <a:path w="339" h="402">
                  <a:moveTo>
                    <a:pt x="339" y="0"/>
                  </a:moveTo>
                  <a:cubicBezTo>
                    <a:pt x="272" y="108"/>
                    <a:pt x="206" y="217"/>
                    <a:pt x="150" y="284"/>
                  </a:cubicBezTo>
                  <a:cubicBezTo>
                    <a:pt x="94" y="351"/>
                    <a:pt x="47" y="376"/>
                    <a:pt x="0" y="40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19560" y="801720"/>
              <a:ext cx="1152360" cy="1139760"/>
            </a:xfrm>
            <a:custGeom>
              <a:avLst/>
              <a:gdLst/>
              <a:ahLst/>
              <a:rect l="l" t="t" r="r" b="b"/>
              <a:pathLst>
                <a:path w="726" h="718">
                  <a:moveTo>
                    <a:pt x="0" y="0"/>
                  </a:moveTo>
                  <a:cubicBezTo>
                    <a:pt x="22" y="46"/>
                    <a:pt x="71" y="185"/>
                    <a:pt x="134" y="276"/>
                  </a:cubicBezTo>
                  <a:cubicBezTo>
                    <a:pt x="197" y="367"/>
                    <a:pt x="280" y="470"/>
                    <a:pt x="379" y="544"/>
                  </a:cubicBezTo>
                  <a:cubicBezTo>
                    <a:pt x="478" y="618"/>
                    <a:pt x="604" y="671"/>
                    <a:pt x="726" y="71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Queremos calcular las componentes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y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sobre un plano P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32000" y="3500280"/>
            <a:ext cx="6696000" cy="2016360"/>
            <a:chOff x="1332000" y="3500280"/>
            <a:chExt cx="6696000" cy="2016360"/>
          </a:xfrm>
        </p:grpSpPr>
        <p:sp>
          <p:nvSpPr>
            <p:cNvPr id="169" name=""/>
            <p:cNvSpPr/>
            <p:nvPr/>
          </p:nvSpPr>
          <p:spPr>
            <a:xfrm>
              <a:off x="1332000" y="3500280"/>
              <a:ext cx="669600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5516640"/>
              <a:ext cx="6696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32000" y="3500280"/>
              <a:ext cx="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145640" y="481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03640" y="4220640"/>
            <a:ext cx="28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4365720"/>
            <a:ext cx="9367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1440" y="4581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080" y="43848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3645000"/>
            <a:ext cx="514440" cy="442800"/>
          </a:xfrm>
          <a:custGeom>
            <a:avLst/>
            <a:gdLst/>
            <a:ahLst/>
            <a:rect l="l" t="t" r="r" b="b"/>
            <a:pathLst>
              <a:path w="324" h="279">
                <a:moveTo>
                  <a:pt x="0" y="272"/>
                </a:moveTo>
                <a:cubicBezTo>
                  <a:pt x="23" y="275"/>
                  <a:pt x="46" y="279"/>
                  <a:pt x="91" y="272"/>
                </a:cubicBezTo>
                <a:cubicBezTo>
                  <a:pt x="136" y="265"/>
                  <a:pt x="235" y="250"/>
                  <a:pt x="272" y="227"/>
                </a:cubicBezTo>
                <a:cubicBezTo>
                  <a:pt x="309" y="204"/>
                  <a:pt x="310" y="166"/>
                  <a:pt x="317" y="136"/>
                </a:cubicBezTo>
                <a:cubicBezTo>
                  <a:pt x="324" y="106"/>
                  <a:pt x="324" y="68"/>
                  <a:pt x="317" y="45"/>
                </a:cubicBezTo>
                <a:cubicBezTo>
                  <a:pt x="310" y="22"/>
                  <a:pt x="291" y="11"/>
                  <a:pt x="27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87880" y="5013360"/>
            <a:ext cx="384480" cy="503280"/>
          </a:xfrm>
          <a:custGeom>
            <a:avLst/>
            <a:gdLst/>
            <a:ahLst/>
            <a:rect l="l" t="t" r="r" b="b"/>
            <a:pathLst>
              <a:path w="242" h="317">
                <a:moveTo>
                  <a:pt x="61" y="317"/>
                </a:moveTo>
                <a:cubicBezTo>
                  <a:pt x="42" y="287"/>
                  <a:pt x="23" y="257"/>
                  <a:pt x="15" y="227"/>
                </a:cubicBezTo>
                <a:cubicBezTo>
                  <a:pt x="7" y="197"/>
                  <a:pt x="0" y="166"/>
                  <a:pt x="15" y="136"/>
                </a:cubicBezTo>
                <a:cubicBezTo>
                  <a:pt x="30" y="106"/>
                  <a:pt x="68" y="68"/>
                  <a:pt x="106" y="45"/>
                </a:cubicBezTo>
                <a:cubicBezTo>
                  <a:pt x="144" y="22"/>
                  <a:pt x="193" y="11"/>
                  <a:pt x="24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85280" y="3594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85240" y="51004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emos los esfuerzos Principales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Arial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Arial"/>
              </a:rPr>
              <a:t>1 y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Arial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32000" y="3500280"/>
            <a:ext cx="6696000" cy="2016360"/>
            <a:chOff x="1332000" y="3500280"/>
            <a:chExt cx="6696000" cy="2016360"/>
          </a:xfrm>
        </p:grpSpPr>
        <p:sp>
          <p:nvSpPr>
            <p:cNvPr id="184" name=""/>
            <p:cNvSpPr/>
            <p:nvPr/>
          </p:nvSpPr>
          <p:spPr>
            <a:xfrm>
              <a:off x="1332000" y="3500280"/>
              <a:ext cx="669600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32000" y="5516640"/>
              <a:ext cx="6696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32000" y="3500280"/>
              <a:ext cx="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145640" y="481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03640" y="4220640"/>
            <a:ext cx="28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4365720"/>
            <a:ext cx="9367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1440" y="4581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9080" y="43848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508640"/>
            <a:ext cx="8650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200" y="4508640"/>
            <a:ext cx="48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Arial"/>
              </a:rPr>
              <a:t>σ</a:t>
            </a:r>
            <a:r>
              <a:rPr b="1" lang="es-ES_tradnl" sz="2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67280" y="5660640"/>
            <a:ext cx="0" cy="792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71920" y="5803920"/>
            <a:ext cx="48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Arial"/>
              </a:rPr>
              <a:t>σ</a:t>
            </a:r>
            <a:r>
              <a:rPr b="1" lang="es-ES_tradnl" sz="2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03640" y="2708280"/>
            <a:ext cx="75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omponentes Paralelas a P: 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σ</a:t>
            </a:r>
            <a:r>
              <a:rPr b="0" lang="es-CL" sz="2000" spc="-1" strike="noStrike" baseline="-25000">
                <a:solidFill>
                  <a:srgbClr val="eec85e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·sen </a:t>
            </a:r>
            <a:r>
              <a:rPr b="0" lang="es-CL" sz="2000" spc="-1" strike="noStrike">
                <a:solidFill>
                  <a:srgbClr val="eec85e"/>
                </a:solidFill>
                <a:latin typeface="Times New Roman"/>
              </a:rPr>
              <a:t>α</a:t>
            </a: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 y 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σ</a:t>
            </a:r>
            <a:r>
              <a:rPr b="0" lang="es-CL" sz="2000" spc="-1" strike="noStrike" baseline="-25000">
                <a:solidFill>
                  <a:srgbClr val="eec85e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·cos </a:t>
            </a:r>
            <a:r>
              <a:rPr b="0" lang="es-CL" sz="20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645000"/>
            <a:ext cx="514440" cy="442800"/>
          </a:xfrm>
          <a:custGeom>
            <a:avLst/>
            <a:gdLst/>
            <a:ahLst/>
            <a:rect l="l" t="t" r="r" b="b"/>
            <a:pathLst>
              <a:path w="324" h="279">
                <a:moveTo>
                  <a:pt x="0" y="272"/>
                </a:moveTo>
                <a:cubicBezTo>
                  <a:pt x="23" y="275"/>
                  <a:pt x="46" y="279"/>
                  <a:pt x="91" y="272"/>
                </a:cubicBezTo>
                <a:cubicBezTo>
                  <a:pt x="136" y="265"/>
                  <a:pt x="235" y="250"/>
                  <a:pt x="272" y="227"/>
                </a:cubicBezTo>
                <a:cubicBezTo>
                  <a:pt x="309" y="204"/>
                  <a:pt x="310" y="166"/>
                  <a:pt x="317" y="136"/>
                </a:cubicBezTo>
                <a:cubicBezTo>
                  <a:pt x="324" y="106"/>
                  <a:pt x="324" y="68"/>
                  <a:pt x="317" y="45"/>
                </a:cubicBezTo>
                <a:cubicBezTo>
                  <a:pt x="310" y="22"/>
                  <a:pt x="291" y="11"/>
                  <a:pt x="27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7880" y="5013360"/>
            <a:ext cx="384480" cy="503280"/>
          </a:xfrm>
          <a:custGeom>
            <a:avLst/>
            <a:gdLst/>
            <a:ahLst/>
            <a:rect l="l" t="t" r="r" b="b"/>
            <a:pathLst>
              <a:path w="242" h="317">
                <a:moveTo>
                  <a:pt x="61" y="317"/>
                </a:moveTo>
                <a:cubicBezTo>
                  <a:pt x="42" y="287"/>
                  <a:pt x="23" y="257"/>
                  <a:pt x="15" y="227"/>
                </a:cubicBezTo>
                <a:cubicBezTo>
                  <a:pt x="7" y="197"/>
                  <a:pt x="0" y="166"/>
                  <a:pt x="15" y="136"/>
                </a:cubicBezTo>
                <a:cubicBezTo>
                  <a:pt x="30" y="106"/>
                  <a:pt x="68" y="68"/>
                  <a:pt x="106" y="45"/>
                </a:cubicBezTo>
                <a:cubicBezTo>
                  <a:pt x="144" y="22"/>
                  <a:pt x="193" y="11"/>
                  <a:pt x="24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85280" y="3594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85240" y="51004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0920" y="4220640"/>
            <a:ext cx="7308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4221000"/>
            <a:ext cx="71892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67280" y="5734080"/>
            <a:ext cx="217440" cy="719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5661000"/>
            <a:ext cx="28872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5000" y="3933720"/>
            <a:ext cx="102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eec85e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78680" y="5445000"/>
            <a:ext cx="99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eec85e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07760" y="6180120"/>
            <a:ext cx="102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558800">
            <a:off x="-295560" y="3698640"/>
            <a:ext cx="99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35280" y="3084480"/>
            <a:ext cx="5895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mponentes Perpendiculares a P: 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r>
              <a:rPr b="0" lang="es-CL" sz="1800" spc="-1" strike="noStrike">
                <a:solidFill>
                  <a:srgbClr val="eaeaea"/>
                </a:solidFill>
                <a:latin typeface="Verdana"/>
              </a:rPr>
              <a:t> y 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umando y restando las componentes normales y de cizalle para el plano P tene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 = ( σ1 · cos α · S · cos α +σ2 · sen α · S · sen α) / 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τ = (σ1 · sen α · S · cos α - σ2 · cos α · S · sen α) / 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implifican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 = 1/2 (σ1 + σ2) + 1/2 (σ1 - σ2)· cos 2 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τ = 1/2 (σ1 - σ2) · sen 2 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7040" y="1600200"/>
            <a:ext cx="8089920" cy="453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Ojo con los ángul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: Angulo entr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y el plano P (men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ángulo entr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y plano P (may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El ángulo θ se mide desde σ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hacia el plano en cuestión, y el α desde σ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hacia la normal al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plano. Sólo uno de ellos es necesario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Fuerza: Defini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 define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fuerza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una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gnitud vectori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que tiende a producir un cambio en el movimiento de un cuerpo o en su estructura interna (producir una deformació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uerzas del cuerpo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stán en relación directa con la masa del cuerpo al cual se aplican, aunque su origen puede ser debido a causas extern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uerzas de superficie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penden siempre de causas externas al cuerpo y no guardan ninguna relación con la masa del mis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Ojo con los ángul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: se traza desde la intersección de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32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el eje 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e traza desde la intersección de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3200" spc="-1" strike="noStrike" baseline="-25000">
                <a:solidFill>
                  <a:srgbClr val="eaeaea"/>
                </a:solidFill>
                <a:latin typeface="Verdana"/>
              </a:rPr>
              <a:t>2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el eje 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9280" y="4941720"/>
            <a:ext cx="2663640" cy="1297080"/>
            <a:chOff x="179280" y="4941720"/>
            <a:chExt cx="2663640" cy="1297080"/>
          </a:xfrm>
        </p:grpSpPr>
        <p:sp>
          <p:nvSpPr>
            <p:cNvPr id="219" name=""/>
            <p:cNvSpPr/>
            <p:nvPr/>
          </p:nvSpPr>
          <p:spPr>
            <a:xfrm flipV="1">
              <a:off x="179280" y="5157360"/>
              <a:ext cx="266364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280" y="6238800"/>
              <a:ext cx="2663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42920" y="5157360"/>
              <a:ext cx="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84000" y="544644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908000" y="494172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4000" y="4941720"/>
              <a:ext cx="1224000" cy="50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58920" y="5084640"/>
            <a:ext cx="0" cy="72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9160" y="4869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400" y="6237360"/>
            <a:ext cx="26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positivo y se mide 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n sentido hor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28000" y="4940280"/>
            <a:ext cx="2663640" cy="1297080"/>
            <a:chOff x="6228000" y="4940280"/>
            <a:chExt cx="2663640" cy="1297080"/>
          </a:xfrm>
        </p:grpSpPr>
        <p:sp>
          <p:nvSpPr>
            <p:cNvPr id="229" name=""/>
            <p:cNvSpPr/>
            <p:nvPr/>
          </p:nvSpPr>
          <p:spPr>
            <a:xfrm flipH="1" flipV="1">
              <a:off x="6228000" y="5155920"/>
              <a:ext cx="266364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28000" y="6237360"/>
              <a:ext cx="2663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228000" y="5155920"/>
              <a:ext cx="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70920" y="544500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946920" y="494028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162920" y="4940280"/>
              <a:ext cx="1224000" cy="50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810560" y="4869000"/>
            <a:ext cx="0" cy="93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778160" y="47973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70480" y="62434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negativo y se mide 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n sentido antihor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39640" y="5084640"/>
            <a:ext cx="4320000" cy="1513080"/>
            <a:chOff x="2339640" y="5084640"/>
            <a:chExt cx="4320000" cy="1513080"/>
          </a:xfrm>
        </p:grpSpPr>
        <p:sp>
          <p:nvSpPr>
            <p:cNvPr id="239" name=""/>
            <p:cNvSpPr/>
            <p:nvPr/>
          </p:nvSpPr>
          <p:spPr>
            <a:xfrm>
              <a:off x="3059280" y="5877000"/>
              <a:ext cx="3025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48000" y="5084640"/>
              <a:ext cx="0" cy="1513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8360" y="5229360"/>
              <a:ext cx="1295280" cy="12952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5445000"/>
              <a:ext cx="503280" cy="432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24360" y="5876640"/>
              <a:ext cx="503280" cy="431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39640" y="5734080"/>
              <a:ext cx="15843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7280" y="6021360"/>
              <a:ext cx="25923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81240" y="1600200"/>
          <a:ext cx="6580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600200"/>
                    <a:ext cx="6580080" cy="45306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Reglas para construir un círculo de Moh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(stress normal) va en el eje X y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(stress de Cizalle)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en el eje 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i los valores máximos y mínimos de 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son conocidos =&gt; se plotean directamente en el eje X y se traza un circulo que pase por (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+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)/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i el estado de stress de 2 planos es conocido (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y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), esos 2 puntos deben caer en el perímetro del círculo de mohr. Uniéndolos se encuentra el centro y con el radio se traza el circul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terminar el circulo de mohr a partir de 2 plan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4437000"/>
            <a:ext cx="66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3213000"/>
            <a:ext cx="0" cy="2521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3573360"/>
            <a:ext cx="71280" cy="71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95640" y="5229360"/>
            <a:ext cx="71640" cy="71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3284640"/>
            <a:ext cx="2376720" cy="2376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3573360"/>
            <a:ext cx="1800000" cy="165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Reglas para construir un círculo de Moh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stress principal máximo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bisecta el ángulo agudo formado por los planos de cizalle conjugados. En el caso d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3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bisecta el ángulo obtuso formado por los planos de cizalle conjuga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i 2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es medido en el círculo de Mohr, recordar que en realidad qu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es el ángulo del plano de fractura con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2195640"/>
          <a:ext cx="822960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5640"/>
                    <a:ext cx="8229600" cy="334008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riterio de Navier Coulom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riterio de ruptura FRAG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Basado en la teoría de Fric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Co +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ta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μ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tan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C +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riterio de Navier Coulom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4797360"/>
            <a:ext cx="6048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852640"/>
            <a:ext cx="0" cy="30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3716280"/>
            <a:ext cx="2160360" cy="21607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556000" y="3068640"/>
            <a:ext cx="388764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4292640"/>
            <a:ext cx="336600" cy="504720"/>
          </a:xfrm>
          <a:custGeom>
            <a:avLst/>
            <a:gdLst/>
            <a:ahLst/>
            <a:rect l="l" t="t" r="r" b="b"/>
            <a:pathLst>
              <a:path w="212" h="318">
                <a:moveTo>
                  <a:pt x="30" y="318"/>
                </a:moveTo>
                <a:cubicBezTo>
                  <a:pt x="15" y="276"/>
                  <a:pt x="0" y="235"/>
                  <a:pt x="30" y="182"/>
                </a:cubicBezTo>
                <a:cubicBezTo>
                  <a:pt x="60" y="129"/>
                  <a:pt x="174" y="30"/>
                  <a:pt x="21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3789360"/>
            <a:ext cx="358560" cy="1008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4514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8640" y="400536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8480" y="29401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mpres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53600" y="29401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Tens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1.- Ensayes de laboratorio permitieron determinar la envolvente de ruptura en compresión de un granito como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τ = 20+ σ tanφ φ = 30°.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i la región se encuentra en un estado de stress tal que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= 115 MPa, vertical y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= 15 MPa, con dirección EW/horizontal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a) Cuál sería la resistencia a la tracción esperada para esta roca?. Justifique brevement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2124000" y="5443560"/>
            <a:ext cx="3600360" cy="1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4365720"/>
            <a:ext cx="0" cy="172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43040" y="3951360"/>
            <a:ext cx="1682640" cy="97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4869000"/>
            <a:ext cx="407880" cy="576000"/>
          </a:xfrm>
          <a:custGeom>
            <a:avLst/>
            <a:gdLst/>
            <a:ahLst/>
            <a:rect l="l" t="t" r="r" b="b"/>
            <a:pathLst>
              <a:path w="212" h="318">
                <a:moveTo>
                  <a:pt x="30" y="318"/>
                </a:moveTo>
                <a:cubicBezTo>
                  <a:pt x="15" y="276"/>
                  <a:pt x="0" y="235"/>
                  <a:pt x="30" y="182"/>
                </a:cubicBezTo>
                <a:cubicBezTo>
                  <a:pt x="60" y="129"/>
                  <a:pt x="174" y="30"/>
                  <a:pt x="21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4941720"/>
            <a:ext cx="1655640" cy="0"/>
          </a:xfrm>
          <a:prstGeom prst="line">
            <a:avLst/>
          </a:prstGeom>
          <a:ln w="9360">
            <a:solidFill>
              <a:srgbClr val="eaeae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6920" y="45957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30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0040" y="4595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0040" y="5460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437000"/>
            <a:ext cx="288720" cy="504720"/>
          </a:xfrm>
          <a:custGeom>
            <a:avLst/>
            <a:gdLst/>
            <a:ahLst/>
            <a:rect l="l" t="t" r="r" b="b"/>
            <a:pathLst>
              <a:path w="182" h="318">
                <a:moveTo>
                  <a:pt x="0" y="0"/>
                </a:moveTo>
                <a:cubicBezTo>
                  <a:pt x="53" y="19"/>
                  <a:pt x="106" y="38"/>
                  <a:pt x="136" y="91"/>
                </a:cubicBezTo>
                <a:cubicBezTo>
                  <a:pt x="166" y="144"/>
                  <a:pt x="174" y="280"/>
                  <a:pt x="182" y="318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2360" y="4005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7080" y="55166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¿Por qué se produce una fractua hidraulica?¿Como se manifiesta en el circulo de Moh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Aumento en la presión de poro, reduciendo el stress norm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circulo se desplaza hacia la izquierda hasta que corta la envolvente de fr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30360" y="538200"/>
            <a:ext cx="6083280" cy="548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1.- Ensayes de laboratorio permitieron determinar la envolvente de ruptura en compresión de un granito como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τ = 20+ σ tanφ φ = 30°.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i la región se encuentra en un estado de stress tal que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= 115 MPa, vertical y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= 15 MPa, con dirección EW/horizontal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b) Si el estado de stress es σ1= 64 MPa y σ3 = 16 MPa. Cuál tiene que ser la presión de fluidos para causar fractura. De qué tipo sería esta fractur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4221000"/>
            <a:ext cx="7993080" cy="237672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59500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58136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2.- En la mina El Teniente se encontró un plano de falla de rumbo N45°E y manteo 65° SE. El stress horizontal debido al método de extracción es de 110 Mpa, con dirección N45ºW. El stress vertical es de 8,5 MPa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a) Determine el estado de stress en el plano de fall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b) Si sólo actúan los estreses mencionados, ¿Cuál sería el movimiento de la falla?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3.- Dados stresses principales de 63 MPa y 94 Mp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¿Cuál es el estado de stress en una discontinuidad cuya normal está orientada a 53º de σ1?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sfuerzo (Stres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El </a:t>
            </a:r>
            <a:r>
              <a:rPr b="1" lang="es-CL" sz="3200" spc="-1" strike="noStrike">
                <a:solidFill>
                  <a:srgbClr val="eaeaea"/>
                </a:solidFill>
                <a:latin typeface="Verdana"/>
              </a:rPr>
              <a:t>esfuerzo </a:t>
            </a: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(«</a:t>
            </a:r>
            <a:r>
              <a:rPr b="0" i="1" lang="es-CL" sz="3200" spc="-1" strike="noStrike">
                <a:solidFill>
                  <a:srgbClr val="eaeaea"/>
                </a:solidFill>
                <a:latin typeface="Verdana"/>
              </a:rPr>
              <a:t>stress</a:t>
            </a: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») se define como la fuerza por unidad de superficie que soporta o se aplica sobre un plano cualquiera de un cuer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ra una misma fuerza aplicada en superficies distintas podemos tener distintos result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2000" y="277920"/>
            <a:ext cx="4138560" cy="58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229600" cy="35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omponentes del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fuerzo Normal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σ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fuerzo de Cizalle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64280" y="2362320"/>
            <a:ext cx="3351240" cy="358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ensor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5380200" cy="504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ensor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7240" y="2789280"/>
            <a:ext cx="7929720" cy="2500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3:59:48Z</dcterms:created>
  <dc:creator>andres</dc:creator>
  <dc:description/>
  <dc:language>en-US</dc:language>
  <cp:lastModifiedBy>andres</cp:lastModifiedBy>
  <dcterms:modified xsi:type="dcterms:W3CDTF">2004-09-05T18:23:35Z</dcterms:modified>
  <cp:revision>28</cp:revision>
  <dc:subject/>
  <dc:title>Stress</dc:title>
</cp:coreProperties>
</file>