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6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7B2-59E4-4FCE-BC8E-C50DE2B2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FDB-9079-4B2D-9ED7-D1B64EA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B94-DB37-4C7D-A678-2B44BB01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C15-34FE-4803-9B8D-D88B5D36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650F-B2F4-4BFE-8BF4-A7756E51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76D6-1F71-4F1B-9973-AA7E5DA1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1F01E-6EF7-4331-9437-C92D063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50C64-2AA0-47E2-87E9-54E953E0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C730C-6BB1-4BB5-9290-8903495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BC819-6E7D-417C-BCB7-5491766B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E12C-774A-45F7-9377-8B06244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79E-62D2-42FD-AD26-44E9F72F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045AE-413B-42B3-97DE-EAA4C14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CC323-6EE1-41F7-82B9-CB8F459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11C0-E402-4B98-922F-4E48ED7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1C50F-008A-4439-9814-4D034325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E697-CA9C-4CF9-A6EA-EC5988D8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1AA-94DE-4CEC-AEAA-7748B038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714-57FE-40A8-87A4-DAFA0F8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E23-E051-4B42-8ED0-8A7A0776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0FD-FFBA-4113-88DC-8C07AE0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0F2-3D6B-44AB-A28F-24AE41A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123-C740-4072-9F37-48CF4CB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3C5-6476-4290-A6EF-D4D3EA4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ABA-155A-40C4-8471-25108BE803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169D-FE3D-4117-A2C6-D3BBA473D7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" TargetMode="External"/><Relationship Id="rId2" Type="http://schemas.openxmlformats.org/officeDocument/2006/relationships/hyperlink" Target="mailto:granito@esfera.cl" TargetMode="External"/><Relationship Id="rId3" Type="http://schemas.openxmlformats.org/officeDocument/2006/relationships/hyperlink" Target="mailto:cogarcio@ing.uchile.c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Siempre vemos el manteo re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teo Apa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4064040"/>
            <a:ext cx="3149640" cy="217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618160" y="1557360"/>
            <a:ext cx="2193840" cy="217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bujar objetos 3D a un pl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tintas proyecciones dan resultados disti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urante este proceso se pierde inform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quidi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lar Estereográ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mbert de Azimut y área con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3816360" cy="2130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48120" y="2319480"/>
            <a:ext cx="3678480" cy="1971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10160" y="4365720"/>
            <a:ext cx="4533840" cy="2171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211640" y="3052800"/>
            <a:ext cx="50292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ie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scontinuidades en las que un bloque se ha deslizado con respecto a o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iaclas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470040" cy="4895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allas se diferencian, dependiendo de la orientación del desplazamiento relativo de un bloque con respecto a otro, en tres categorí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mant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ru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obli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fallas, en términos del movimiento relativo, pueden s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verti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0" y="1700280"/>
            <a:ext cx="4321080" cy="1857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321080" cy="1949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27640" y="1739880"/>
            <a:ext cx="46814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 Auxil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drés Fock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800" spc="-1" strike="noStrike" u="sng">
                <a:solidFill>
                  <a:srgbClr val="477781"/>
                </a:solidFill>
                <a:uFillTx/>
                <a:latin typeface="Arial"/>
                <a:hlinkClick r:id="rId1"/>
              </a:rPr>
              <a:t>afock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 Ayud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guel Orti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800" spc="-1" strike="noStrike" u="sng">
                <a:solidFill>
                  <a:srgbClr val="477781"/>
                </a:solidFill>
                <a:uFillTx/>
                <a:latin typeface="Arial"/>
                <a:hlinkClick r:id="rId2"/>
              </a:rPr>
              <a:t>granito@esfera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elipe García-Huidobro  </a:t>
            </a:r>
            <a:r>
              <a:rPr b="0" lang="es-ES_tradnl" sz="2800" spc="-1" strike="noStrike" u="sng">
                <a:solidFill>
                  <a:srgbClr val="477781"/>
                </a:solidFill>
                <a:uFillTx/>
                <a:latin typeface="Arial"/>
                <a:hlinkClick r:id="rId3"/>
              </a:rPr>
              <a:t>cogarcio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99440" y="8571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752720" cy="2748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706360" y="857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140360" y="285264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15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0ca"/>
                </a:solidFill>
                <a:latin typeface="Arial"/>
              </a:rPr>
              <a:t>Partes geométricas de un pliegue</a:t>
            </a:r>
            <a:br>
              <a:rPr sz="4000"/>
            </a:b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os descriptivos re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ncos o limb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las zonas menos curvadas conectadas por la zona de mayor curvat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ne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de mayor curvatura (menor diámetro de curvatur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s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topográficamente más elevada de un pliegu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2655720"/>
            <a:ext cx="40384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07080" y="639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ti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8360" y="50324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n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Homoclinal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18399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95640" y="1852560"/>
            <a:ext cx="43927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o de 3D a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osenmann, R., Geometría Descriptiva (para estudiantes de Geologí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0400" y="1773360"/>
            <a:ext cx="4041720" cy="3082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scribir la orientación de un plano geológico matemáticamente se necesitan dos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mbo (Strike) o Dirección de Inclinación (Dip Dir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teo (D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umb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ínea que resulta por la intersección del plano geológico con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yor ángulo  formado por el plano horizontal y el plano geológ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5080" y="2532240"/>
            <a:ext cx="4041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Reg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icio clases 16:15 h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medio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≥ 4.0 para aprobar el cur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Asistencia OBLIG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valu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4 t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2 infor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4 Ejerc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tareas se entregan la semana siguiente de cuando fueron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d0ca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218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222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229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232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235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238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241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242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245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248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251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254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262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 tiene su proyección vertical (PV) sobre LT y la proyección horizontal (PH)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 tiene sus 2 proyecciones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I tiene su PV bajo LT y su PH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V tiene sus 2 proyecciones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uno de los planos de proyeccion tiene una de sus proyecciones (ya sea PV o PH) en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primer bisector tien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odo punto ubicado en el segundo bisector tiene sus 2 proyecciones confun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523880"/>
            <a:ext cx="784872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rotar la Línea de Tierra sólo se acepta giros del plano vertical o del plano horizontal. No se pueden girar simultáne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iro del plano ver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T =&gt; L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’, a =&gt; a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’, a (las proyecciones horizontales no camb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iro del plano horizon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T =&gt; L’T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’, a =&gt; a’, a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(las proyecciones verticales no camb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85800" y="1600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133720"/>
            <a:ext cx="388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282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85800" y="2666880"/>
            <a:ext cx="3886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pase por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943600" y="3123720"/>
            <a:ext cx="83808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505320"/>
            <a:ext cx="3886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una distancia h de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tá ubicado a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638680" y="2666880"/>
            <a:ext cx="838440" cy="978120"/>
            <a:chOff x="5638680" y="2666880"/>
            <a:chExt cx="838440" cy="978120"/>
          </a:xfrm>
        </p:grpSpPr>
        <p:sp>
          <p:nvSpPr>
            <p:cNvPr id="291" name=""/>
            <p:cNvSpPr/>
            <p:nvPr/>
          </p:nvSpPr>
          <p:spPr>
            <a:xfrm>
              <a:off x="5867280" y="3048120"/>
              <a:ext cx="15264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2666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5800" y="1600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2133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562720" y="2057400"/>
            <a:ext cx="3047760" cy="2959200"/>
            <a:chOff x="5562720" y="2057400"/>
            <a:chExt cx="3047760" cy="2959200"/>
          </a:xfrm>
        </p:grpSpPr>
        <p:sp>
          <p:nvSpPr>
            <p:cNvPr id="305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62720" y="4648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328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85800" y="2666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perpendicular a L’T’, que pase por a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505320"/>
            <a:ext cx="3886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una distancia d de L’T’ está ubicado a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2743200"/>
            <a:ext cx="91440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467480" y="3276720"/>
            <a:ext cx="685800" cy="862920"/>
            <a:chOff x="7467480" y="3276720"/>
            <a:chExt cx="685800" cy="862920"/>
          </a:xfrm>
        </p:grpSpPr>
        <p:sp>
          <p:nvSpPr>
            <p:cNvPr id="314" name=""/>
            <p:cNvSpPr/>
            <p:nvPr/>
          </p:nvSpPr>
          <p:spPr>
            <a:xfrm>
              <a:off x="7620120" y="3733920"/>
              <a:ext cx="15228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96080" y="3733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339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34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35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365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55640" y="333360"/>
          <a:ext cx="7129440" cy="5469120"/>
        </p:xfrm>
        <a:graphic>
          <a:graphicData uri="http://schemas.openxmlformats.org/drawingml/2006/table">
            <a:tbl>
              <a:tblPr/>
              <a:tblGrid>
                <a:gridCol w="1962000"/>
                <a:gridCol w="516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-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yecciones y mapas, rumbo, manteo. Nociones básicas estereometrí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-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reometría. Ejercicio 1.Tarea 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-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es estereográficas. Ejercicio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-S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írculos de Mohr.  Stress. Tarea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-S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es estereográficas-Steronet. Tarea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-S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ctura. Ejercicio 3. Indicadores cinemáticos, fo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os Análogos (primeros grup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9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os Análogos (segundos grup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mana Olím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 Alfalf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in (Lectura y Ejercicio 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-N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rega Informe Alfalfal. Problemas de geología estructural. Tare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-N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 Isla Negra. Entrega Informe modelos análog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N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ágenes satelitales, fotografías aére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es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s: Perpendiculares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383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387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391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395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406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423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438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1364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452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8616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466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491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50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504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515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521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529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724360" y="1989000"/>
            <a:ext cx="2376720" cy="19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3564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219640" y="1773000"/>
            <a:ext cx="2376720" cy="216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724360" y="3933360"/>
            <a:ext cx="2519640" cy="646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17080" y="3357720"/>
            <a:ext cx="0" cy="576000"/>
          </a:xfrm>
          <a:prstGeom prst="line">
            <a:avLst/>
          </a:prstGeom>
          <a:ln cap="rnd" w="9360">
            <a:solidFill>
              <a:srgbClr val="404b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307360" y="342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b3d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363640" y="3357720"/>
            <a:ext cx="2953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3357720"/>
            <a:ext cx="0" cy="1223640"/>
          </a:xfrm>
          <a:prstGeom prst="line">
            <a:avLst/>
          </a:prstGeom>
          <a:ln cap="rnd" w="9360">
            <a:solidFill>
              <a:srgbClr val="404b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380360" y="3357720"/>
            <a:ext cx="0" cy="1295280"/>
          </a:xfrm>
          <a:prstGeom prst="line">
            <a:avLst/>
          </a:prstGeom>
          <a:ln cap="rnd" w="9360">
            <a:solidFill>
              <a:srgbClr val="404b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4508640"/>
            <a:ext cx="2881440" cy="215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57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451400" cy="49672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693400" y="15001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3 pu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1560" y="19098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a recta y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82160" y="234936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erificar si un punto pertene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 un 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acterización de Pla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gla de las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paso conceptos bá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f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lelo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838760" y="1731960"/>
            <a:ext cx="365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 planos que se cortan en el depu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102200" y="2923920"/>
            <a:ext cx="3759120" cy="125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086520" y="4176720"/>
            <a:ext cx="1671480" cy="1881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343320"/>
            <a:ext cx="4282920" cy="833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435640" y="3759120"/>
            <a:ext cx="1590120" cy="1254240"/>
            <a:chOff x="5435640" y="3759120"/>
            <a:chExt cx="1590120" cy="1254240"/>
          </a:xfrm>
        </p:grpSpPr>
        <p:sp>
          <p:nvSpPr>
            <p:cNvPr id="602" name=""/>
            <p:cNvSpPr/>
            <p:nvPr/>
          </p:nvSpPr>
          <p:spPr>
            <a:xfrm>
              <a:off x="5435640" y="3759120"/>
              <a:ext cx="0" cy="4176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025760" y="4176720"/>
              <a:ext cx="0" cy="8366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365800" y="3645000"/>
            <a:ext cx="20808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6400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932520" y="49006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3759120"/>
            <a:ext cx="1566720" cy="417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35640" y="4176720"/>
            <a:ext cx="1566720" cy="836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935120" y="2651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82400" y="30114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69000" y="589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94520" y="3284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436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horizo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75080" y="3343320"/>
            <a:ext cx="4984560" cy="14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020000" y="328428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32520" y="321300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86440" y="45910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48360" y="3357720"/>
            <a:ext cx="1871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076720" y="4149720"/>
            <a:ext cx="192564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7020000" y="4149720"/>
            <a:ext cx="0" cy="208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de fu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5280" y="2708280"/>
            <a:ext cx="3384720" cy="144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020000" y="4149360"/>
            <a:ext cx="0" cy="93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32520" y="4013280"/>
            <a:ext cx="20664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77080" y="4951440"/>
            <a:ext cx="20628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8360" y="3357720"/>
            <a:ext cx="1871640" cy="79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76720" y="4149720"/>
            <a:ext cx="19432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20383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planos que se cortan fuera del depu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779320" y="352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05120" y="340344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135520" y="3051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1640" y="1699920"/>
            <a:ext cx="1476360" cy="170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311640" y="3403440"/>
            <a:ext cx="1836720" cy="309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156360" y="3403080"/>
            <a:ext cx="1582560" cy="3094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5640" y="1413000"/>
            <a:ext cx="2303280" cy="1990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292720" y="2565360"/>
            <a:ext cx="14292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91280" y="3357720"/>
            <a:ext cx="144360" cy="1584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07640" y="126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5680" y="6130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98560" y="1197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94600" y="613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771640" y="2060640"/>
            <a:ext cx="5616720" cy="2881080"/>
            <a:chOff x="2771640" y="2060640"/>
            <a:chExt cx="5616720" cy="2881080"/>
          </a:xfrm>
        </p:grpSpPr>
        <p:sp>
          <p:nvSpPr>
            <p:cNvPr id="673" name=""/>
            <p:cNvSpPr/>
            <p:nvPr/>
          </p:nvSpPr>
          <p:spPr>
            <a:xfrm>
              <a:off x="2771640" y="2060640"/>
              <a:ext cx="55454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4941720"/>
              <a:ext cx="55450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500720" y="2060640"/>
            <a:ext cx="1726920" cy="2881080"/>
            <a:chOff x="4500720" y="2060640"/>
            <a:chExt cx="1726920" cy="2881080"/>
          </a:xfrm>
        </p:grpSpPr>
        <p:sp>
          <p:nvSpPr>
            <p:cNvPr id="676" name=""/>
            <p:cNvSpPr/>
            <p:nvPr/>
          </p:nvSpPr>
          <p:spPr>
            <a:xfrm>
              <a:off x="4500720" y="2060640"/>
              <a:ext cx="0" cy="12970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716360" y="3357720"/>
              <a:ext cx="0" cy="1584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27640" y="2060640"/>
              <a:ext cx="0" cy="12970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156360" y="3357720"/>
              <a:ext cx="0" cy="1584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356000" y="1916280"/>
            <a:ext cx="2016360" cy="3130560"/>
            <a:chOff x="4356000" y="1916280"/>
            <a:chExt cx="2016360" cy="3130560"/>
          </a:xfrm>
        </p:grpSpPr>
        <p:sp>
          <p:nvSpPr>
            <p:cNvPr id="681" name=""/>
            <p:cNvSpPr/>
            <p:nvPr/>
          </p:nvSpPr>
          <p:spPr>
            <a:xfrm>
              <a:off x="4356000" y="1916280"/>
              <a:ext cx="25236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94160" y="3321000"/>
              <a:ext cx="24912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21440" y="3267000"/>
              <a:ext cx="25092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2000" y="4797360"/>
              <a:ext cx="250920" cy="2494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21440" y="1952640"/>
              <a:ext cx="25092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08360" y="3284640"/>
              <a:ext cx="250920" cy="24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12000" y="4797360"/>
              <a:ext cx="250560" cy="2494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12000" y="3284640"/>
              <a:ext cx="250560" cy="24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150080" y="1557360"/>
            <a:ext cx="2584080" cy="3392280"/>
            <a:chOff x="4150080" y="1557360"/>
            <a:chExt cx="2584080" cy="3392280"/>
          </a:xfrm>
        </p:grpSpPr>
        <p:sp>
          <p:nvSpPr>
            <p:cNvPr id="690" name=""/>
            <p:cNvSpPr/>
            <p:nvPr/>
          </p:nvSpPr>
          <p:spPr>
            <a:xfrm>
              <a:off x="4150080" y="15573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00720" y="17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4000" y="3068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96040" y="2997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19600" y="34225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3640" y="342252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84000" y="458136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9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84720" y="1628640"/>
            <a:ext cx="2052720" cy="4896000"/>
            <a:chOff x="4284720" y="1628640"/>
            <a:chExt cx="2052720" cy="4896000"/>
          </a:xfrm>
        </p:grpSpPr>
        <p:sp>
          <p:nvSpPr>
            <p:cNvPr id="699" name=""/>
            <p:cNvSpPr/>
            <p:nvPr/>
          </p:nvSpPr>
          <p:spPr>
            <a:xfrm flipV="1">
              <a:off x="4500720" y="1699920"/>
              <a:ext cx="1477800" cy="17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00720" y="3430440"/>
              <a:ext cx="1836720" cy="30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573440" y="3428640"/>
              <a:ext cx="1582920" cy="30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84720" y="1628640"/>
              <a:ext cx="2016000" cy="172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5292720" y="2492280"/>
            <a:ext cx="0" cy="865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35640" y="3429000"/>
            <a:ext cx="0" cy="1512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0400" y="1773360"/>
            <a:ext cx="4041720" cy="3081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scribir la orientación de un plano geológico matemáticamente se necesitan dos (o tres)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mbo (Stri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teo (D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rección de Inclinación (Dip Dir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ínea que resulta por la intersección del plano geológico por un plano horizontal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5080" y="2532240"/>
            <a:ext cx="404172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ke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Horizo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375240" y="1628640"/>
            <a:ext cx="1336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andres</cp:lastModifiedBy>
  <dcterms:modified xsi:type="dcterms:W3CDTF">2004-08-13T21:25:09Z</dcterms:modified>
  <cp:revision>17</cp:revision>
  <dc:subject/>
  <dc:title>Diapositiva 1</dc:title>
</cp:coreProperties>
</file>