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34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png" ContentType="image/png"/>
  <Override PartName="/ppt/media/image5.png" ContentType="image/png"/>
  <Override PartName="/ppt/media/image29.jpeg" ContentType="image/jpe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36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0657-9104-43D1-B874-B22B2605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A1C7-1237-411D-9519-68423DF2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C24B-A4F8-4F09-9312-C267EC44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311F-B882-43F3-A18F-0DCA6838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6ECEE2-9D97-4437-88C0-B4C9E6058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D3B74-B17F-4BCA-91DD-8539EB89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AE8A9-1591-434F-B892-9623C5B9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DFECD-D69E-4291-B877-57721317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F5911-E80A-4DC3-B206-61A03EBE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ACE72-2D49-4A4E-A6FE-5F0A7978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DE6BC0-0F34-4786-AA3D-BDB4DE1E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D5F6-6360-45F9-81D9-F91FA5EF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CB937-6C85-4F21-AF09-D41ACA2C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4AC236-E951-40FC-B7D2-833D082E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E026F-E3F1-4D25-B1DA-BD800C1A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E218B-C82E-4B11-BAC5-48F9F29C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DDD83-B572-435B-BD0C-BCC5E94F2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EF5E-A3ED-4369-9A2D-877B158D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631D-83DB-4BC0-B5F4-B3804182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A4E3-CA62-4B8E-B58E-45396DA9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3EBF-7EA8-4529-B802-1EF8BADA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FC76-FA8E-45D8-8C40-C37526B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DC0D-CD8F-452D-B37B-F452A0B9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685-7C49-47B0-BEC3-13D7A2D2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949B-3199-4D51-9F4F-0D1F801298D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a7a491"/>
                </a:gs>
                <a:gs pos="100000">
                  <a:srgbClr val="004e4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c4b42"/>
                </a:gs>
                <a:gs pos="100000">
                  <a:srgbClr val="a7a49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477781"/>
              </a:gs>
              <a:gs pos="100000">
                <a:srgbClr val="a7a49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f867d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04b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e766b"/>
                </a:gs>
                <a:gs pos="100000">
                  <a:srgbClr val="404b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04b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629AC-7BF8-418D-9A99-5D16426A475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" TargetMode="External"/><Relationship Id="rId2" Type="http://schemas.openxmlformats.org/officeDocument/2006/relationships/hyperlink" Target="mailto:granito@esfera.cl" TargetMode="External"/><Relationship Id="rId3" Type="http://schemas.openxmlformats.org/officeDocument/2006/relationships/hyperlink" Target="mailto:cogarcio@ing.uchile.cl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d0ca"/>
                </a:solidFill>
                <a:latin typeface="Arial"/>
              </a:rPr>
              <a:t>Geología Estructural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GL41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Siempre vemos el manteo real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teo Apar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R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58920" y="4064040"/>
            <a:ext cx="3149640" cy="2173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618160" y="1557360"/>
            <a:ext cx="2193840" cy="21733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Proy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bujar objetos 3D a un pla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tintas proyecciones dan resultados distin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urante este proceso se pierde inform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jemplo: La tier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rc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quidis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olar Estereográf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mbert de Azimut y área cons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59280" y="189000"/>
            <a:ext cx="3816360" cy="21304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48120" y="2319480"/>
            <a:ext cx="3678480" cy="19713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610160" y="4365720"/>
            <a:ext cx="4533840" cy="21715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211640" y="3052800"/>
            <a:ext cx="502920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ractu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ieg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Defini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all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iscontinuidades en las que un bloque se ha deslizado con respecto a ot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ractu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on superficies a lo largo de las cuales una roca o mineral se ha roto. (Superficies a lo largo de las cuales el material ha perdido cohesión). Las fracturas se distinguen por el movimiento relativo que ha ocurrido a lo largo de ellas durante su formació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Diaclas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3470040" cy="4895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003640" y="1700280"/>
            <a:ext cx="309096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fallas se diferencian, dependiendo de la orientación del desplazamiento relativo de un bloque con respecto a otro, en tres categorías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as de desplazamiento en el mant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as de desplazamiento en el rum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las de desplazamiento oblicu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fallas, en términos del movimiento relativo, pueden se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norm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invers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vertic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allas de rumb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Tipos de Fall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4920" y="1700280"/>
            <a:ext cx="4321080" cy="1857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4321080" cy="1949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27640" y="1739880"/>
            <a:ext cx="46814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fesor Auxili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ndrés Fock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800" spc="-1" strike="noStrike" u="sng">
                <a:solidFill>
                  <a:srgbClr val="477781"/>
                </a:solidFill>
                <a:uFillTx/>
                <a:latin typeface="Arial"/>
                <a:hlinkClick r:id="rId1"/>
              </a:rPr>
              <a:t>afock@ing.uchile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ofesor Ayud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iguel Ortiz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800" spc="-1" strike="noStrike" u="sng">
                <a:solidFill>
                  <a:srgbClr val="477781"/>
                </a:solidFill>
                <a:uFillTx/>
                <a:latin typeface="Arial"/>
                <a:hlinkClick r:id="rId2"/>
              </a:rPr>
              <a:t>granito@esfera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elipe García-Huidobro  </a:t>
            </a:r>
            <a:r>
              <a:rPr b="0" lang="es-ES_tradnl" sz="2800" spc="-1" strike="noStrike" u="sng">
                <a:solidFill>
                  <a:srgbClr val="477781"/>
                </a:solidFill>
                <a:uFillTx/>
                <a:latin typeface="Arial"/>
                <a:hlinkClick r:id="rId3"/>
              </a:rPr>
              <a:t>cogarcio@ing.uchile.c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327640" cy="3537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5867280" y="3860640"/>
            <a:ext cx="3168720" cy="27910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499440" y="857160"/>
            <a:ext cx="182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las Norm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537080" cy="30193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752720" cy="2748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706360" y="85716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las Invers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174840" cy="424188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140360" y="2852640"/>
            <a:ext cx="4321080" cy="28828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151600" y="119700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Fallas 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d0ca"/>
                </a:solidFill>
                <a:latin typeface="Arial"/>
              </a:rPr>
              <a:t>Partes geométricas de un pliegue</a:t>
            </a:r>
            <a:br>
              <a:rPr sz="4000"/>
            </a:b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os descriptivos real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lancos o limbo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son las zonas menos curvadas conectadas por la zona de mayor curvatu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rnel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zona de mayor curvatura (menor diámetro de curvatura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st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zona topográficamente más elevada de un pliegu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648320" y="2655720"/>
            <a:ext cx="403848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067280" y="2997360"/>
            <a:ext cx="4876560" cy="32511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87280" y="287280"/>
            <a:ext cx="5076720" cy="30463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5707080" y="63972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Anticl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8360" y="5032440"/>
            <a:ext cx="10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Sincli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Homoclinal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468360" y="1839960"/>
            <a:ext cx="3311640" cy="3311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3995640" y="1852560"/>
            <a:ext cx="439272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d0ca"/>
                </a:solidFill>
                <a:latin typeface="Arial"/>
              </a:rPr>
              <a:t>Estereometría</a:t>
            </a:r>
            <a:endParaRPr b="0" lang="en-US" sz="5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o de 3D a 2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d0ca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Rosenmann, R., Geometría Descriptiva (para estudiantes de Geologí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640400" y="1773360"/>
            <a:ext cx="4041720" cy="308268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describir la orientación de un plano geológico matemáticamente se necesitan dos propie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umbo (Strike) o Dirección de Inclinación (Dip Dir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nteo (D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umb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ínea que resulta por la intersección del plano geológico con un plano horizont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ante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yor ángulo  formado por el plano horizontal y el plano geológi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645080" y="2532240"/>
            <a:ext cx="40417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Regla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icio clases 16:15 h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romedio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≥ 4.0 para aprobar el curs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Asistencia OBLIG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valu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4 tare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2 infor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4 Ejercic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Arial"/>
              </a:rPr>
              <a:t>Las tareas se entregan la semana siguiente de cuando fueron d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Geometrías Descrip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presentar en un solo plano objetos del espac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isten varios siste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Diédrico =&gt; 2 planos H y 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Acotado =&gt; Mapas de Co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Axonométrico =&gt; 3 pla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istema Cón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4846680" cy="469116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rcRect l="3795" t="0" r="0" b="0"/>
          <a:stretch/>
        </p:blipFill>
        <p:spPr>
          <a:xfrm>
            <a:off x="5292720" y="1413000"/>
            <a:ext cx="3651120" cy="4233600"/>
          </a:xfrm>
          <a:prstGeom prst="rect">
            <a:avLst/>
          </a:prstGeom>
          <a:ln w="38160">
            <a:solidFill>
              <a:srgbClr val="a7a491"/>
            </a:solidFill>
            <a:miter/>
          </a:ln>
        </p:spPr>
      </p:pic>
      <p:sp>
        <p:nvSpPr>
          <p:cNvPr id="214" name=""/>
          <p:cNvSpPr/>
          <p:nvPr/>
        </p:nvSpPr>
        <p:spPr>
          <a:xfrm>
            <a:off x="519120" y="5243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d0ca"/>
                </a:solidFill>
                <a:latin typeface="Arial"/>
              </a:rPr>
              <a:t>Estereometría: Geometría Diédrica</a:t>
            </a:r>
            <a:endParaRPr b="0" lang="en-US" sz="40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0240" y="5950080"/>
            <a:ext cx="62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lementos fundamentales: 2 planos de Proyección, 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1" lang="en-US" sz="1800" spc="-1" strike="noStrike">
                <a:solidFill>
                  <a:srgbClr val="33cc33"/>
                </a:solidFill>
                <a:latin typeface="Tahoma"/>
              </a:rPr>
              <a:t> 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700000" y="1413000"/>
            <a:ext cx="1584720" cy="2160000"/>
            <a:chOff x="2700000" y="1413000"/>
            <a:chExt cx="1584720" cy="2160000"/>
          </a:xfrm>
        </p:grpSpPr>
        <p:sp>
          <p:nvSpPr>
            <p:cNvPr id="218" name=""/>
            <p:cNvSpPr/>
            <p:nvPr/>
          </p:nvSpPr>
          <p:spPr>
            <a:xfrm flipH="1">
              <a:off x="2700000" y="1413000"/>
              <a:ext cx="358920" cy="14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3924360" y="3430080"/>
              <a:ext cx="360360" cy="142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80280" y="6324480"/>
            <a:ext cx="47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cta de intersección: Línea de Tierra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L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US" sz="18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332000" y="2708280"/>
            <a:ext cx="1944360" cy="1657440"/>
            <a:chOff x="1332000" y="2708280"/>
            <a:chExt cx="1944360" cy="1657440"/>
          </a:xfrm>
        </p:grpSpPr>
        <p:sp>
          <p:nvSpPr>
            <p:cNvPr id="222" name=""/>
            <p:cNvSpPr/>
            <p:nvPr/>
          </p:nvSpPr>
          <p:spPr>
            <a:xfrm flipV="1">
              <a:off x="1332000" y="4149720"/>
              <a:ext cx="431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2916000" y="2708280"/>
              <a:ext cx="360360" cy="2890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397560" y="566100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pu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292720" y="1427040"/>
            <a:ext cx="3794040" cy="4233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79280" y="1330200"/>
            <a:ext cx="4846680" cy="469116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3276720" y="2292480"/>
            <a:ext cx="574560" cy="415800"/>
            <a:chOff x="3276720" y="2292480"/>
            <a:chExt cx="574560" cy="415800"/>
          </a:xfrm>
        </p:grpSpPr>
        <p:sp>
          <p:nvSpPr>
            <p:cNvPr id="229" name=""/>
            <p:cNvSpPr/>
            <p:nvPr/>
          </p:nvSpPr>
          <p:spPr>
            <a:xfrm>
              <a:off x="3276720" y="2565360"/>
              <a:ext cx="142920" cy="142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00560" y="2292480"/>
              <a:ext cx="45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270160" y="2276640"/>
            <a:ext cx="1456200" cy="1591920"/>
            <a:chOff x="2270160" y="2276640"/>
            <a:chExt cx="1456200" cy="1591920"/>
          </a:xfrm>
        </p:grpSpPr>
        <p:sp>
          <p:nvSpPr>
            <p:cNvPr id="232" name=""/>
            <p:cNvSpPr/>
            <p:nvPr/>
          </p:nvSpPr>
          <p:spPr>
            <a:xfrm>
              <a:off x="2484360" y="263700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4800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3274920" y="3500280"/>
              <a:ext cx="451440" cy="368280"/>
              <a:chOff x="3274920" y="3500280"/>
              <a:chExt cx="451440" cy="368280"/>
            </a:xfrm>
          </p:grpSpPr>
          <p:sp>
            <p:nvSpPr>
              <p:cNvPr id="235" name=""/>
              <p:cNvSpPr/>
              <p:nvPr/>
            </p:nvSpPr>
            <p:spPr>
              <a:xfrm>
                <a:off x="3274920" y="357336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417480" y="350028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2270160" y="2276640"/>
              <a:ext cx="348480" cy="431640"/>
              <a:chOff x="2270160" y="2276640"/>
              <a:chExt cx="348480" cy="431640"/>
            </a:xfrm>
          </p:grpSpPr>
          <p:sp>
            <p:nvSpPr>
              <p:cNvPr id="238" name=""/>
              <p:cNvSpPr/>
              <p:nvPr/>
            </p:nvSpPr>
            <p:spPr>
              <a:xfrm>
                <a:off x="2340000" y="256536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270160" y="227664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6878880" y="2205000"/>
            <a:ext cx="447840" cy="2455920"/>
            <a:chOff x="6878880" y="2205000"/>
            <a:chExt cx="447840" cy="2455920"/>
          </a:xfrm>
        </p:grpSpPr>
        <p:grpSp>
          <p:nvGrpSpPr>
            <p:cNvPr id="241" name=""/>
            <p:cNvGrpSpPr/>
            <p:nvPr/>
          </p:nvGrpSpPr>
          <p:grpSpPr>
            <a:xfrm>
              <a:off x="6878880" y="2205000"/>
              <a:ext cx="348480" cy="431640"/>
              <a:chOff x="6878880" y="2205000"/>
              <a:chExt cx="348480" cy="431640"/>
            </a:xfrm>
          </p:grpSpPr>
          <p:sp>
            <p:nvSpPr>
              <p:cNvPr id="242" name=""/>
              <p:cNvSpPr/>
              <p:nvPr/>
            </p:nvSpPr>
            <p:spPr>
              <a:xfrm>
                <a:off x="6948720" y="2493720"/>
                <a:ext cx="14436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878880" y="22050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’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6948360" y="4292640"/>
              <a:ext cx="378360" cy="368280"/>
              <a:chOff x="6948360" y="4292640"/>
              <a:chExt cx="378360" cy="368280"/>
            </a:xfrm>
          </p:grpSpPr>
          <p:sp>
            <p:nvSpPr>
              <p:cNvPr id="245" name=""/>
              <p:cNvSpPr/>
              <p:nvPr/>
            </p:nvSpPr>
            <p:spPr>
              <a:xfrm>
                <a:off x="6948360" y="4365720"/>
                <a:ext cx="144720" cy="1429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017840" y="4292640"/>
                <a:ext cx="30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"/>
          <p:cNvGrpSpPr/>
          <p:nvPr/>
        </p:nvGrpSpPr>
        <p:grpSpPr>
          <a:xfrm>
            <a:off x="2133720" y="2895480"/>
            <a:ext cx="921600" cy="825480"/>
            <a:chOff x="2133720" y="2895480"/>
            <a:chExt cx="921600" cy="825480"/>
          </a:xfrm>
        </p:grpSpPr>
        <p:sp>
          <p:nvSpPr>
            <p:cNvPr id="248" name=""/>
            <p:cNvSpPr/>
            <p:nvPr/>
          </p:nvSpPr>
          <p:spPr>
            <a:xfrm>
              <a:off x="2133720" y="28954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42120" y="335268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411280" y="2637000"/>
            <a:ext cx="936720" cy="1008000"/>
            <a:chOff x="2411280" y="2637000"/>
            <a:chExt cx="936720" cy="1008000"/>
          </a:xfrm>
        </p:grpSpPr>
        <p:sp>
          <p:nvSpPr>
            <p:cNvPr id="251" name=""/>
            <p:cNvSpPr/>
            <p:nvPr/>
          </p:nvSpPr>
          <p:spPr>
            <a:xfrm>
              <a:off x="2411280" y="263700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11280" y="3645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6947640" y="2565360"/>
            <a:ext cx="313200" cy="1871280"/>
            <a:chOff x="6947640" y="2565360"/>
            <a:chExt cx="313200" cy="1871280"/>
          </a:xfrm>
        </p:grpSpPr>
        <p:sp>
          <p:nvSpPr>
            <p:cNvPr id="254" name=""/>
            <p:cNvSpPr/>
            <p:nvPr/>
          </p:nvSpPr>
          <p:spPr>
            <a:xfrm>
              <a:off x="6947640" y="2917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947640" y="3925800"/>
              <a:ext cx="31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020000" y="2565360"/>
              <a:ext cx="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7020000" y="357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611280" y="2133720"/>
            <a:ext cx="1296720" cy="1077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39320" y="574848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h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 co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= alejami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4114800"/>
            <a:ext cx="13716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542960" y="2688840"/>
            <a:ext cx="1809360" cy="2327760"/>
            <a:chOff x="1542960" y="2688840"/>
            <a:chExt cx="1809360" cy="2327760"/>
          </a:xfrm>
        </p:grpSpPr>
        <p:sp>
          <p:nvSpPr>
            <p:cNvPr id="262" name=""/>
            <p:cNvSpPr/>
            <p:nvPr/>
          </p:nvSpPr>
          <p:spPr>
            <a:xfrm>
              <a:off x="2362320" y="4572000"/>
              <a:ext cx="144360" cy="142920"/>
            </a:xfrm>
            <a:prstGeom prst="ellipse">
              <a:avLst/>
            </a:prstGeom>
            <a:solidFill>
              <a:srgbClr val="33cccc"/>
            </a:solidFill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8520" y="4648320"/>
              <a:ext cx="308880" cy="368280"/>
            </a:xfrm>
            <a:prstGeom prst="rect">
              <a:avLst/>
            </a:pr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542960" y="2688840"/>
              <a:ext cx="1809360" cy="195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767" swAng="54741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767" swAng="5474190"/>
                </a:path>
              </a:pathLst>
            </a:cu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16320" y="3641760"/>
              <a:ext cx="1440" cy="1008000"/>
            </a:xfrm>
            <a:custGeom>
              <a:avLst/>
              <a:gdLst/>
              <a:ahLst/>
              <a:rect l="l" t="t" r="r" b="b"/>
              <a:pathLst>
                <a:path w="1" h="635">
                  <a:moveTo>
                    <a:pt x="0" y="0"/>
                  </a:moveTo>
                  <a:lnTo>
                    <a:pt x="0" y="63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2602080" y="3656880"/>
            <a:ext cx="1063440" cy="122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433" y="12694"/>
                </a:moveTo>
                <a:arcTo wR="10800" hR="10800" stAng="605874" swAng="4116907"/>
                <a:lnTo>
                  <a:pt x="10800" y="10800"/>
                </a:lnTo>
                <a:close/>
              </a:path>
              <a:path fill="none" w="21600" h="21600">
                <a:moveTo>
                  <a:pt x="21433" y="12694"/>
                </a:moveTo>
                <a:arcTo wR="10800" hR="10800" stAng="605874" swAng="4116907"/>
              </a:path>
            </a:pathLst>
          </a:custGeom>
          <a:noFill/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El punt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8423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g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 tiene su proyección vertical (PV) sobre LT y la proyección horizontal (PH) bajo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I tiene sus 2 proyecciones sobre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II tiene su PV bajo LT y su PH sobre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cuadrante IV tiene sus 2 proyecciones bajo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uno de los planos de proyeccion tiene una de sus proyecciones (ya sea PV o PH) en 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odo punto en el primer bisector tiene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h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Todo punto ubicado en el segundo bisector tiene sus 2 proyecciones confund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523880"/>
            <a:ext cx="784872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rotar la Línea de Tierra sólo se acepta giros del plano vertical o del plano horizontal. No se pueden girar simultáneam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iro del plano ver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T =&gt; L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’, a =&gt; a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’, a (las proyecciones horizontales no cambi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Giro del plano horizon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T =&gt; L’T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a’, a =&gt; a’, a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(las proyecciones verticales no cambi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85800" y="16002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ambio de plano vertic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274320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8168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733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2940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5530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2133720"/>
            <a:ext cx="3886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nueva línea de tierra (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562720" y="2057400"/>
            <a:ext cx="3047760" cy="2996640"/>
            <a:chOff x="5562720" y="2057400"/>
            <a:chExt cx="3047760" cy="2996640"/>
          </a:xfrm>
        </p:grpSpPr>
        <p:sp>
          <p:nvSpPr>
            <p:cNvPr id="282" name=""/>
            <p:cNvSpPr/>
            <p:nvPr/>
          </p:nvSpPr>
          <p:spPr>
            <a:xfrm flipV="1">
              <a:off x="5791320" y="2438280"/>
              <a:ext cx="25146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62720" y="4648320"/>
              <a:ext cx="533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53280" y="205740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</a:t>
              </a:r>
              <a:r>
                <a:rPr b="0" lang="es-CL" sz="1800" spc="-1" strike="noStrike" baseline="-25000">
                  <a:solidFill>
                    <a:srgbClr val="ff33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685800" y="2666880"/>
            <a:ext cx="3886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perpendicular a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, que pase por 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5943600" y="3123720"/>
            <a:ext cx="838080" cy="1143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85800" y="3505320"/>
            <a:ext cx="388620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 una distancia h de L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 está ubicado a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26668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638680" y="2666880"/>
            <a:ext cx="838440" cy="978120"/>
            <a:chOff x="5638680" y="2666880"/>
            <a:chExt cx="838440" cy="978120"/>
          </a:xfrm>
        </p:grpSpPr>
        <p:sp>
          <p:nvSpPr>
            <p:cNvPr id="291" name=""/>
            <p:cNvSpPr/>
            <p:nvPr/>
          </p:nvSpPr>
          <p:spPr>
            <a:xfrm>
              <a:off x="5867280" y="3048120"/>
              <a:ext cx="152640" cy="152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638680" y="2666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48520" y="32767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Cambio de LT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15238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85800" y="16002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ambio de plano horizont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781680" y="2743200"/>
            <a:ext cx="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81680" y="30481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373392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42670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53080" y="23623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2120" y="21337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nueva línea de tierra (L’T’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562720" y="2057400"/>
            <a:ext cx="3047760" cy="2959200"/>
            <a:chOff x="5562720" y="2057400"/>
            <a:chExt cx="3047760" cy="2959200"/>
          </a:xfrm>
        </p:grpSpPr>
        <p:sp>
          <p:nvSpPr>
            <p:cNvPr id="305" name=""/>
            <p:cNvSpPr/>
            <p:nvPr/>
          </p:nvSpPr>
          <p:spPr>
            <a:xfrm flipV="1">
              <a:off x="5791320" y="2438280"/>
              <a:ext cx="2514600" cy="2286000"/>
            </a:xfrm>
            <a:prstGeom prst="line">
              <a:avLst/>
            </a:prstGeom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562720" y="4648320"/>
              <a:ext cx="53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L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53280" y="205740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ahoma"/>
                </a:rPr>
                <a:t>T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685800" y="26668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razar perpendicular a L’T’, que pase por a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3505320"/>
            <a:ext cx="38862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A una distancia d de L’T’ está ubicado a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05720" y="2666880"/>
            <a:ext cx="152280" cy="15264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81680" y="2743200"/>
            <a:ext cx="91440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7467480" y="3276720"/>
            <a:ext cx="685800" cy="862920"/>
            <a:chOff x="7467480" y="3276720"/>
            <a:chExt cx="685800" cy="862920"/>
          </a:xfrm>
        </p:grpSpPr>
        <p:sp>
          <p:nvSpPr>
            <p:cNvPr id="314" name=""/>
            <p:cNvSpPr/>
            <p:nvPr/>
          </p:nvSpPr>
          <p:spPr>
            <a:xfrm>
              <a:off x="7620120" y="3733920"/>
              <a:ext cx="152280" cy="1522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67480" y="327672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696080" y="37339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r>
                <a:rPr b="0" lang="es-CL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625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gnos conven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invi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ínea de refer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 Aux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za Plano Aux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292720" y="227664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292720" y="278136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5292720" y="3284640"/>
            <a:ext cx="2808360" cy="28728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292720" y="378936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292720" y="4292640"/>
            <a:ext cx="2808360" cy="287280"/>
          </a:xfrm>
          <a:prstGeom prst="line">
            <a:avLst/>
          </a:prstGeom>
          <a:ln w="381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379880" y="573408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o mejor es usar colores para rectas y planos Auxilia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339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5868000" y="2133720"/>
            <a:ext cx="1890720" cy="2815920"/>
            <a:chOff x="5868000" y="2133720"/>
            <a:chExt cx="1890720" cy="2815920"/>
          </a:xfrm>
        </p:grpSpPr>
        <p:sp>
          <p:nvSpPr>
            <p:cNvPr id="348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Horizontal: recta contenida en un plano 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frontal: Recta contenida en un plano 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478760" y="2637000"/>
            <a:ext cx="3985200" cy="382320"/>
            <a:chOff x="4478760" y="2637000"/>
            <a:chExt cx="3985200" cy="382320"/>
          </a:xfrm>
        </p:grpSpPr>
        <p:sp>
          <p:nvSpPr>
            <p:cNvPr id="357" name=""/>
            <p:cNvSpPr/>
            <p:nvPr/>
          </p:nvSpPr>
          <p:spPr>
            <a:xfrm>
              <a:off x="4788000" y="285264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78760" y="26510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156880" y="2637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076720" y="213372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76720" y="2852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076720" y="213372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667640" y="213336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499280" y="4581360"/>
            <a:ext cx="3985200" cy="382320"/>
            <a:chOff x="4499280" y="4581360"/>
            <a:chExt cx="3985200" cy="382320"/>
          </a:xfrm>
        </p:grpSpPr>
        <p:sp>
          <p:nvSpPr>
            <p:cNvPr id="365" name=""/>
            <p:cNvSpPr/>
            <p:nvPr/>
          </p:nvSpPr>
          <p:spPr>
            <a:xfrm>
              <a:off x="4808520" y="47970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99280" y="4595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77400" y="4581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8" name=""/>
          <p:cNvSpPr/>
          <p:nvPr/>
        </p:nvSpPr>
        <p:spPr>
          <a:xfrm flipH="1">
            <a:off x="5146200" y="5518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 flipV="1">
            <a:off x="5146200" y="40784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738920" y="4797360"/>
            <a:ext cx="0" cy="71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46560" y="407664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913640" y="17874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574760" y="1716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57480" y="2852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15160" y="34434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86720" y="36608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66920" y="4437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982760" y="5532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712280" y="5516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55640" y="333360"/>
          <a:ext cx="7129440" cy="5469120"/>
        </p:xfrm>
        <a:graphic>
          <a:graphicData uri="http://schemas.openxmlformats.org/drawingml/2006/table">
            <a:tbl>
              <a:tblPr/>
              <a:tblGrid>
                <a:gridCol w="1962000"/>
                <a:gridCol w="51674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3-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yecciones y mapas, rumbo, manteo. Nociones básicas estereometrí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-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stereometría. Ejercicio 1.Tarea 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7-A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es estereográficas. Ejercicio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3-S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írculos de Mohr.  Stress. Tarea 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-S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des estereográficas-Steronet. Tarea 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4-Se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Lectura. Ejercicio 3. Indicadores cinemáticos, fo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1-O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delos Análogos (primeros grupo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9-O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Modelos Análogos (segundos grupo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-O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emana Olímp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2-O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 Alfalf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9-Oc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train (Lectura y Ejercicio 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05-No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ntrega Informe Alfalfal. Problemas de geología estructural. Tarea 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-No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 Isla Negra. Entrega Informe modelos análog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-No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mágenes satelitales, fotografías aére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fuga o de punta: Perpendiculares al P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ticales: Perpendiculares al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lela a LT: Es una recta cuyas proyecciones horizontal y vertical son paralelas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426200" y="3716280"/>
            <a:ext cx="3985200" cy="382320"/>
            <a:chOff x="4426200" y="3716280"/>
            <a:chExt cx="3985200" cy="382320"/>
          </a:xfrm>
        </p:grpSpPr>
        <p:sp>
          <p:nvSpPr>
            <p:cNvPr id="383" name=""/>
            <p:cNvSpPr/>
            <p:nvPr/>
          </p:nvSpPr>
          <p:spPr>
            <a:xfrm>
              <a:off x="4735440" y="393192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26200" y="3730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104320" y="3716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4499280" y="5711760"/>
            <a:ext cx="3985200" cy="382320"/>
            <a:chOff x="4499280" y="5711760"/>
            <a:chExt cx="3985200" cy="382320"/>
          </a:xfrm>
        </p:grpSpPr>
        <p:sp>
          <p:nvSpPr>
            <p:cNvPr id="387" name=""/>
            <p:cNvSpPr/>
            <p:nvPr/>
          </p:nvSpPr>
          <p:spPr>
            <a:xfrm>
              <a:off x="4808520" y="592740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499280" y="57258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177400" y="5711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426200" y="2276640"/>
            <a:ext cx="3985200" cy="382320"/>
            <a:chOff x="4426200" y="2276640"/>
            <a:chExt cx="3985200" cy="382320"/>
          </a:xfrm>
        </p:grpSpPr>
        <p:sp>
          <p:nvSpPr>
            <p:cNvPr id="391" name=""/>
            <p:cNvSpPr/>
            <p:nvPr/>
          </p:nvSpPr>
          <p:spPr>
            <a:xfrm>
              <a:off x="4735440" y="2492280"/>
              <a:ext cx="3312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26200" y="2290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104320" y="2276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5219640" y="1125360"/>
            <a:ext cx="668520" cy="2449800"/>
            <a:chOff x="5219640" y="1125360"/>
            <a:chExt cx="668520" cy="2449800"/>
          </a:xfrm>
        </p:grpSpPr>
        <p:sp>
          <p:nvSpPr>
            <p:cNvPr id="395" name=""/>
            <p:cNvSpPr/>
            <p:nvPr/>
          </p:nvSpPr>
          <p:spPr>
            <a:xfrm>
              <a:off x="5364000" y="2492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33840" y="2637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11880" y="32068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292720" y="27813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292720" y="335772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364000" y="155736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92720" y="148428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219640" y="1125360"/>
              <a:ext cx="66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’, 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7094880" y="3429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92000" y="28526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6949800" y="2995200"/>
            <a:ext cx="144360" cy="2017800"/>
            <a:chOff x="6949800" y="2995200"/>
            <a:chExt cx="144360" cy="2017800"/>
          </a:xfrm>
        </p:grpSpPr>
        <p:sp>
          <p:nvSpPr>
            <p:cNvPr id="406" name=""/>
            <p:cNvSpPr/>
            <p:nvPr/>
          </p:nvSpPr>
          <p:spPr>
            <a:xfrm flipV="1">
              <a:off x="7022880" y="306828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0800000">
              <a:off x="6949800" y="357156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10800000">
              <a:off x="6949800" y="299520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022880" y="4003200"/>
              <a:ext cx="0" cy="936720"/>
            </a:xfrm>
            <a:prstGeom prst="line">
              <a:avLst/>
            </a:prstGeom>
            <a:ln w="381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10800000">
              <a:off x="6949800" y="4868640"/>
              <a:ext cx="14436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6424560" y="4718160"/>
            <a:ext cx="6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, 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148360" y="5516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148360" y="6308640"/>
            <a:ext cx="2448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148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596360" y="5516640"/>
            <a:ext cx="0" cy="792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05440" y="51498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50920" y="5157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453440" y="63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001840" y="63025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ta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que corta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ta de Perfil: Recta perpendicular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694760" y="2852640"/>
            <a:ext cx="3985200" cy="382320"/>
            <a:chOff x="4694760" y="2852640"/>
            <a:chExt cx="3985200" cy="382320"/>
          </a:xfrm>
        </p:grpSpPr>
        <p:sp>
          <p:nvSpPr>
            <p:cNvPr id="423" name=""/>
            <p:cNvSpPr/>
            <p:nvPr/>
          </p:nvSpPr>
          <p:spPr>
            <a:xfrm>
              <a:off x="5004000" y="306828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94760" y="28666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72880" y="285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 flipV="1">
            <a:off x="5292720" y="2349360"/>
            <a:ext cx="2590920" cy="719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292720" y="306864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883640" y="2349360"/>
            <a:ext cx="0" cy="144000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78520" y="263700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790760" y="19321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073480" y="306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931160" y="36590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4500720" y="2852640"/>
            <a:ext cx="790560" cy="21600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789440" y="2997000"/>
            <a:ext cx="790560" cy="21564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pt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za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d0c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C/R a L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4642200" y="2565360"/>
            <a:ext cx="3985200" cy="382320"/>
            <a:chOff x="4642200" y="2565360"/>
            <a:chExt cx="3985200" cy="382320"/>
          </a:xfrm>
        </p:grpSpPr>
        <p:sp>
          <p:nvSpPr>
            <p:cNvPr id="438" name=""/>
            <p:cNvSpPr/>
            <p:nvPr/>
          </p:nvSpPr>
          <p:spPr>
            <a:xfrm>
              <a:off x="4951440" y="278100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2200" y="2579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320320" y="2565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"/>
          <p:cNvSpPr/>
          <p:nvPr/>
        </p:nvSpPr>
        <p:spPr>
          <a:xfrm flipH="1">
            <a:off x="5289120" y="350208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5289120" y="206208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7881840" y="2781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89480" y="205992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129280" y="1644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09480" y="2421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125680" y="35164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55200" y="35002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 rot="10800000">
            <a:off x="6588000" y="2491560"/>
            <a:ext cx="577440" cy="57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713640" y="24177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49680" y="5372280"/>
            <a:ext cx="3985200" cy="382320"/>
            <a:chOff x="949680" y="5372280"/>
            <a:chExt cx="3985200" cy="382320"/>
          </a:xfrm>
        </p:grpSpPr>
        <p:sp>
          <p:nvSpPr>
            <p:cNvPr id="452" name=""/>
            <p:cNvSpPr/>
            <p:nvPr/>
          </p:nvSpPr>
          <p:spPr>
            <a:xfrm>
              <a:off x="125892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4968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2780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547640" y="4869000"/>
            <a:ext cx="2590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547640" y="4869000"/>
            <a:ext cx="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138560" y="4868640"/>
            <a:ext cx="0" cy="14396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189080" y="4724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83640" y="46530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32840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18644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54764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226764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48616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075640" y="5372280"/>
            <a:ext cx="3985200" cy="382320"/>
            <a:chOff x="5075640" y="5372280"/>
            <a:chExt cx="3985200" cy="382320"/>
          </a:xfrm>
        </p:grpSpPr>
        <p:sp>
          <p:nvSpPr>
            <p:cNvPr id="466" name=""/>
            <p:cNvSpPr/>
            <p:nvPr/>
          </p:nvSpPr>
          <p:spPr>
            <a:xfrm>
              <a:off x="5384880" y="5587920"/>
              <a:ext cx="3313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075640" y="538632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753760" y="5372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5651640" y="4508640"/>
            <a:ext cx="2592360" cy="100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51640" y="4508640"/>
            <a:ext cx="21960" cy="10792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8243640" y="5589360"/>
            <a:ext cx="20520" cy="718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454360" y="55879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312400" y="6178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673600" y="5589720"/>
            <a:ext cx="2590920" cy="72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393600" y="5300280"/>
            <a:ext cx="576720" cy="57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612120" y="5506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4846680" cy="469116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5148360" y="1700280"/>
            <a:ext cx="3794040" cy="423396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771640" y="4292640"/>
            <a:ext cx="122400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773440" y="4294080"/>
            <a:ext cx="115092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4360" y="2276640"/>
            <a:ext cx="1150920" cy="1079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340000" y="2428920"/>
            <a:ext cx="57636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59280" y="4229280"/>
            <a:ext cx="576000" cy="1512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003400" y="1565280"/>
            <a:ext cx="192240" cy="503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2195640" y="2421000"/>
            <a:ext cx="144360" cy="151272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40000" y="3789360"/>
            <a:ext cx="576360" cy="144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340000" y="2421000"/>
            <a:ext cx="0" cy="1368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2195640" y="3933720"/>
            <a:ext cx="7207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5653080" y="1699920"/>
            <a:ext cx="3022560" cy="3097440"/>
            <a:chOff x="5653080" y="1699920"/>
            <a:chExt cx="3022560" cy="3097440"/>
          </a:xfrm>
        </p:grpSpPr>
        <p:sp>
          <p:nvSpPr>
            <p:cNvPr id="491" name=""/>
            <p:cNvSpPr/>
            <p:nvPr/>
          </p:nvSpPr>
          <p:spPr>
            <a:xfrm flipV="1">
              <a:off x="7524720" y="1699920"/>
              <a:ext cx="863640" cy="79380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6084720" y="3860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5724360" y="3860280"/>
              <a:ext cx="360360" cy="36036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653080" y="4076640"/>
              <a:ext cx="144000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236000" y="3284640"/>
              <a:ext cx="1439640" cy="720720"/>
            </a:xfrm>
            <a:prstGeom prst="line">
              <a:avLst/>
            </a:prstGeom>
            <a:ln w="9360">
              <a:solidFill>
                <a:srgbClr val="33cc3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265480" y="213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910960" y="371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084720" y="2491920"/>
            <a:ext cx="1440000" cy="136836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5868000" y="3494160"/>
            <a:ext cx="388440" cy="1455480"/>
            <a:chOff x="5868000" y="3494160"/>
            <a:chExt cx="388440" cy="1455480"/>
          </a:xfrm>
        </p:grpSpPr>
        <p:sp>
          <p:nvSpPr>
            <p:cNvPr id="500" name=""/>
            <p:cNvSpPr/>
            <p:nvPr/>
          </p:nvSpPr>
          <p:spPr>
            <a:xfrm>
              <a:off x="6084720" y="3860640"/>
              <a:ext cx="0" cy="72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868000" y="349416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35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7382160" y="2133720"/>
            <a:ext cx="376560" cy="2023920"/>
            <a:chOff x="7382160" y="2133720"/>
            <a:chExt cx="376560" cy="2023920"/>
          </a:xfrm>
        </p:grpSpPr>
        <p:sp>
          <p:nvSpPr>
            <p:cNvPr id="504" name=""/>
            <p:cNvSpPr/>
            <p:nvPr/>
          </p:nvSpPr>
          <p:spPr>
            <a:xfrm>
              <a:off x="7524720" y="2492280"/>
              <a:ext cx="0" cy="1368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82160" y="2133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49840" y="37893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 flipV="1">
            <a:off x="2484360" y="3499920"/>
            <a:ext cx="503280" cy="289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372000" y="4076640"/>
            <a:ext cx="431640" cy="214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 rot="19480800">
            <a:off x="6935400" y="3404160"/>
            <a:ext cx="57708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75" y="5102"/>
                </a:moveTo>
                <a:arcTo wR="10800" hR="10800" stAng="-1910423" swAng="1910393"/>
                <a:lnTo>
                  <a:pt x="10800" y="10800"/>
                </a:lnTo>
                <a:close/>
              </a:path>
              <a:path fill="none" w="21600" h="21600">
                <a:moveTo>
                  <a:pt x="19975" y="5102"/>
                </a:moveTo>
                <a:arcTo wR="10800" hR="10800" stAng="-1910423" swAng="1910393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2122920" y="3428640"/>
            <a:ext cx="431280" cy="43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54782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547826"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rec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den ser paralelas o cortar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cortan están en la misma línea de refer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4356000" y="1600200"/>
            <a:ext cx="4608720" cy="446256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6174720" y="2430360"/>
            <a:ext cx="1930680" cy="1720800"/>
            <a:chOff x="6174720" y="2430360"/>
            <a:chExt cx="1930680" cy="1720800"/>
          </a:xfrm>
        </p:grpSpPr>
        <p:grpSp>
          <p:nvGrpSpPr>
            <p:cNvPr id="515" name=""/>
            <p:cNvGrpSpPr/>
            <p:nvPr/>
          </p:nvGrpSpPr>
          <p:grpSpPr>
            <a:xfrm>
              <a:off x="6248160" y="2774880"/>
              <a:ext cx="1584360" cy="1297080"/>
              <a:chOff x="6248160" y="2774880"/>
              <a:chExt cx="1584360" cy="1297080"/>
            </a:xfrm>
          </p:grpSpPr>
          <p:sp>
            <p:nvSpPr>
              <p:cNvPr id="516" name=""/>
              <p:cNvSpPr/>
              <p:nvPr/>
            </p:nvSpPr>
            <p:spPr>
              <a:xfrm flipV="1">
                <a:off x="6537240" y="2774880"/>
                <a:ext cx="0" cy="10080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6392880" y="3495240"/>
                <a:ext cx="0" cy="431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248160" y="4071960"/>
                <a:ext cx="13687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680160" y="3639960"/>
                <a:ext cx="115236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6174720" y="2430360"/>
              <a:ext cx="1930680" cy="1720800"/>
              <a:chOff x="6174720" y="2430360"/>
              <a:chExt cx="1930680" cy="1720800"/>
            </a:xfrm>
          </p:grpSpPr>
          <p:sp>
            <p:nvSpPr>
              <p:cNvPr id="521" name=""/>
              <p:cNvSpPr/>
              <p:nvPr/>
            </p:nvSpPr>
            <p:spPr>
              <a:xfrm>
                <a:off x="6537240" y="2774880"/>
                <a:ext cx="1079640" cy="129708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392880" y="3495600"/>
                <a:ext cx="143964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389640" y="2430360"/>
                <a:ext cx="32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611480" y="378288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174720" y="3135240"/>
                <a:ext cx="32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756920" y="3416400"/>
                <a:ext cx="348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4356000" y="1557360"/>
            <a:ext cx="4581720" cy="5111640"/>
          </a:xfrm>
          <a:prstGeom prst="rect">
            <a:avLst/>
          </a:prstGeom>
          <a:ln w="0">
            <a:noFill/>
          </a:ln>
        </p:spPr>
      </p:pic>
      <p:grpSp>
        <p:nvGrpSpPr>
          <p:cNvPr id="528" name=""/>
          <p:cNvGrpSpPr/>
          <p:nvPr/>
        </p:nvGrpSpPr>
        <p:grpSpPr>
          <a:xfrm>
            <a:off x="5219640" y="2565000"/>
            <a:ext cx="3241800" cy="2519640"/>
            <a:chOff x="5219640" y="2565000"/>
            <a:chExt cx="3241800" cy="2519640"/>
          </a:xfrm>
        </p:grpSpPr>
        <p:sp>
          <p:nvSpPr>
            <p:cNvPr id="529" name=""/>
            <p:cNvSpPr/>
            <p:nvPr/>
          </p:nvSpPr>
          <p:spPr>
            <a:xfrm>
              <a:off x="5580000" y="2852640"/>
              <a:ext cx="2521080" cy="1297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580000" y="4149720"/>
              <a:ext cx="2521080" cy="9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5219640" y="2565000"/>
              <a:ext cx="2665440" cy="1584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5292720" y="4076280"/>
              <a:ext cx="316872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88000" y="3357720"/>
              <a:ext cx="0" cy="1223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ada una recta AB y un punto C fuera de ella trazar una recta horizontal que pase por C y se apoye en la rec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4284720" y="1341360"/>
            <a:ext cx="4709880" cy="525636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 flipV="1">
            <a:off x="5364000" y="2420640"/>
            <a:ext cx="1368720" cy="158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364000" y="4005360"/>
            <a:ext cx="1368720" cy="620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596360" y="292428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596360" y="450864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32720" y="2421000"/>
            <a:ext cx="0" cy="1584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364000" y="4005360"/>
            <a:ext cx="0" cy="64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667640" y="2997360"/>
            <a:ext cx="0" cy="158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711120" y="200340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28040" y="39337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150160" y="3638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217840" y="465300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623360" y="2630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667640" y="44370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5148360" y="2997360"/>
            <a:ext cx="345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5363640" y="4005000"/>
            <a:ext cx="2737080" cy="718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27640" y="2995560"/>
            <a:ext cx="0" cy="1225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La Recta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ada dos rectas AB y CD que se cruzan determinar una recta horizontal de cota Z que se apoye en las rectas d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4427640" y="1341360"/>
            <a:ext cx="4581360" cy="51120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5724360" y="1989000"/>
            <a:ext cx="2376720" cy="1944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35640" y="3933720"/>
            <a:ext cx="2521080" cy="935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5219640" y="1773000"/>
            <a:ext cx="2376720" cy="21603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5724360" y="3933360"/>
            <a:ext cx="2519640" cy="6462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88000" y="2708280"/>
            <a:ext cx="0" cy="1657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44000" y="3284640"/>
            <a:ext cx="144360" cy="14436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244000" y="3860640"/>
            <a:ext cx="144360" cy="144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317080" y="3357720"/>
            <a:ext cx="0" cy="576000"/>
          </a:xfrm>
          <a:prstGeom prst="line">
            <a:avLst/>
          </a:prstGeom>
          <a:ln cap="rnd" w="9360">
            <a:solidFill>
              <a:srgbClr val="404b3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8307360" y="34225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b3d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363640" y="3357720"/>
            <a:ext cx="2953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867280" y="3357720"/>
            <a:ext cx="0" cy="1223640"/>
          </a:xfrm>
          <a:prstGeom prst="line">
            <a:avLst/>
          </a:prstGeom>
          <a:ln cap="rnd" w="9360">
            <a:solidFill>
              <a:srgbClr val="404b3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380360" y="3357720"/>
            <a:ext cx="0" cy="1295280"/>
          </a:xfrm>
          <a:prstGeom prst="line">
            <a:avLst/>
          </a:prstGeom>
          <a:ln cap="rnd" w="9360">
            <a:solidFill>
              <a:srgbClr val="404b3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435640" y="4508640"/>
            <a:ext cx="2881440" cy="21564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¿Cómo definimos un plano? (en genera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Y en el depurad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3 pu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dos rectas, las que pueden cortarse o ser paral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 una recta y un punto fuera de 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13840" y="150012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2 rect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1403280" y="3068640"/>
            <a:ext cx="5977080" cy="2305080"/>
            <a:chOff x="1403280" y="3068640"/>
            <a:chExt cx="5977080" cy="2305080"/>
          </a:xfrm>
        </p:grpSpPr>
        <p:sp>
          <p:nvSpPr>
            <p:cNvPr id="574" name=""/>
            <p:cNvSpPr/>
            <p:nvPr/>
          </p:nvSpPr>
          <p:spPr>
            <a:xfrm>
              <a:off x="3203640" y="3645000"/>
              <a:ext cx="2448000" cy="360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03640" y="4005360"/>
              <a:ext cx="2376360" cy="93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3564000" y="3212640"/>
              <a:ext cx="2016000" cy="7923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3564000" y="4005360"/>
              <a:ext cx="2519280" cy="503280"/>
            </a:xfrm>
            <a:prstGeom prst="line">
              <a:avLst/>
            </a:prstGeom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40360" y="3789360"/>
              <a:ext cx="0" cy="647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03640" y="3645000"/>
              <a:ext cx="0" cy="360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580000" y="4005360"/>
              <a:ext cx="0" cy="9363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03280" y="4005360"/>
              <a:ext cx="5616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1403280" y="3068640"/>
              <a:ext cx="4824360" cy="93672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03280" y="4005360"/>
              <a:ext cx="5977080" cy="1368360"/>
            </a:xfrm>
            <a:prstGeom prst="line">
              <a:avLst/>
            </a:prstGeom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4451400" cy="496728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5693400" y="1500120"/>
            <a:ext cx="112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3 pun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1560" y="1909800"/>
            <a:ext cx="244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Una recta y un pu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582160" y="234936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Verificar si un punto pertene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 un pla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onceptos Básic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racterización de Plano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gla de las 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royec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epaso conceptos bá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El Plano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lanos espe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iz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ro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er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ug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f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alelo a 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4838760" y="1731960"/>
            <a:ext cx="3655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2 planos que se cortan en el depur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 una 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102200" y="2923920"/>
            <a:ext cx="3759120" cy="1252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086520" y="4176720"/>
            <a:ext cx="1671480" cy="188136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475080" y="3343320"/>
            <a:ext cx="4282920" cy="8334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5435640" y="3759120"/>
            <a:ext cx="1590120" cy="1254240"/>
            <a:chOff x="5435640" y="3759120"/>
            <a:chExt cx="1590120" cy="1254240"/>
          </a:xfrm>
        </p:grpSpPr>
        <p:sp>
          <p:nvSpPr>
            <p:cNvPr id="602" name=""/>
            <p:cNvSpPr/>
            <p:nvPr/>
          </p:nvSpPr>
          <p:spPr>
            <a:xfrm>
              <a:off x="5435640" y="3759120"/>
              <a:ext cx="0" cy="4176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7025760" y="4176720"/>
              <a:ext cx="0" cy="83664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5365800" y="3645000"/>
            <a:ext cx="208080" cy="207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36400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93252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932520" y="4900680"/>
            <a:ext cx="20664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35640" y="3759120"/>
            <a:ext cx="1566720" cy="4176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435640" y="4176720"/>
            <a:ext cx="1566720" cy="836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935120" y="26510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07552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182400" y="30114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69000" y="58928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294520" y="32846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93080" y="4149720"/>
            <a:ext cx="35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433840" y="4149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6943680" y="508464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ano cualquiera y plano horizont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 una 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4102200" y="2060640"/>
            <a:ext cx="2485800" cy="211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475080" y="3343320"/>
            <a:ext cx="4984560" cy="144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076720" y="3284640"/>
            <a:ext cx="0" cy="892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020000" y="3284280"/>
            <a:ext cx="0" cy="136836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011560" y="3213000"/>
            <a:ext cx="20808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00364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932520" y="321300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886440" y="4591080"/>
            <a:ext cx="20664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148360" y="3357720"/>
            <a:ext cx="1871640" cy="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076720" y="4149720"/>
            <a:ext cx="1925640" cy="57636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665892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00424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581320" y="308448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7020000" y="4149720"/>
            <a:ext cx="0" cy="20876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6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lano cualquiera y plano de fu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 una rec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684600" y="4176720"/>
            <a:ext cx="4906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131640" y="38862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77932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4102200" y="2060640"/>
            <a:ext cx="2485800" cy="2116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4102200" y="4176720"/>
            <a:ext cx="3863880" cy="1149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635280" y="2708280"/>
            <a:ext cx="3384720" cy="1441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076720" y="3284640"/>
            <a:ext cx="0" cy="89208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7020000" y="4149360"/>
            <a:ext cx="0" cy="9349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011560" y="3213000"/>
            <a:ext cx="20808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003640" y="4064040"/>
            <a:ext cx="206640" cy="2080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932520" y="4013280"/>
            <a:ext cx="206640" cy="20772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877080" y="4951440"/>
            <a:ext cx="206280" cy="206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148360" y="3357720"/>
            <a:ext cx="1871640" cy="792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076720" y="4149720"/>
            <a:ext cx="1943280" cy="863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658920" y="1844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8004240" y="5172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8581320" y="308448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d0ca"/>
                </a:solidFill>
                <a:latin typeface="Arial"/>
              </a:rPr>
              <a:t>Estereometría: Interseccione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203832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2 planos que se cortan fuera del depur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8779320" y="352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805120" y="3403440"/>
            <a:ext cx="594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2135520" y="30510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V="1">
            <a:off x="3311640" y="1699920"/>
            <a:ext cx="1476360" cy="170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311640" y="3403440"/>
            <a:ext cx="1836720" cy="3094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6156360" y="3403080"/>
            <a:ext cx="1582560" cy="30942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435640" y="1413000"/>
            <a:ext cx="2303280" cy="199044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292720" y="2565360"/>
            <a:ext cx="142920" cy="86364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291280" y="3357720"/>
            <a:ext cx="144360" cy="1584000"/>
          </a:xfrm>
          <a:prstGeom prst="line">
            <a:avLst/>
          </a:prstGeom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3707640" y="126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495680" y="613080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298560" y="11970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294600" y="6130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2771640" y="2060640"/>
            <a:ext cx="5616720" cy="2881080"/>
            <a:chOff x="2771640" y="2060640"/>
            <a:chExt cx="5616720" cy="2881080"/>
          </a:xfrm>
        </p:grpSpPr>
        <p:sp>
          <p:nvSpPr>
            <p:cNvPr id="673" name=""/>
            <p:cNvSpPr/>
            <p:nvPr/>
          </p:nvSpPr>
          <p:spPr>
            <a:xfrm>
              <a:off x="2771640" y="2060640"/>
              <a:ext cx="554544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43280" y="4941720"/>
              <a:ext cx="55450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4500720" y="2060640"/>
            <a:ext cx="1726920" cy="2881080"/>
            <a:chOff x="4500720" y="2060640"/>
            <a:chExt cx="1726920" cy="2881080"/>
          </a:xfrm>
        </p:grpSpPr>
        <p:sp>
          <p:nvSpPr>
            <p:cNvPr id="676" name=""/>
            <p:cNvSpPr/>
            <p:nvPr/>
          </p:nvSpPr>
          <p:spPr>
            <a:xfrm>
              <a:off x="4500720" y="2060640"/>
              <a:ext cx="0" cy="12970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716360" y="3357720"/>
              <a:ext cx="0" cy="15840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227640" y="2060640"/>
              <a:ext cx="0" cy="129708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6156360" y="3357720"/>
              <a:ext cx="0" cy="158400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4356000" y="1916280"/>
            <a:ext cx="2016360" cy="3130560"/>
            <a:chOff x="4356000" y="1916280"/>
            <a:chExt cx="2016360" cy="3130560"/>
          </a:xfrm>
        </p:grpSpPr>
        <p:sp>
          <p:nvSpPr>
            <p:cNvPr id="681" name=""/>
            <p:cNvSpPr/>
            <p:nvPr/>
          </p:nvSpPr>
          <p:spPr>
            <a:xfrm>
              <a:off x="4356000" y="1916280"/>
              <a:ext cx="252360" cy="252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94160" y="3321000"/>
              <a:ext cx="249120" cy="252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21440" y="3267000"/>
              <a:ext cx="250920" cy="252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72000" y="4797360"/>
              <a:ext cx="250920" cy="2494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21440" y="1952640"/>
              <a:ext cx="250920" cy="25236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08360" y="3284640"/>
              <a:ext cx="250920" cy="2491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12000" y="4797360"/>
              <a:ext cx="250560" cy="2494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012000" y="3284640"/>
              <a:ext cx="250560" cy="24912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4150080" y="1557360"/>
            <a:ext cx="2584080" cy="3392280"/>
            <a:chOff x="4150080" y="1557360"/>
            <a:chExt cx="2584080" cy="3392280"/>
          </a:xfrm>
        </p:grpSpPr>
        <p:sp>
          <p:nvSpPr>
            <p:cNvPr id="690" name=""/>
            <p:cNvSpPr/>
            <p:nvPr/>
          </p:nvSpPr>
          <p:spPr>
            <a:xfrm>
              <a:off x="4150080" y="155736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a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300720" y="1700280"/>
              <a:ext cx="43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b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194000" y="30686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96040" y="2997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19600" y="342252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723640" y="3422520"/>
              <a:ext cx="3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d’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284000" y="4581360"/>
              <a:ext cx="290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19680" y="45813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4284720" y="1628640"/>
            <a:ext cx="2052720" cy="4896000"/>
            <a:chOff x="4284720" y="1628640"/>
            <a:chExt cx="2052720" cy="4896000"/>
          </a:xfrm>
        </p:grpSpPr>
        <p:sp>
          <p:nvSpPr>
            <p:cNvPr id="699" name=""/>
            <p:cNvSpPr/>
            <p:nvPr/>
          </p:nvSpPr>
          <p:spPr>
            <a:xfrm flipV="1">
              <a:off x="4500720" y="1699920"/>
              <a:ext cx="1477800" cy="170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00720" y="3430440"/>
              <a:ext cx="1836720" cy="30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4573440" y="3428640"/>
              <a:ext cx="1582920" cy="309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284720" y="1628640"/>
              <a:ext cx="2016000" cy="172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5292720" y="2492280"/>
            <a:ext cx="0" cy="86544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35640" y="3429000"/>
            <a:ext cx="0" cy="151272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0400" y="1773360"/>
            <a:ext cx="4041720" cy="30812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ara describir la orientación de un plano geológico matemáticamente se necesitan dos (o tres) propie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Rumbo (Strik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nteo (D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rección de Inclinación (Dip Dire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Caracterización de Planos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mb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ínea que resulta por la intersección del plano geológico por un plano horizontal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645080" y="2532240"/>
            <a:ext cx="4041720" cy="22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Rake de un pl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c4b42"/>
            </a:gs>
            <a:gs pos="100000">
              <a:srgbClr val="a7a4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d0ca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d0ca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4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atos Horizo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d0c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375240" y="1628640"/>
            <a:ext cx="13366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8T20:25:09Z</dcterms:created>
  <dc:creator>Andrés Fock Kunstmann</dc:creator>
  <dc:description/>
  <dc:language>en-US</dc:language>
  <cp:lastModifiedBy>andres</cp:lastModifiedBy>
  <dcterms:modified xsi:type="dcterms:W3CDTF">2004-08-13T21:25:09Z</dcterms:modified>
  <cp:revision>17</cp:revision>
  <dc:subject/>
  <dc:title>Diapositiva 1</dc:title>
</cp:coreProperties>
</file>