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cashreg.wav" ContentType="audio/x-wav"/>
  <Override PartName="/ppt/media/image12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F59-8A69-45F0-AE50-14DDDF1C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C01-6EEC-4930-B47A-9984D03A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1ED-FC7A-4A72-9496-3C6A8AF2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E0A-7A1F-43F0-B684-D75388D8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6A76-F4F9-4372-9B1E-CC360211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1A4B-8097-40F1-BAB9-CB29A780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03F1-AE8B-486A-B868-DE47E717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5868-DEB7-4E5B-833C-0046ABC9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EC47-F5C8-4D3E-A032-691C8E50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3A61-407A-4970-9052-1AE4E5F3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BF6-A2DB-443E-8EAE-0EF2260C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9F1-2275-4A23-87EC-8EF1E740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961B-F0C6-4963-8476-1A3606D9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4CC8-6B02-4BF5-9974-DDFF327B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C750-B642-4EB6-B5F5-FE3C5227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59EC-FCCF-446E-9A11-06D179CD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FC01-6600-4B07-A025-7B7645B5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90E-CB47-4BEB-B380-7C9B9350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52D-84A3-4004-A2B7-6BDAF9B4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CD3-7573-4E4D-A269-57E47AE2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0BF-9B61-4B59-A09E-FAD72DA7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F71-FA94-405E-BEB0-0C0C5FD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A03-F6F1-40C3-B898-D4A10CA4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893-E6EB-49F4-8C44-CB4D3E54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6592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1996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9D31A8D-A353-4811-9406-6C7993FD6C03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1008000" y="1449360"/>
            <a:ext cx="907272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755280"/>
            <a:ext cx="92394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83720" y="6865560"/>
            <a:ext cx="21272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71840" y="6865560"/>
            <a:ext cx="31370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80280" y="6865560"/>
            <a:ext cx="201600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7D6B9D0-AE4C-4DB9-8159-5B89C77739E1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1008000" y="2016000"/>
            <a:ext cx="9072720" cy="4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8953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GEOLOGIA ECONOMIC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785880" y="3273120"/>
            <a:ext cx="86058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712-C219-474B-AF41-3EF6BD776234}" type="slidenum">
              <a:t>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304920"/>
            <a:ext cx="9851760" cy="70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Supérgena o Secund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o efectos exógenos sobre cuerpos mineralizados, como meteorización, oxidación, descomposición de minerales y formación de nuevos minerales estables en el ambiente supérgen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251-3215-4B06-B858-A6F5CEBCA35B}" type="slidenum">
              <a:t>1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sidual-enriquesid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10080720" cy="555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64D-3524-48FB-AA0C-467CBD84E5C7}" type="slidenum">
              <a:t>1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296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Yacimien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Depósito mineral que ha sido examinado y ha probado tener suficiente tamaño, ley y accesibilidad, como para ser puesto en producción y ser rentable.La rentabilidad de un yacimiento depende de sus características intrínsecas (como tonelaje y ley), y depende de condiciones ajenas al cuerpo mineral, como las tasas de impuesto, precio de metales, etc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070-30F2-416F-B5E8-F4BAD04FAACF}" type="slidenum">
              <a:t>1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605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Corresponde a las labores de explotación de un yacimiento, las que pueden ser subterráneas o a cielo abier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Raj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xcavación a cielo abierto para la extracción minera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j. Rajo de Chuquicamat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7AF-7350-4814-B835-813329D59BC6}" type="slidenum">
              <a:t>1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ntYesoCienpozuelo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684-1100-4ECB-93FB-C2A568F51239}" type="slidenum">
              <a:t>1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929664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curs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 y que es un posible blanco de extracción económic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servas Miner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Porción o volumen de un Recurso Mineral en el que se han, efectuado estudios técnicos y económicos. El vol. y ley permiten establecer la vida del yacimient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49C-8CFF-4E40-9B01-6F19804653FE}" type="slidenum">
              <a:t>1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98280"/>
            <a:ext cx="962352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. Se expresa como porcentaje, ppm, ppb, etc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251-DFD9-4394-8FC0-457C1D4AC4FE}" type="slidenum">
              <a:t>1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762120"/>
            <a:ext cx="9240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 u="sng">
                <a:solidFill>
                  <a:srgbClr val="000000"/>
                </a:solidFill>
                <a:uFillTx/>
                <a:latin typeface="Verdana"/>
              </a:rPr>
              <a:t>Según orig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1.Hidrotermales (primarios o hipó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tapas tardías de la cristalización magmática. Se les suele separar en dos subcatego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(700-250 ºC)       Epitermales(&gt;250º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2.Sedi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centración producto de procesos gravitacionales, transporte diferencial, meteorización diferencial, factores morf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52280"/>
            <a:ext cx="7309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Tipos de Depó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48F-5A57-455B-9045-66BDD4403D77}" type="slidenum">
              <a:t>1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28600"/>
            <a:ext cx="96775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Secundarios (supér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ósitos hidrotermales expuestos a condiciones superficiales ( alzamiento, erosión), que bajo dichas condiciones interactúan con las aguas meteóricas, las que disuelven y reconcentran la mineralización prim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sección  vertical típica presenta tres niveles de techo a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 Zona de Oxidación y Lixivi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 Zona de enriquecimient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 Zona de mineraliza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6DB-FE15-49C7-904B-2EEF592614DB}" type="slidenum">
              <a:t>1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228600"/>
            <a:ext cx="9601200" cy="68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Según  la geometría de la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órfido Cuprífe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en Stockworks (vetillas) y dise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oligad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Cuerpos mineralizados tienen forma de estrato , capa o manto, y son concordantes con la miner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etiform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de forma tabular, corresponden generalmente a fracturas rell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ip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con forma de cono invertido, generalmente asociados a la formación de brechas magmáticas, magmático-hidrotermales o hidroterm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0A6-6E2F-4C8F-927A-FB430E1696F3}" type="slidenum">
              <a:t>1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95520" y="503280"/>
            <a:ext cx="7392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OLOGÍA ECONÓ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4880" y="1763640"/>
            <a:ext cx="46213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3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Natura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28840" y="2855880"/>
            <a:ext cx="1595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Ener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7080" y="4535640"/>
            <a:ext cx="3863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Miner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200480"/>
            <a:ext cx="2016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Geoter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03520" y="4200480"/>
            <a:ext cx="159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Petr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08240" y="6048360"/>
            <a:ext cx="302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35880" y="6048360"/>
            <a:ext cx="3444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No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2268360"/>
            <a:ext cx="839880" cy="21830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4956120"/>
            <a:ext cx="1428840" cy="1092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68600" y="4956120"/>
            <a:ext cx="1176120" cy="11764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92240" y="3276720"/>
            <a:ext cx="92376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2600" y="3276720"/>
            <a:ext cx="100800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184480" y="2268360"/>
            <a:ext cx="1931760" cy="6717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516-E698-4435-AADD-21AA76F4DC50}" type="slidenum">
              <a:t>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9524880" cy="693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ASIFICACION Y RESUMEN  DE PROCESOS MINERALIZADOR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NDÓGENOS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Cristalización Magmátic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Precipitación de minerales como constituyentes de un magm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Diamant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n Kimberlit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nitoid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mo rocas hornament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BF1-5FE8-4999-96CE-92ED3D78D5B0}" type="slidenum">
              <a:t>2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pediam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53256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31D-6DED-45B4-898C-5EBD5F564FB6}" type="slidenum">
              <a:t>2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851760" cy="609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egregación Magmat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ristalización Fraccionada, Diferenciación Magmática, inmiscibilidad de liquidos, precipitación de súlfu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Alteración Hidroter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ositación desde soluciones de origen magmático, metamórfico, meteórico y mari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s Cuprífe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huquicamata, El Tenient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tas Auríferas del In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5B3-590E-4A89-B942-81A3792D0EE7}" type="slidenum">
              <a:t>2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etamórf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etamorfismo de contacto, Metamorfismo Regional princip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ármo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Ska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180-D381-400D-B2CE-25B0235A17B3}" type="slidenum">
              <a:t>2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istpofido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914400"/>
            <a:ext cx="10080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113-5824-49D1-ADB5-6D29EFAF2F6D}" type="slidenum">
              <a:t>24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vol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004760"/>
            <a:ext cx="8763120" cy="57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F42-1840-4D91-BC13-077FA49B771A}" type="slidenum">
              <a:t>25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3C4-51CB-42F0-A979-4C35324AB8F3}" type="slidenum">
              <a:t>26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kar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14400" y="457200"/>
            <a:ext cx="830592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C2A-C5DD-4DF7-9118-53D3D271113D}" type="slidenum">
              <a:t>2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karnmuestra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5ED-5A62-42EB-B430-75BFA47FA0BC}" type="slidenum">
              <a:t>2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OS EXÓGENO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9396360" cy="541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xhalativos, Superficiales, Volcanogén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xhalación de soluciones hidrotermales en superficie, generalmente en condiciones submarin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Volcanes Submarinos Modern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piterm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144-4F52-49D2-9C6A-466F9614AD46}" type="slidenum">
              <a:t>2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57200"/>
            <a:ext cx="914400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Los depósitos minerales constituyen concentraciones anómalas de un(os) elemento(s) en la corteza terrestre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Para que un determinado elemento llegue a constituir un yacimiento explotable el metal debe estar concentrado muy por encima de su abundancia media en la corteza terrestr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l grado de enriquecimiento varía para cada elemento dependiendo de su valo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52A-450F-4C55-8F65-4CC9E7534205}" type="slidenum">
              <a:t>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lackSmokersPeq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4000"/>
            <a:ext cx="10080720" cy="72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ADC-BF57-40DC-B468-69A21FB6F33B}" type="slidenum">
              <a:t>30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xógenos II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Sedimentarios Alóctonos (clásticos)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ncentración de minerales pesados y durables, en sedimentos clást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Placeres de Au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Arenas Silíce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vas de uso industrial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368-7960-4236-ABD4-C965F5146DCA}" type="slidenum">
              <a:t>3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laceresfluviale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076-CE77-4512-BA1D-E69C9B44FEB0}" type="slidenum">
              <a:t>32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amnatesplacere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65120"/>
            <a:ext cx="8686800" cy="709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B06-EC9E-41E0-A869-E761BF37F2F7}" type="slidenum">
              <a:t>33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967752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CURSOS ENERGÉTICO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E ORIGEN ORGÁNIC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9601200" cy="571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cumulación, degradación y evolución de restos orgánicos hasta su 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entramp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diciones anaeróbicas y un gradiente P-T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Carbón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: Hojas, Tallos y Tron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Hidrocarburos(petróleo,gas natural, asfaltos).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Plancton, Algas y Bacte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ma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Reservo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406-25E9-4BD9-A3EE-B048F23533E3}" type="slidenum">
              <a:t>34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380880"/>
            <a:ext cx="8569440" cy="640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a lograr una acumulación de hidrocarburos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debe producir el siguiente ciclo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60600" y="2100240"/>
            <a:ext cx="2940120" cy="3106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6840" y="5291280"/>
            <a:ext cx="134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dre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1520" y="5627520"/>
            <a:ext cx="235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5796000"/>
            <a:ext cx="2016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4120" y="5375160"/>
            <a:ext cx="176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ervo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544720" y="2268360"/>
            <a:ext cx="1174680" cy="260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679400"/>
            <a:ext cx="1260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Tram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6480" y="2771640"/>
            <a:ext cx="1847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D3D-6313-46D1-87AB-2038067089DD}" type="slidenum">
              <a:t>3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nticlinetrap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9220320" cy="73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03F-2EA1-4D31-9EA1-291B3CD768D9}" type="slidenum">
              <a:t>36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faulttrap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9296280" cy="703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4EF-BC77-41AB-93BD-14CD56CFDB94}" type="slidenum">
              <a:t>3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tratigraphictrapd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52280"/>
            <a:ext cx="8153640" cy="71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571-C61C-4EBA-B218-BCAAC21E5956}" type="slidenum">
              <a:t>3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16360" y="2660760"/>
            <a:ext cx="223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829-E2AA-41F9-BC93-03FC7701E376}" type="slidenum">
              <a:t>3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981080"/>
          <a:ext cx="96994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9699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7840" y="252360"/>
            <a:ext cx="9129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1E5-127B-4C12-B79F-0C5BEB0B4155}" type="slidenum">
              <a:t>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96775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PÓSITOS MINERALE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LGUNAS 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Concentración anómala de un mineral que se considera valiosa por alguien en alguna parte o que es de interés científico o técn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Es una ocurrencia mineral (concentración anómala de un mineral o elemento metálico) de tamaño (volumen) y ley suficiente para que en circunstancias favorables, sea considerado con potencial económ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C08-0125-4A06-AE2F-EB2D7FA85EDA}" type="slidenum">
              <a:t>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80880"/>
            <a:ext cx="9220320" cy="73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119-C0F6-4BF5-9B66-79A46C4BB4CC}" type="slidenum">
              <a:t>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28600"/>
            <a:ext cx="9753840" cy="73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ineral o minerales que pueden ser  extraídos de una roca con ganancia económica (utilidad). Es  utilizable, tal como se extrae o uno o más componentes  se pueden recuperar, separar, trata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quellos minerales los cuales ocurren con los minerales de mena, pero que no tienen valor económic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6CA-4199-4C3B-91B9-6CBA2E7D22FD}" type="slidenum">
              <a:t>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0"/>
            <a:ext cx="922032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,y ha minerales asociados que permiten la sobreconcentración  de ellos(pirita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Hipógena o Prim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endógena, es decir producida por procesos internos de la tierra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49E-8ED8-4F98-B96D-FCD69F091FC9}" type="slidenum">
              <a:t>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3CB-399B-4F92-B5AD-271D05F41E6D}" type="slidenum">
              <a:t>9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9:18:16Z</dcterms:created>
  <dc:creator/>
  <dc:description/>
  <dc:language>en-US</dc:language>
  <cp:lastModifiedBy>digaytan</cp:lastModifiedBy>
  <dcterms:modified xsi:type="dcterms:W3CDTF">2004-10-26T22:08:51Z</dcterms:modified>
  <cp:revision>17</cp:revision>
  <dc:subject/>
  <dc:title>GEOLOGIA ECONOMICA</dc:title>
</cp:coreProperties>
</file>