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cashreg.wav" ContentType="audio/x-wav"/>
  <Override PartName="/ppt/media/image12.jpeg" ContentType="image/jpeg"/>
  <Override PartName="/ppt/media/image13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10080625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103E-A5A4-49F4-A045-ACAAEA9F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90154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360" y="4481280"/>
            <a:ext cx="90154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ACA4-5A28-40C1-9941-A0C59915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436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388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1950-74EF-4E8D-A99C-8B77525AD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52480" y="207972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00600" y="207972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360" y="448128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52480" y="448128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00600" y="448128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5D1B-15A9-481C-ACEB-88745A94B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6854-B9C8-4AEA-822C-2430E53EE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4360" y="2079720"/>
            <a:ext cx="901548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B18E-A152-4AEA-A660-4D0358C4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901548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EF65-CCE7-4B31-81E8-6F83E299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7FEA-1EA0-49FC-AEA1-D8971CA3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FE26-B57B-4B2A-9DFD-89662A6D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47840" y="252000"/>
            <a:ext cx="91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9E0C-AD64-4251-927A-2546467D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436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EE3E-0F50-4F06-9B65-99CCE254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4360" y="2079720"/>
            <a:ext cx="901548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E952-C210-4925-8D33-1B7CA857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2388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5E8E-92B3-439C-BB4B-B51C0C12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360" y="4481280"/>
            <a:ext cx="90154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B19F-7DED-4022-80E6-CD1175A3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90154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360" y="4481280"/>
            <a:ext cx="90154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3FB4-241F-4401-AB5C-738AAA78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36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2388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E802-9E01-4380-B847-CAB327842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52480" y="207972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00600" y="207972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360" y="448128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52480" y="448128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00600" y="448128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802D-F836-4C6E-866C-D6F7387C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901548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5648-7ED8-4A71-A4EF-B0D46193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4B1B-1C7D-417E-B9F4-880C6507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144E-40CB-4C46-8332-76DC5D93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47840" y="252000"/>
            <a:ext cx="91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FA1C-14E6-47AE-83FC-93875D1D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436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4DE7-6410-4E41-BEDB-2DFA9C41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388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C0F7-C3E4-486D-976B-536A5F4F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481280"/>
            <a:ext cx="90154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4148-A84D-4790-B0B5-70567F38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2079720"/>
            <a:ext cx="901548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315720">
              <a:spcBef>
                <a:spcPts val="876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876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lvl="3" marL="1763640" indent="-252360">
              <a:spcBef>
                <a:spcPts val="876"/>
              </a:spcBef>
              <a:buClr>
                <a:srgbClr val="ffcc00"/>
              </a:buClr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6280" y="6865920"/>
            <a:ext cx="210024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65920"/>
            <a:ext cx="319104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19960" y="6865920"/>
            <a:ext cx="210024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0960D55B-4FE9-4F53-AA32-891B45102345}" type="slidenum">
              <a:rPr b="0" lang="en-US" sz="15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1008000" y="1449360"/>
            <a:ext cx="9072720" cy="42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4360" y="755280"/>
            <a:ext cx="92394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83720" y="6865560"/>
            <a:ext cx="2127240" cy="568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71840" y="6865560"/>
            <a:ext cx="3137040" cy="568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80280" y="6865560"/>
            <a:ext cx="2016000" cy="568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9CAFDA0A-2998-4CE5-AE0E-D3D9A43C893F}" type="slidenum">
              <a:rPr b="0" lang="en-US" sz="15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1008000" y="2016000"/>
            <a:ext cx="9072720" cy="42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5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6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8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0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11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3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image" Target="../media/image16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9440" y="89532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GEOLOGIA ECONOMICA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785880" y="3273120"/>
            <a:ext cx="860580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16000" indent="-21600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 Geología Económica corresponde esencialmente al estudio de depósitos minerales. Esto incluye tanto recursos metálicos, minerales industriales (no metálicos) y tambien los combusti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1F09-10C9-4BEE-ABAF-68C594D9B9A6}" type="slidenum">
              <a:t>1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320" y="304920"/>
            <a:ext cx="9851760" cy="70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Definiciones Básicas 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Supérgena o Secundaria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Mineralización o efectos exógenos sobre cuerpos mineralizados, como meteorización, oxidación, descomposición de minerales y formación de nuevos minerales estables en el ambiente supérgeno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88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18AF-597E-4DE8-91C6-20B4701DC6E6}" type="slidenum">
              <a:t>10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sidual-enriquesido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838080"/>
            <a:ext cx="10080720" cy="555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FBC4-E366-49B3-BC65-A5F6424191B2}" type="slidenum">
              <a:t>11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efiniciones Básicas V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92966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Yacimiento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Depósito mineral que ha sido examinado y ha probado tener suficiente tamaño, ley y accesibilidad, como para ser puesto en producción y ser rentable.La rentabilidad de un yacimiento depende de sus características intrínsecas (como tonelaje y ley), y depende de condiciones ajenas al cuerpo mineral, como las tasas de impuesto, precio de metales, etc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6E8F-2ED7-44B5-92FF-215CB3BA02F3}" type="slidenum">
              <a:t>12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efiniciones Básicas V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605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664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Mina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664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Corresponde a las labores de explotación de un yacimiento, las que pueden ser subterráneas o a cielo abierto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664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664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Rajo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664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Excavación a cielo abierto para la extracción minera. 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664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Ej. Rajo de Chuquicamata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68FE-6C4B-4B74-8C66-0AD31BAEE17F}" type="slidenum">
              <a:t>13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CantYesoCienpozuelos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080720" cy="756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ECE3-07D6-4BDB-8813-021F19E7882C}" type="slidenum">
              <a:t>14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380880"/>
            <a:ext cx="9296640" cy="68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Definiciones básicas VI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Recurso Mineral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Tonelaje o volumen de roca mineralizada de interés económico intrínseco, cuyas leyes, límites y otras características apropiadas están conocidas con cierto grado de certeza y que es un posible blanco de extracción económic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Reservas Minerale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Porción o volumen de un Recurso Mineral en el que se han, efectuado estudios técnicos y económicos. El vol. y ley permiten establecer la vida del yacimiento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B4A2-3C31-4033-8AB3-ABE9C567EF0D}" type="slidenum">
              <a:t>15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28600" y="98280"/>
            <a:ext cx="9623520" cy="75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Definiciones básicas 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400" spc="-1" strike="noStrike">
                <a:solidFill>
                  <a:srgbClr val="000000"/>
                </a:solidFill>
                <a:latin typeface="Tahoma"/>
              </a:rPr>
              <a:t>Ley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Tahoma"/>
              </a:rPr>
              <a:t>Grado de concentración de un elemento en el cuerpo mineralizado. Se expresa como porcentaje, ppm, ppb, etc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400" spc="-1" strike="noStrike">
                <a:solidFill>
                  <a:srgbClr val="000000"/>
                </a:solidFill>
                <a:latin typeface="Tahoma"/>
              </a:rPr>
              <a:t>Ley de Cort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Tahoma"/>
              </a:rPr>
              <a:t>Grado mínimo de concentración, para que la explotación sea rentabl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DB90-CB7C-49E1-B12E-38907EB416C0}" type="slidenum">
              <a:t>16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4920" y="762120"/>
            <a:ext cx="924084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426960" indent="-3286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3100" spc="-1" strike="noStrike" u="sng">
                <a:solidFill>
                  <a:srgbClr val="000000"/>
                </a:solidFill>
                <a:uFillTx/>
                <a:latin typeface="Verdana"/>
              </a:rPr>
              <a:t>Según orige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1.Hidrotermales (primarios o hipógen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tapas tardías de la cristalización magmática. Se les suele separar en dos subcategorí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Pórfido(700-250 ºC)       Epitermales(&gt;250º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2.Sediment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centración producto de procesos gravitacionales, transporte diferencial, meteorización diferencial, factores morfológ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just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152280"/>
            <a:ext cx="7309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 Black"/>
              </a:rPr>
              <a:t>Tipos de Depósi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F6B7-5D27-46B2-A55C-A52CF542BE8C}" type="slidenum">
              <a:t>17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2280" y="228600"/>
            <a:ext cx="9677520" cy="62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i="1" lang="es-ES_tradnl" sz="2800" spc="-1" strike="noStrike">
                <a:solidFill>
                  <a:srgbClr val="000000"/>
                </a:solidFill>
                <a:latin typeface="Verdana"/>
              </a:rPr>
              <a:t>Secundarios (supérgen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epósitos hidrotermales expuestos a condiciones superficiales ( alzamiento, erosión), que bajo dichas condiciones interactúan con las aguas meteóricas, las que disuelven y reconcentran la mineralización primar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a sección  vertical típica presenta tres niveles de techo a ba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1. Zona de Oxidación y Lixiviació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2. Zona de enriquecimiento secund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3. Zona de mineralización pri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D27F-9429-43CB-92C1-54840B4CE1AF}" type="slidenum">
              <a:t>18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" y="228600"/>
            <a:ext cx="9601200" cy="68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Verdana"/>
              </a:rPr>
              <a:t>Según  la geometría de la miner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órfido Cuprífero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en Stockworks (vetillas) y disemin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tratoligado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Cuerpos mineralizados tienen forma de estrato , capa o manto, y son concordantes con la mineraliz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Vetiform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Cuerpos mineralizados de forma tabular, corresponden generalmente a fracturas relle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ip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Cuerpos Mineralizados con forma de cono invertido, generalmente asociados a la formación de brechas magmáticas, magmático-hidrotermales o hidroterm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1513-251A-46C7-A98B-AD38FB37EBB8}" type="slidenum">
              <a:t>19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95520" y="503280"/>
            <a:ext cx="73929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GEOLOGÍA ECONÓM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74880" y="1763640"/>
            <a:ext cx="462132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3100" spc="-1" strike="noStrike">
                <a:solidFill>
                  <a:srgbClr val="000000"/>
                </a:solidFill>
                <a:latin typeface="Bookman Old Style"/>
              </a:rPr>
              <a:t>Recursos</a:t>
            </a:r>
            <a:r>
              <a:rPr b="0" lang="es-ES_tradnl" sz="31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_tradnl" sz="3100" spc="-1" strike="noStrike">
                <a:solidFill>
                  <a:srgbClr val="000000"/>
                </a:solidFill>
                <a:latin typeface="Bookman Old Style"/>
              </a:rPr>
              <a:t>Natural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28840" y="2855880"/>
            <a:ext cx="15955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Energí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37080" y="4535640"/>
            <a:ext cx="38638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Recursos</a:t>
            </a:r>
            <a:r>
              <a:rPr b="0" lang="es-ES_tradnl" sz="2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Miner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200480"/>
            <a:ext cx="20160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Geoter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03520" y="4200480"/>
            <a:ext cx="159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Petró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08240" y="6048360"/>
            <a:ext cx="30243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Minería Metá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35880" y="6048360"/>
            <a:ext cx="34448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Minería No Metá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45080" y="2268360"/>
            <a:ext cx="839880" cy="21830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04000" y="4956120"/>
            <a:ext cx="1428840" cy="10922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368600" y="4956120"/>
            <a:ext cx="1176120" cy="117648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092240" y="3276720"/>
            <a:ext cx="923760" cy="100620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52600" y="3276720"/>
            <a:ext cx="1008000" cy="100620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184480" y="2268360"/>
            <a:ext cx="1931760" cy="67176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668B-E21D-4820-8CDC-69B4B7F683E3}" type="slidenum">
              <a:t>2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9524880" cy="693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LASIFICACION Y RESUMEN  DE PROCESOS MINERALIZADORES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OCESOS ENDÓGENOS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Cristalización Magmática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Precipitación de minerales como constituyentes de un magma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Diamantes </a:t>
            </a: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en Kimberlita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Granitoides </a:t>
            </a: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como rocas hornamentale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88F2-A16A-42BB-A0B7-87FCD0E64C0D}" type="slidenum">
              <a:t>20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pediam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3880" y="0"/>
            <a:ext cx="6532560" cy="755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EBCE-324B-46B5-82C8-31481FFFB74F}" type="slidenum">
              <a:t>21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72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Procesos Endógenos II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9851760" cy="6095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Segregación Magmatic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ristalización Fraccionada, Diferenciación Magmática, inmiscibilidad de liquidos, precipitación de súlfur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Alteración Hidroterm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epositación desde soluciones de origen magmático, metamórfico, meteórico y marin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Pórfidos Cuprífer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huquicamata, El Teniente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Vetas Auríferas del Ind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EBDD-B1B4-48BD-8091-FCF4E13E6D46}" type="slidenum">
              <a:t>22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9601200" cy="685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Procesos Endógenos II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Metamórfic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Metamorfismo de contacto, Metamorfismo Regional principalm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Mármo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Skar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AAA4-EFEA-4726-99A4-FCF4706F3488}" type="slidenum">
              <a:t>23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distpofidos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914400"/>
            <a:ext cx="10080720" cy="583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CA4A-D72F-42CF-ABF6-730FDE1B90FE}" type="slidenum">
              <a:t>24</a:t>
            </a:fld>
          </a:p>
        </p:txBody>
      </p:sp>
    </p:spTree>
  </p:cSld>
  <p:transition spd="med">
    <p:zoom dir="in"/>
    <p:sndAc>
      <p:stSnd>
        <p:snd r:embed="rId2" name="cashreg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EvolPorfirisP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1004760"/>
            <a:ext cx="8763120" cy="570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8842-A674-44AD-9060-CD9313324122}" type="slidenum">
              <a:t>25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orfirisP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B7FB-F7E6-44C1-8C97-9ADF3F18F9A0}" type="slidenum">
              <a:t>26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skarn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914400" y="457200"/>
            <a:ext cx="8305920" cy="672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77DA-BF98-4ACE-B3D2-6BC62E0A47FD}" type="slidenum">
              <a:t>27</a:t>
            </a:fld>
          </a:p>
        </p:txBody>
      </p:sp>
    </p:spTree>
  </p:cSld>
  <p:transition spd="med">
    <p:zoom dir="in"/>
    <p:sndAc>
      <p:stSnd>
        <p:snd r:embed="rId2" name="cashreg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skarnmuestra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BE8E-3CC2-4918-892C-B4A38B5EDDE0}" type="slidenum">
              <a:t>28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OCESOS EXÓGENO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9396360" cy="5410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Exhalativos, Superficiales, Volcanogénico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Exhalación de soluciones hidrotermales en superficie, generalmente en condiciones submarina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Volcanes Submarinos Moderno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Epitermale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7933-CB94-4D91-B57D-65453814EF3D}" type="slidenum">
              <a:t>29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457200"/>
            <a:ext cx="9144000" cy="69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Procesos Mineralizad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Los depósitos minerales constituyen concentraciones anómalas de un(os) elemento(s) en la corteza terrestre.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Para que un determinado elemento llegue a constituir un yacimiento explotable el metal debe estar concentrado muy por encima de su abundancia media en la corteza terrestr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El grado de enriquecimiento varía para cada elemento dependiendo de su valor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6F5D-3F2C-488E-942A-FD8203374AF1}" type="slidenum">
              <a:t>3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BlackSmokersPeq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24000"/>
            <a:ext cx="10080720" cy="723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D0D5-C117-4D26-AE5D-5C22A41B845F}" type="slidenum">
              <a:t>30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ocesos Exógenos II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901548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Sedimentarios Alóctonos (clásticos)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Concentración de minerales pesados y durables, en sedimentos clástico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Placeres de Au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Arenas Silícea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Gravas de uso industrial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9904-BC03-4AE6-A096-865C83071FAF}" type="slidenum">
              <a:t>31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laceresfluviales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675F-B3D0-4A4B-BC05-3E0FAE293EBB}" type="slidenum">
              <a:t>32</a:t>
            </a:fld>
          </a:p>
        </p:txBody>
      </p:sp>
    </p:spTree>
  </p:cSld>
  <p:transition spd="med">
    <p:zoom dir="in"/>
    <p:sndAc>
      <p:stSnd>
        <p:snd r:embed="rId2" name="cashreg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diamnatesplaceres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465120"/>
            <a:ext cx="8686800" cy="7094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CC21-B757-449E-97E1-320645E2B73C}" type="slidenum">
              <a:t>33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9677520" cy="105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CURSOS ENERGÉTICOS 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DE ORIGEN ORGÁNICO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9601200" cy="571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Acumulación, degradación y evolución de restos orgánicos hasta su </a:t>
            </a: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entrampami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Condiciones anaeróbicas y un gradiente P-T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Carbón</a:t>
            </a: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: Hojas, Tallos y Tron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Hidrocarburos(petróleo,gas natural, asfaltos).</a:t>
            </a: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 Plancton, Algas y Bacteri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Roca mad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Roca Reservori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0257-AA2E-4873-9DF0-2CEF7CFEBFE9}" type="slidenum">
              <a:t>34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755640" y="380880"/>
            <a:ext cx="8569440" cy="6407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Para lograr una acumulación de hidrocarburos,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se debe producir el siguiente ciclo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360600" y="2100240"/>
            <a:ext cx="2940120" cy="31068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6840" y="5291280"/>
            <a:ext cx="1343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Roc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dre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11520" y="5627520"/>
            <a:ext cx="2352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80000" y="5796000"/>
            <a:ext cx="2016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IG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IM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64120" y="5375160"/>
            <a:ext cx="1764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Roc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Reservor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5544720" y="2268360"/>
            <a:ext cx="1174680" cy="260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84720" y="1679400"/>
            <a:ext cx="12603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Tram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16480" y="2771640"/>
            <a:ext cx="1847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IG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CCFC-6793-4CAB-9D7E-F86784040EB0}" type="slidenum">
              <a:t>35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anticlinetrap" descr=""/>
          <p:cNvPicPr/>
          <p:nvPr/>
        </p:nvPicPr>
        <p:blipFill>
          <a:blip r:embed="rId1"/>
          <a:stretch/>
        </p:blipFill>
        <p:spPr>
          <a:xfrm>
            <a:off x="380880" y="76320"/>
            <a:ext cx="9220320" cy="735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EF03-0981-464F-BC20-7BD66B92E1DB}" type="slidenum">
              <a:t>36</a:t>
            </a:fld>
          </a:p>
        </p:txBody>
      </p:sp>
    </p:spTree>
  </p:cSld>
  <p:transition spd="med">
    <p:zoom dir="in"/>
    <p:sndAc>
      <p:stSnd>
        <p:snd r:embed="rId2" name="cashreg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faulttrap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9296280" cy="703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7827-85F6-461D-9F60-0173914148E7}" type="slidenum">
              <a:t>37</a:t>
            </a:fld>
          </a:p>
        </p:txBody>
      </p:sp>
    </p:spTree>
  </p:cSld>
  <p:transition spd="med">
    <p:zoom dir="in"/>
    <p:sndAc>
      <p:stSnd>
        <p:snd r:embed="rId2" name="cashreg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stratigraphictrapd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66680" y="152280"/>
            <a:ext cx="8153640" cy="713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22AF-00B8-4B9E-8EFA-1DE219095D03}" type="slidenum">
              <a:t>38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16360" y="2660760"/>
            <a:ext cx="2233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0" spc="-1" strike="noStrike">
                <a:solidFill>
                  <a:srgbClr val="000000"/>
                </a:solidFill>
                <a:latin typeface="Verdana"/>
              </a:rPr>
              <a:t>FIN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52F1-F9B6-41EA-AF0D-8DA5778F3C47}" type="slidenum">
              <a:t>39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228600" y="1981080"/>
          <a:ext cx="969948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81080"/>
                    <a:ext cx="969948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447840" y="252360"/>
            <a:ext cx="91296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Procesos Mineralizadore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8CCE-46AA-4472-970E-6D1CB57EBF47}" type="slidenum">
              <a:t>4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152280"/>
            <a:ext cx="9677520" cy="70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EPÓSITOS MINERALES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ALGUNAS DEFINICIONES BÁS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Ocurrencia Mineral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Concentración anómala de un mineral que se considera valiosa por alguien en alguna parte o que es de interés científico o técnico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Depósito Mineral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Es una ocurrencia mineral (concentración anómala de un mineral o elemento metálico) de tamaño (volumen) y ley suficiente para que en circunstancias favorables, sea considerado con potencial económico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4631-7627-4C18-BFC4-01A0415369AF}" type="slidenum">
              <a:t>5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380880"/>
            <a:ext cx="9220320" cy="73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Definiciones Básicas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Roca de caj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La roca que rodea al depósito, por ejemplo las rocas a ambos lados de una vet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Roca huésped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La roca dentro de la cual se presenta el depósito mineral. Ej. Pórfido Chuqui en Chuquicamat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Estéril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Término minero utilizado para referirse a la roca que no constituye mena explotable, en oposición a rocas mineralizadas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2B74-77CA-46F9-9FA4-7268EF0C6B1C}" type="slidenum">
              <a:t>6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2280" y="228600"/>
            <a:ext cx="9753840" cy="73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Definiciones Básicas I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ahoma"/>
              </a:rPr>
              <a:t>Mena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Mineral o minerales que pueden ser  extraídos de una roca con ganancia económica (utilidad). Es  utilizable, tal como se extrae o uno o más componentes  se pueden recuperar, separar, tratar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Ej. Menas de Cu: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Calcopirita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(CuFeS2),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Bornita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(Cu5FeS4),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Calcosina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(Cu2S)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ahoma"/>
              </a:rPr>
              <a:t>Ganga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Aquellos minerales los cuales ocurren con los minerales de mena, pero que no tienen valor económico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Ej.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Cuarzo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(SiO2),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Calcita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(CaCO3) o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Pirita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(FeS2)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FAA2-8AC3-49ED-8465-1D7C946FB157}" type="slidenum">
              <a:t>7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0"/>
            <a:ext cx="9220320" cy="71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Definiciones Básicas I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Mineralización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Se refiere usualmente a procesos formadores de minerales de mena,y ha minerales asociados que permiten la sobreconcentración  de ellos(pirita)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Hipógena o Primaria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Mineralización endógena, es decir producida por procesos internos de la tierra.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3528-1D7D-4190-A729-4C6B2A74127E}" type="slidenum">
              <a:t>8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orfirisP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7145-D327-4C63-B7C2-A48FC13302B1}" type="slidenum">
              <a:t>9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2T19:18:16Z</dcterms:created>
  <dc:creator/>
  <dc:description/>
  <dc:language>en-US</dc:language>
  <cp:lastModifiedBy>digaytan</cp:lastModifiedBy>
  <dcterms:modified xsi:type="dcterms:W3CDTF">2004-10-26T22:08:51Z</dcterms:modified>
  <cp:revision>17</cp:revision>
  <dc:subject/>
  <dc:title>GEOLOGIA ECONOMICA</dc:title>
</cp:coreProperties>
</file>