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cashreg.wav" ContentType="audio/x-wav"/>
  <Override PartName="/ppt/media/image12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B5E-785F-4C4B-B8D3-0027E1F9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108-2D18-467C-B43D-F036C33D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EE5-A4F5-45CB-B75D-F8940A29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C99-D8F8-40D4-93A3-866D9B76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B12-14BC-44C5-B8A8-6CB04FDD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148B-FB23-40A9-9B2C-091167EC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E4CF-41D3-468E-A1E3-8FE9CC77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107B-85D5-4ECE-84F4-3100D55C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6353-B836-41F5-AA8B-2623907B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87DD-151B-4B79-859A-3C3F61C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37A0-6F6A-4872-82C2-4F2E0B39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820-8ECA-48F7-B91B-05CEF33C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8BD8-9D26-4CDF-99D9-0C2AA74F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8A9D-F779-4752-92C2-835994FC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EB71-8FBC-47CB-A47C-755706A7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1BE7-6A30-4F7B-9A93-A4FC3068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168F-94BA-40C7-9EF1-0CF5D4B4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005-E0C7-43F8-A23F-353C284D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EC1-5689-4542-8728-2DD8EB02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853-7F60-445C-984A-2951260D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784-F001-4CC7-B8D9-3A1735D9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722-91C5-4FAC-8518-09DB94C4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F8B-92C8-4BE5-8121-0D0D20C0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E9B-8919-4EA0-8985-35ECC538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6592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1996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B85106F-AE80-4E65-9E23-2E53B6790665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1008000" y="1449360"/>
            <a:ext cx="907272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755280"/>
            <a:ext cx="92394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83720" y="6865560"/>
            <a:ext cx="21272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71840" y="6865560"/>
            <a:ext cx="31370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80280" y="6865560"/>
            <a:ext cx="201600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6B91707-5874-4069-9190-151B778D3106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1008000" y="2016000"/>
            <a:ext cx="9072720" cy="4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8953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GEOLOGIA ECONOMIC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785880" y="3273120"/>
            <a:ext cx="86058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D86-15C7-4724-AA4E-796855F7EAD3}" type="slidenum">
              <a:t>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304920"/>
            <a:ext cx="9851760" cy="70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Supérgena o Secund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o efectos exógenos sobre cuerpos mineralizados, como meteorización, oxidación, descomposición de minerales y formación de nuevos minerales estables en el ambiente supérgen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05D-E8B8-4924-8501-3AE41DA4FB93}" type="slidenum">
              <a:t>1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sidual-enriquesid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10080720" cy="555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C14-6507-4CEF-BDF7-AA8E09A6CC74}" type="slidenum">
              <a:t>1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296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Yacimien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Depósito mineral que ha sido examinado y ha probado tener suficiente tamaño, ley y accesibilidad, como para ser puesto en producción y ser rentable.La rentabilidad de un yacimiento depende de sus características intrínsecas (como tonelaje y ley), y depende de condiciones ajenas al cuerpo mineral, como las tasas de impuesto, precio de metales, etc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D10-87D9-40E0-97C9-FBE0505865A2}" type="slidenum">
              <a:t>1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605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Corresponde a las labores de explotación de un yacimiento, las que pueden ser subterráneas o a cielo abier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Raj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xcavación a cielo abierto para la extracción minera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j. Rajo de Chuquicamat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DB0-B916-4A6A-8F7A-6333079CE256}" type="slidenum">
              <a:t>1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ntYesoCienpozuelo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6FD-ECFA-435A-8C1E-2ACE4E51115C}" type="slidenum">
              <a:t>1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929664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curs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 y que es un posible blanco de extracción económic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servas Miner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Porción o volumen de un Recurso Mineral en el que se han, efectuado estudios técnicos y económicos. El vol. y ley permiten establecer la vida del yacimient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290-B266-4004-8243-DCF807E6FCC2}" type="slidenum">
              <a:t>1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98280"/>
            <a:ext cx="962352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. Se expresa como porcentaje, ppm, ppb, etc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49F-81B1-48BD-9945-2C0D0E3200D9}" type="slidenum">
              <a:t>1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762120"/>
            <a:ext cx="9240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 u="sng">
                <a:solidFill>
                  <a:srgbClr val="000000"/>
                </a:solidFill>
                <a:uFillTx/>
                <a:latin typeface="Verdana"/>
              </a:rPr>
              <a:t>Según orig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1.Hidrotermales (primarios o hipó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tapas tardías de la cristalización magmática. Se les suele separar en dos subcatego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(700-250 ºC)       Epitermales(&gt;250º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2.Sedi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centración producto de procesos gravitacionales, transporte diferencial, meteorización diferencial, factores morf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52280"/>
            <a:ext cx="7309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Tipos de Depó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DED-8986-47E6-ADA3-C688938545C2}" type="slidenum">
              <a:t>1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28600"/>
            <a:ext cx="96775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Secundarios (supér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ósitos hidrotermales expuestos a condiciones superficiales ( alzamiento, erosión), que bajo dichas condiciones interactúan con las aguas meteóricas, las que disuelven y reconcentran la mineralización prim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sección  vertical típica presenta tres niveles de techo a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 Zona de Oxidación y Lixivi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 Zona de enriquecimient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 Zona de mineraliza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C74-8D47-4EAD-BA87-F9961F7F3567}" type="slidenum">
              <a:t>1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228600"/>
            <a:ext cx="9601200" cy="68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Según  la geometría de la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órfido Cuprífe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en Stockworks (vetillas) y dise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oligad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Cuerpos mineralizados tienen forma de estrato , capa o manto, y son concordantes con la miner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etiform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de forma tabular, corresponden generalmente a fracturas rell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ip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con forma de cono invertido, generalmente asociados a la formación de brechas magmáticas, magmático-hidrotermales o hidroterm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632-2A32-4D30-AA7E-3972945732AA}" type="slidenum">
              <a:t>1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95520" y="503280"/>
            <a:ext cx="7392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OLOGÍA ECONÓ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4880" y="1763640"/>
            <a:ext cx="46213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3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Natura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28840" y="2855880"/>
            <a:ext cx="1595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Ener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7080" y="4535640"/>
            <a:ext cx="3863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Miner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200480"/>
            <a:ext cx="2016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Geoter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03520" y="4200480"/>
            <a:ext cx="159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Petr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08240" y="6048360"/>
            <a:ext cx="302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35880" y="6048360"/>
            <a:ext cx="3444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No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2268360"/>
            <a:ext cx="839880" cy="21830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4956120"/>
            <a:ext cx="1428840" cy="1092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68600" y="4956120"/>
            <a:ext cx="1176120" cy="11764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92240" y="3276720"/>
            <a:ext cx="92376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2600" y="3276720"/>
            <a:ext cx="100800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184480" y="2268360"/>
            <a:ext cx="1931760" cy="6717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1F3-F2BC-48A1-AA34-E0C8D7CEAF1F}" type="slidenum">
              <a:t>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9524880" cy="693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ASIFICACION Y RESUMEN  DE PROCESOS MINERALIZADOR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NDÓGENOS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Cristalización Magmátic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Precipitación de minerales como constituyentes de un magm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Diamant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n Kimberlit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nitoid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mo rocas hornament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0F7-71ED-49E1-89E8-C7A59F14F50D}" type="slidenum">
              <a:t>2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pediam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53256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81C-0230-42DE-9916-A51ABF693242}" type="slidenum">
              <a:t>2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851760" cy="609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egregación Magmat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ristalización Fraccionada, Diferenciación Magmática, inmiscibilidad de liquidos, precipitación de súlfu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Alteración Hidroter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ositación desde soluciones de origen magmático, metamórfico, meteórico y mari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s Cuprífe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huquicamata, El Tenient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tas Auríferas del In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8DC-96AC-4019-BFF4-57A2A123AD43}" type="slidenum">
              <a:t>2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etamórf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etamorfismo de contacto, Metamorfismo Regional princip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ármo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Ska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5B8-25F7-4C70-946F-207E845A43BA}" type="slidenum">
              <a:t>2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istpofido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914400"/>
            <a:ext cx="10080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4E5-1D47-40F3-A9E9-A43A785DB649}" type="slidenum">
              <a:t>24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vol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004760"/>
            <a:ext cx="8763120" cy="57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93E-2C41-4CEE-8608-EE561CAA0D7D}" type="slidenum">
              <a:t>25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ABD-B959-44EF-822F-F7FA3C4F695D}" type="slidenum">
              <a:t>26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kar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14400" y="457200"/>
            <a:ext cx="830592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DE9-E64F-4F94-A7AB-A44007259C2F}" type="slidenum">
              <a:t>2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karnmuestra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DB1-8FD6-4256-A5C1-B5A6856DDDCA}" type="slidenum">
              <a:t>2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OS EXÓGENO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9396360" cy="541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xhalativos, Superficiales, Volcanogén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xhalación de soluciones hidrotermales en superficie, generalmente en condiciones submarin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Volcanes Submarinos Modern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piterm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817-5E5B-45FA-A2C3-0DE8504FF5AD}" type="slidenum">
              <a:t>2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57200"/>
            <a:ext cx="914400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Los depósitos minerales constituyen concentraciones anómalas de un(os) elemento(s) en la corteza terrestre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Para que un determinado elemento llegue a constituir un yacimiento explotable el metal debe estar concentrado muy por encima de su abundancia media en la corteza terrestr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l grado de enriquecimiento varía para cada elemento dependiendo de su valo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A7D-98DC-455E-9F9E-39005FA47F76}" type="slidenum">
              <a:t>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lackSmokersPeq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4000"/>
            <a:ext cx="10080720" cy="72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152-DD36-41D3-8D03-2540BD7A7847}" type="slidenum">
              <a:t>30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xógenos II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Sedimentarios Alóctonos (clásticos)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ncentración de minerales pesados y durables, en sedimentos clást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Placeres de Au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Arenas Silíce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vas de uso industrial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5FF-DDB9-42CD-846B-947042952623}" type="slidenum">
              <a:t>3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laceresfluviale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3FB-9A34-44F9-AD8D-1F1BEE0CFA57}" type="slidenum">
              <a:t>32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amnatesplacere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65120"/>
            <a:ext cx="8686800" cy="709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6CA-7DCE-475F-87A4-3766F93003FB}" type="slidenum">
              <a:t>33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967752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CURSOS ENERGÉTICO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E ORIGEN ORGÁNIC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9601200" cy="571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cumulación, degradación y evolución de restos orgánicos hasta su 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entramp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diciones anaeróbicas y un gradiente P-T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Carbón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: Hojas, Tallos y Tron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Hidrocarburos(petróleo,gas natural, asfaltos).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Plancton, Algas y Bacte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ma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Reservo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37E-8A72-4AD3-BD72-7E86C4ED8015}" type="slidenum">
              <a:t>34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380880"/>
            <a:ext cx="8569440" cy="640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a lograr una acumulación de hidrocarburos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debe producir el siguiente ciclo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60600" y="2100240"/>
            <a:ext cx="2940120" cy="3106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6840" y="5291280"/>
            <a:ext cx="134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dre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1520" y="5627520"/>
            <a:ext cx="235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5796000"/>
            <a:ext cx="2016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4120" y="5375160"/>
            <a:ext cx="176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ervo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544720" y="2268360"/>
            <a:ext cx="1174680" cy="260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679400"/>
            <a:ext cx="1260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Tram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6480" y="2771640"/>
            <a:ext cx="1847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F45-AF90-4132-8A6A-9C628EFB345E}" type="slidenum">
              <a:t>3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nticlinetrap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9220320" cy="73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170-669E-4224-BABD-5CA371BA4AB6}" type="slidenum">
              <a:t>36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faulttrap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9296280" cy="703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5EF-56C7-429D-B898-C76D3D283423}" type="slidenum">
              <a:t>3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tratigraphictrapd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52280"/>
            <a:ext cx="8153640" cy="71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3EC-B744-4395-BE95-D42C180ED111}" type="slidenum">
              <a:t>3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16360" y="2660760"/>
            <a:ext cx="223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E41-85CB-4B62-AA70-BA90ED655A07}" type="slidenum">
              <a:t>3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981080"/>
          <a:ext cx="96994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9699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7840" y="252360"/>
            <a:ext cx="9129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C79-A925-4737-A0B8-4A9C368C020D}" type="slidenum">
              <a:t>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96775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PÓSITOS MINERALE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LGUNAS 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Concentración anómala de un mineral que se considera valiosa por alguien en alguna parte o que es de interés científico o técn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Es una ocurrencia mineral (concentración anómala de un mineral o elemento metálico) de tamaño (volumen) y ley suficiente para que en circunstancias favorables, sea considerado con potencial económ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3DD-E670-44CE-B461-796B628DBFBE}" type="slidenum">
              <a:t>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80880"/>
            <a:ext cx="9220320" cy="73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A88-AA0B-4CE1-969A-E5E20CF4B4FF}" type="slidenum">
              <a:t>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28600"/>
            <a:ext cx="9753840" cy="73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ineral o minerales que pueden ser  extraídos de una roca con ganancia económica (utilidad). Es  utilizable, tal como se extrae o uno o más componentes  se pueden recuperar, separar, trata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quellos minerales los cuales ocurren con los minerales de mena, pero que no tienen valor económic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CD5-52E5-43D7-B0AE-B563B6C96051}" type="slidenum">
              <a:t>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0"/>
            <a:ext cx="922032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,y ha minerales asociados que permiten la sobreconcentración  de ellos(pirita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Hipógena o Prim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endógena, es decir producida por procesos internos de la tierra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954-70BB-495C-A371-7CC2869A1D14}" type="slidenum">
              <a:t>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625-FA31-41CC-9E69-553BF6025DDF}" type="slidenum">
              <a:t>9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9:18:16Z</dcterms:created>
  <dc:creator/>
  <dc:description/>
  <dc:language>en-US</dc:language>
  <cp:lastModifiedBy>digaytan</cp:lastModifiedBy>
  <dcterms:modified xsi:type="dcterms:W3CDTF">2004-10-26T22:08:51Z</dcterms:modified>
  <cp:revision>17</cp:revision>
  <dc:subject/>
  <dc:title>GEOLOGIA ECONOMICA</dc:title>
</cp:coreProperties>
</file>