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cashreg.wav" ContentType="audio/x-wav"/>
  <Override PartName="/ppt/media/image12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5C6-3797-4178-86CB-FD5C99DF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E06-A10A-4761-99F1-768C0665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65F-0287-411E-B2CF-0FD4D566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137-92EF-442B-A254-810A6BB8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541A-6BB8-4415-8EF6-4BC1C363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D47C-5B44-48FC-8A9F-A8501084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9FCC-09A6-42CD-BC8B-B7C260DA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3C49-68D8-4535-BA84-3F43F605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42D0-9A85-4E7C-9399-770125BE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8D9A-6A2F-473F-8518-3A2EEA15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66C8-9672-489F-9913-6BC3695D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97C-DC0E-440E-A340-965BA87B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372D-FD3A-474E-8F9A-1713B93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6CDB-F7EC-48B1-9D29-C2DC4F8B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A045-2E70-48DB-BB25-381FC1F6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BF45-3D7F-4628-A6C0-1B998391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5248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00600" y="207972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5248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00600" y="4481280"/>
            <a:ext cx="29026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3EDB-D5C3-440A-A40F-8B185DBA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D24-2074-467A-B3E9-916A97CF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E40-31C3-49E9-8225-F07B512C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B31-8C89-4926-BA8D-1F498C56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7840" y="252000"/>
            <a:ext cx="91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37BF-7DBC-44A4-A0E9-1ED92CD9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F87-F672-4B06-96CC-34A6C920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3880" y="448128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16D-D137-4119-B007-0B111152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3880" y="2079720"/>
            <a:ext cx="439920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481280"/>
            <a:ext cx="9015480" cy="219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E11-463F-4DEF-BC78-C830811A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31572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76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628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65920"/>
            <a:ext cx="31910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19960" y="6865920"/>
            <a:ext cx="210024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0D5A8782-A5AE-4668-9E92-7575DA3E2136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1008000" y="1449360"/>
            <a:ext cx="907272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360" y="755280"/>
            <a:ext cx="92394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83720" y="6865560"/>
            <a:ext cx="21272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71840" y="6865560"/>
            <a:ext cx="313704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80280" y="6865560"/>
            <a:ext cx="2016000" cy="568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2590AC8-CC44-4372-94CE-C2B91E795BCC}" type="slidenum">
              <a:rPr b="0" lang="en-US" sz="15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1008000" y="2016000"/>
            <a:ext cx="9072720" cy="42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1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8953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GEOLOGIA ECONOMICA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785880" y="3273120"/>
            <a:ext cx="86058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Geología Económica corresponde esencialmente al estudio de depósitos minerales. Esto incluye tanto recursos metálicos, minerales industriales (no metálicos) y tambien los combust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E3B-A328-4291-A2CE-DE8065211B7E}" type="slidenum">
              <a:t>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304920"/>
            <a:ext cx="9851760" cy="70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Supérgena o Secund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o efectos exógenos sobre cuerpos mineralizados, como meteorización, oxidación, descomposición de minerales y formación de nuevos minerales estables en el ambiente supérgen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6E7-C2DE-498D-BF6B-B71E67DE8C7F}" type="slidenum">
              <a:t>1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sidual-enriquesido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838080"/>
            <a:ext cx="10080720" cy="555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B8C-E32E-4BD6-B1DA-D76F20F34997}" type="slidenum">
              <a:t>1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296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Yacimien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Depósito mineral que ha sido examinado y ha probado tener suficiente tamaño, ley y accesibilidad, como para ser puesto en producción y ser rentable.La rentabilidad de un yacimiento depende de sus características intrínsecas (como tonelaje y ley), y depende de condiciones ajenas al cuerpo mineral, como las tasas de impuesto, precio de metales, etc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058-BD7E-4097-8898-5EFBCBE108BE}" type="slidenum">
              <a:t>1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finiciones Básicas V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605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Corresponde a las labores de explotación de un yacimiento, las que pueden ser subterráneas o a cielo abiert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Rajo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xcavación a cielo abierto para la extracción minera.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664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j. Rajo de Chuquicamat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60F-FDB0-4BD2-BF55-4A61BB40459C}" type="slidenum">
              <a:t>1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antYesoCienpozuelo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D05-CDAF-4DAD-9393-3211E8EFFD08}" type="slidenum">
              <a:t>1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9296640" cy="68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V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curs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onelaje o volumen de roca mineralizada de interés económico intrínseco, cuyas leyes, límites y otras características apropiadas están conocidas con cierto grado de certeza y que es un posible blanco de extracción económic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eservas Mineral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Porción o volumen de un Recurso Mineral en el que se han, efectuado estudios técnicos y económicos. El vol. y ley permiten establecer la vida del yacimient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43D-65AB-4354-BAD8-E29597F5F02E}" type="slidenum">
              <a:t>1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98280"/>
            <a:ext cx="9623520" cy="75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de concentración de un elemento en el cuerpo mineralizado. Se expresa como porcentaje, ppm, ppb, etc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000000"/>
                </a:solidFill>
                <a:latin typeface="Tahoma"/>
              </a:rPr>
              <a:t>Ley de Cor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ahoma"/>
              </a:rPr>
              <a:t>Grado mínimo de concentración, para que la explotación sea rentabl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30F-DE60-4C26-B2F2-6A00F6107023}" type="slidenum">
              <a:t>1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762120"/>
            <a:ext cx="9240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 u="sng">
                <a:solidFill>
                  <a:srgbClr val="000000"/>
                </a:solidFill>
                <a:uFillTx/>
                <a:latin typeface="Verdana"/>
              </a:rPr>
              <a:t>Según orige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1.Hidrotermales (primarios o hipó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tapas tardías de la cristalización magmática. Se les suele separar en dos subcategorí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(700-250 ºC)       Epitermales(&gt;250º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2.Sediment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centración producto de procesos gravitacionales, transporte diferencial, meteorización diferencial, factores morf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6960" indent="-328680" algn="just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52280"/>
            <a:ext cx="73090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Tipos de Depósi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959-142F-40BA-A007-590C80EF8393}" type="slidenum">
              <a:t>1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228600"/>
            <a:ext cx="96775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i="1" lang="es-ES_tradnl" sz="2800" spc="-1" strike="noStrike">
                <a:solidFill>
                  <a:srgbClr val="000000"/>
                </a:solidFill>
                <a:latin typeface="Verdana"/>
              </a:rPr>
              <a:t>Secundarios (supérg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ósitos hidrotermales expuestos a condiciones superficiales ( alzamiento, erosión), que bajo dichas condiciones interactúan con las aguas meteóricas, las que disuelven y reconcentran la mineralización prim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a sección  vertical típica presenta tres niveles de techo a 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 Zona de Oxidación y Lixivi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 Zona de enriquecimiento secun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 Zona de mineraliza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418-BDDD-43D1-AA80-518D1548E997}" type="slidenum">
              <a:t>1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228600"/>
            <a:ext cx="9601200" cy="68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Verdana"/>
              </a:rPr>
              <a:t>Según  la geometría de la miner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órfido Cuprífero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en Stockworks (vetillas) y dise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oligado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Cuerpos mineralizados tienen forma de estrato , capa o manto, y son concordantes con la miner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etiform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de forma tabular, corresponden generalmente a fracturas relle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ip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Cuerpos Mineralizados con forma de cono invertido, generalmente asociados a la formación de brechas magmáticas, magmático-hidrotermales o hidroterm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46D-B70C-448D-81D1-0219A338F16E}" type="slidenum">
              <a:t>1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95520" y="503280"/>
            <a:ext cx="73929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OLOGÍA ECONÓ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74880" y="1763640"/>
            <a:ext cx="46213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3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100" spc="-1" strike="noStrike">
                <a:solidFill>
                  <a:srgbClr val="000000"/>
                </a:solidFill>
                <a:latin typeface="Bookman Old Style"/>
              </a:rPr>
              <a:t>Natural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28840" y="2855880"/>
            <a:ext cx="1595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Ener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37080" y="4535640"/>
            <a:ext cx="3863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Recursos</a:t>
            </a: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Miner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200480"/>
            <a:ext cx="2016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Geoter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03520" y="4200480"/>
            <a:ext cx="159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Petró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08240" y="6048360"/>
            <a:ext cx="3024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35880" y="6048360"/>
            <a:ext cx="34448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inería No Metá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5080" y="2268360"/>
            <a:ext cx="839880" cy="21830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4956120"/>
            <a:ext cx="1428840" cy="1092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68600" y="4956120"/>
            <a:ext cx="1176120" cy="11764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92240" y="3276720"/>
            <a:ext cx="92376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2600" y="3276720"/>
            <a:ext cx="1008000" cy="1006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184480" y="2268360"/>
            <a:ext cx="1931760" cy="6717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30F-638A-4D4A-B409-FBEF679DD80B}" type="slidenum">
              <a:t>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9524880" cy="693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LASIFICACION Y RESUMEN  DE PROCESOS MINERALIZADOR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NDÓGENOS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Cristalización Magmátic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Precipitación de minerales como constituyentes de un magma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Diamant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n Kimberlit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nitoides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mo rocas hornament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628-3046-4FF2-AA5B-0831FF3F653D}" type="slidenum">
              <a:t>20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pediam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653256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7B7-D16B-4625-AC35-57E1056325BF}" type="slidenum">
              <a:t>21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72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9851760" cy="6095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egregación Magmat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ristalización Fraccionada, Diferenciación Magmática, inmiscibilidad de liquidos, precipitación de súlfu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Alteración Hidroter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epositación desde soluciones de origen magmático, metamórfico, meteórico y mari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Pórfidos Cuprífer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huquicamata, El Teniente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etas Auríferas del Ind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198-BE59-4E6D-B3AB-04E006D3330F}" type="slidenum">
              <a:t>22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9601200" cy="685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rocesos Endógenos II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etamórfic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etamorfismo de contacto, Metamorfismo Regional principal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Mármo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Skar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147-A657-40D6-AA96-437DD0E59267}" type="slidenum">
              <a:t>2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distpofido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914400"/>
            <a:ext cx="1008072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1EC-B3A5-46A3-A8EB-5CC0082952C6}" type="slidenum">
              <a:t>24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vol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004760"/>
            <a:ext cx="8763120" cy="570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58B-58D3-4FDD-87E5-AC04695E9307}" type="slidenum">
              <a:t>25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369-2E5E-4C6B-AC9F-D820812A8A4E}" type="slidenum">
              <a:t>26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karn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14400" y="457200"/>
            <a:ext cx="8305920" cy="67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34C-84F8-4B92-8789-47A6A3DB7D4F}" type="slidenum">
              <a:t>2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karnmuestra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65A-AC0C-4B41-AB6F-D91569D50037}" type="slidenum">
              <a:t>2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OS EXÓGENO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9396360" cy="5410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xhalativos, Superficiales, Volcanogén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Exhalación de soluciones hidrotermales en superficie, generalmente en condiciones submarin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Volcanes Submarinos Modern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Epitermale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B97-CA4C-4273-959B-5FBF25EBF085}" type="slidenum">
              <a:t>2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457200"/>
            <a:ext cx="9144000" cy="69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Los depósitos minerales constituyen concentraciones anómalas de un(os) elemento(s) en la corteza terrestre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Para que un determinado elemento llegue a constituir un yacimiento explotable el metal debe estar concentrado muy por encima de su abundancia media en la corteza terrestr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El grado de enriquecimiento varía para cada elemento dependiendo de su valo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F0E-F237-4E2E-9688-79E92AB70978}" type="slidenum">
              <a:t>3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lackSmokersPeq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324000"/>
            <a:ext cx="10080720" cy="72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878-A158-43C5-AE9F-DFC249D05E4B}" type="slidenum">
              <a:t>30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840" y="252000"/>
            <a:ext cx="91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cesos Exógenos II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360" y="2079720"/>
            <a:ext cx="9015480" cy="459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Sedimentarios Alóctonos (clásticos)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Concentración de minerales pesados y durables, en sedimentos clástico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Placeres de Au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Arenas Silíceas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500" spc="-1" strike="noStrike">
                <a:solidFill>
                  <a:srgbClr val="000000"/>
                </a:solidFill>
                <a:latin typeface="Tahoma"/>
              </a:rPr>
              <a:t>Gravas de uso industrial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FA8-9352-47BB-9CB7-617893F99356}" type="slidenum">
              <a:t>31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laceresfluviales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915-691B-4B70-BF2B-9335C320D9F4}" type="slidenum">
              <a:t>32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iamnatesplaceres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65120"/>
            <a:ext cx="8686800" cy="709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E75-A5E5-466E-96E7-98C44224CC65}" type="slidenum">
              <a:t>33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9677520" cy="105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CURSOS ENERGÉTICO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E ORIGEN ORGÁNICO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9601200" cy="5715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Acumulación, degradación y evolución de restos orgánicos hasta su </a:t>
            </a: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entramp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Condiciones anaeróbicas y un gradiente P-T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Carbón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: Hojas, Tallos y Tron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Hidrocarburos(petróleo,gas natural, asfaltos).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Plancton, Algas y Bacte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mad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74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oca Reservo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6F8-199A-4895-85C6-30B2B810775B}" type="slidenum">
              <a:t>34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55640" y="380880"/>
            <a:ext cx="8569440" cy="640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ara lograr una acumulación de hidrocarburos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78000"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e debe producir el siguiente ciclo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360600" y="2100240"/>
            <a:ext cx="2940120" cy="31068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6840" y="5291280"/>
            <a:ext cx="13431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dre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11520" y="5627520"/>
            <a:ext cx="2352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5796000"/>
            <a:ext cx="2016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64120" y="5375160"/>
            <a:ext cx="176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o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eservo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544720" y="2268360"/>
            <a:ext cx="1174680" cy="260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679400"/>
            <a:ext cx="12603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Tram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6480" y="2771640"/>
            <a:ext cx="1847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215-17B4-4096-AD95-D1C0B5DD7E24}" type="slidenum">
              <a:t>3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nticlinetrap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9220320" cy="73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BB4-6164-421D-AD53-1F73C2EF8C9E}" type="slidenum">
              <a:t>36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faulttrap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9296280" cy="703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EF5-D17F-4336-B447-959C6EFE4868}" type="slidenum">
              <a:t>37</a:t>
            </a:fld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tratigraphictrapd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66680" y="152280"/>
            <a:ext cx="8153640" cy="71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A0C-722D-43BB-A3A2-ABE7E5206E99}" type="slidenum">
              <a:t>38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16360" y="2660760"/>
            <a:ext cx="223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367-13D9-410A-A375-61B2D80E5574}" type="slidenum">
              <a:t>39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981080"/>
          <a:ext cx="969948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969948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47840" y="252360"/>
            <a:ext cx="91296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Procesos Mineralizadore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1D7-4B86-4402-A831-B3D89ABEEEC7}" type="slidenum">
              <a:t>4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9677520" cy="70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EPÓSITOS MINERALE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LGUNAS 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Ocurrencia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Concentración anómala de un mineral que se considera valiosa por alguien en alguna parte o que es de interés científico o técn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Depósito Minera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Es una ocurrencia mineral (concentración anómala de un mineral o elemento metálico) de tamaño (volumen) y ley suficiente para que en circunstancias favorables, sea considerado con potencial económic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40D-166B-43E8-B3DD-0CCAA4610209}" type="slidenum">
              <a:t>5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380880"/>
            <a:ext cx="9220320" cy="73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de caj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que rodea al depósito, por ejemplo las rocas a ambos lados de una ve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Roca huéspe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La roca dentro de la cual se presenta el depósito mineral. Ej. Pórfido Chuqui en Chuquicamat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100" spc="-1" strike="noStrike">
                <a:solidFill>
                  <a:srgbClr val="000000"/>
                </a:solidFill>
                <a:latin typeface="Tahoma"/>
              </a:rPr>
              <a:t>Estéri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Término minero utilizado para referirse a la roca que no constituye mena explotable, en oposición a rocas mineralizadas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C04-1867-403C-98B1-9649AAB37BDB}" type="slidenum">
              <a:t>6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28600"/>
            <a:ext cx="9753840" cy="73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Men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ineral o minerales que pueden ser  extraídos de una roca con ganancia económica (utilidad). Es  utilizable, tal como se extrae o uno o más componentes  se pueden recuperar, separar, trata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Menas de Cu: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FeS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Born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5FeS4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osin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u2S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Gang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quellos minerales los cuales ocurren con los minerales de mena, pero que no tienen valor económico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Ej.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uarzo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SiO2),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Calc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CaCO3) o </a:t>
            </a:r>
            <a:r>
              <a:rPr b="1" lang="en-GB" sz="2900" spc="-1" strike="noStrike">
                <a:solidFill>
                  <a:srgbClr val="000000"/>
                </a:solidFill>
                <a:latin typeface="Tahoma"/>
              </a:rPr>
              <a:t>Pirita</a:t>
            </a: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 (FeS2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2D3-485B-4E3B-9AA9-63EF1445104D}" type="slidenum">
              <a:t>7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0"/>
            <a:ext cx="9220320" cy="71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Definiciones Básicas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Mineraliz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Se refiere usualmente a procesos formadores de minerales de mena,y ha minerales asociados que permiten la sobreconcentración  de ellos(pirita)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500" spc="-1" strike="noStrike">
                <a:solidFill>
                  <a:srgbClr val="000000"/>
                </a:solidFill>
                <a:latin typeface="Tahoma"/>
              </a:rPr>
              <a:t>Hipógena o Primaria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500" spc="-1" strike="noStrike">
                <a:solidFill>
                  <a:srgbClr val="000000"/>
                </a:solidFill>
                <a:latin typeface="Tahoma"/>
              </a:rPr>
              <a:t>Mineralización endógena, es decir producida por procesos internos de la tierra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B98-D9F6-491A-8B8B-18BE4D6DF9D0}" type="slidenum">
              <a:t>8</a:t>
            </a:fld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ac3"/>
            </a:gs>
            <a:gs pos="100000">
              <a:srgbClr val="e3d58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orfirisP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366-9DB6-4C5E-BACC-62AAE50C6D70}" type="slidenum">
              <a:t>9</a:t>
            </a:fld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9:18:16Z</dcterms:created>
  <dc:creator/>
  <dc:description/>
  <dc:language>en-US</dc:language>
  <cp:lastModifiedBy>digaytan</cp:lastModifiedBy>
  <dcterms:modified xsi:type="dcterms:W3CDTF">2004-10-26T22:08:51Z</dcterms:modified>
  <cp:revision>17</cp:revision>
  <dc:subject/>
  <dc:title>GEOLOGIA ECONOMICA</dc:title>
</cp:coreProperties>
</file>