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cashreg.wav" ContentType="audio/x-wav"/>
  <Override PartName="/ppt/media/image12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7A3-F8D7-4572-87BC-607783CC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88A-9C25-4BDD-BA48-E6C857C6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221-D911-41F0-969B-965D49F5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5248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060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36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5248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060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A3F-42F7-4B47-9A3E-8A35662A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76CB-79D0-40C5-AB8F-5981B6C4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AD80-0719-4C8B-90D9-86680EEB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E9F1-FB60-41A1-922A-C20539A2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677A-DD7F-4A23-BA4B-08890CD5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979D-F884-4542-9094-6605412C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7840" y="252000"/>
            <a:ext cx="91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6D04-1103-4E00-A15C-5BA75BE4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30E3-8C12-4AF6-8113-3B1031F4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38A-E1B2-4082-8437-79B0CDC9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A953-EC9A-4403-A303-F1876C46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0098-EC9A-4F3E-8626-56342CE7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E87E-3F4B-4C4E-9E0D-F3277FCE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48A7-41DC-4985-AA04-A1873190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5248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0060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5248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0060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D3D2-F108-4BCD-8DB7-D8036C18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95F-10CE-420B-833F-15EDFA68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1ED-FBAD-47C8-B9C0-644408F5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446-FCD6-4C75-872E-9E71D9F5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7840" y="252000"/>
            <a:ext cx="91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390-DAF0-4FF7-9A90-A036D06C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86D-FA90-4351-9831-228A35DD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44B-97AD-4826-B4DF-39167DEF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C9D3-FB66-4B99-BE30-EFC183A6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865920"/>
            <a:ext cx="21002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65920"/>
            <a:ext cx="31910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19960" y="6865920"/>
            <a:ext cx="21002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7B9CCD3-F766-463B-9D5A-829A8299C342}" type="slidenum">
              <a:rPr b="0" lang="en-US" sz="15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1008000" y="1449360"/>
            <a:ext cx="9072720" cy="4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360" y="755280"/>
            <a:ext cx="92394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83720" y="6865560"/>
            <a:ext cx="212724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71840" y="6865560"/>
            <a:ext cx="313704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80280" y="6865560"/>
            <a:ext cx="201600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784B1FC3-B494-4023-8AC5-3C08E5C27B26}" type="slidenum">
              <a:rPr b="0" lang="en-US" sz="15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1008000" y="2016000"/>
            <a:ext cx="9072720" cy="42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5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1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8953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GEOLOGIA ECONOMICA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785880" y="3273120"/>
            <a:ext cx="860580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 Geología Económica corresponde esencialmente al estudio de depósitos minerales. Esto incluye tanto recursos metálicos, minerales industriales (no metálicos) y tambien los combust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C2BB-9389-46D3-A200-E722E517FC89}" type="slidenum">
              <a:t>1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320" y="304920"/>
            <a:ext cx="9851760" cy="70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Supérgena o Secundari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Mineralización o efectos exógenos sobre cuerpos mineralizados, como meteorización, oxidación, descomposición de minerales y formación de nuevos minerales estables en el ambiente supérgen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1A6-F7E8-477B-B580-8277AE2DA065}" type="slidenum">
              <a:t>10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sidual-enriquesido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838080"/>
            <a:ext cx="10080720" cy="555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E2D-BC0E-4762-A857-7444CB1FA694}" type="slidenum">
              <a:t>11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finiciones Básicas V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92966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Yacimient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Depósito mineral que ha sido examinado y ha probado tener suficiente tamaño, ley y accesibilidad, como para ser puesto en producción y ser rentable.La rentabilidad de un yacimiento depende de sus características intrínsecas (como tonelaje y ley), y depende de condiciones ajenas al cuerpo mineral, como las tasas de impuesto, precio de metales, etc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F32-4EA3-4655-9F97-82FD88A7FA1B}" type="slidenum">
              <a:t>1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finiciones Básicas V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605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Min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Corresponde a las labores de explotación de un yacimiento, las que pueden ser subterráneas o a cielo abiert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Raj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xcavación a cielo abierto para la extracción minera.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j. Rajo de Chuquicamat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410-723D-4094-A729-3A9E78384B26}" type="slidenum">
              <a:t>1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antYesoCienpozuelos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6C4-A94B-419B-91B1-9FBE4AFD0189}" type="slidenum">
              <a:t>14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9296640" cy="68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V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ecurso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Tonelaje o volumen de roca mineralizada de interés económico intrínseco, cuyas leyes, límites y otras características apropiadas están conocidas con cierto grado de certeza y que es un posible blanco de extracción económic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eservas Mineral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Porción o volumen de un Recurso Mineral en el que se han, efectuado estudios técnicos y económicos. El vol. y ley permiten establecer la vida del yacimient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8AE-2A2F-4052-8A2D-8B086D47202C}" type="slidenum">
              <a:t>1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98280"/>
            <a:ext cx="9623520" cy="75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000000"/>
                </a:solidFill>
                <a:latin typeface="Tahoma"/>
              </a:rPr>
              <a:t>Le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ahoma"/>
              </a:rPr>
              <a:t>Grado de concentración de un elemento en el cuerpo mineralizado. Se expresa como porcentaje, ppm, ppb, etc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000000"/>
                </a:solidFill>
                <a:latin typeface="Tahoma"/>
              </a:rPr>
              <a:t>Ley de Cort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ahoma"/>
              </a:rPr>
              <a:t>Grado mínimo de concentración, para que la explotación sea rentabl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2AD1-1607-40F6-855A-F2596C944178}" type="slidenum">
              <a:t>16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762120"/>
            <a:ext cx="92408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426960" indent="-328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100" spc="-1" strike="noStrike" u="sng">
                <a:solidFill>
                  <a:srgbClr val="000000"/>
                </a:solidFill>
                <a:uFillTx/>
                <a:latin typeface="Verdana"/>
              </a:rPr>
              <a:t>Según orige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1.Hidrotermales (primarios o hipógen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tapas tardías de la cristalización magmática. Se les suele separar en dos subcategor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órfido(700-250 ºC)       Epitermales(&gt;250º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2.Sedime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centración producto de procesos gravitacionales, transporte diferencial, meteorización diferencial, factores morf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just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52280"/>
            <a:ext cx="7309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Black"/>
              </a:rPr>
              <a:t>Tipos de Depósi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679E-3142-4CF9-AD8D-B864746B003F}" type="slidenum">
              <a:t>17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228600"/>
            <a:ext cx="96775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Secundarios (supérgen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pósitos hidrotermales expuestos a condiciones superficiales ( alzamiento, erosión), que bajo dichas condiciones interactúan con las aguas meteóricas, las que disuelven y reconcentran la mineralización prima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a sección  vertical típica presenta tres niveles de techo a b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1. Zona de Oxidación y Lixivi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. Zona de enriquecimiento secun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3. Zona de mineraliza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827-9E8D-46BC-9DD6-609F82B5D575}" type="slidenum">
              <a:t>18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228600"/>
            <a:ext cx="9601200" cy="68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Según  la geometría de la miner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órfido Cuprífer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en Stockworks (vetillas) y disemi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oligado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Cuerpos mineralizados tienen forma de estrato , capa o manto, y son concordantes con la minera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etiform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Cuerpos mineralizados de forma tabular, corresponden generalmente a fracturas relle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ip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Cuerpos Mineralizados con forma de cono invertido, generalmente asociados a la formación de brechas magmáticas, magmático-hidrotermales o hidroterm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567-3EB2-4E54-9E5D-F316AD216FB5}" type="slidenum">
              <a:t>1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95520" y="503280"/>
            <a:ext cx="73929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GEOLOGÍA ECONÓ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74880" y="1763640"/>
            <a:ext cx="46213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Bookman Old Style"/>
              </a:rPr>
              <a:t>Recursos</a:t>
            </a:r>
            <a:r>
              <a:rPr b="0" lang="es-ES_tradnl" sz="3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3100" spc="-1" strike="noStrike">
                <a:solidFill>
                  <a:srgbClr val="000000"/>
                </a:solidFill>
                <a:latin typeface="Bookman Old Style"/>
              </a:rPr>
              <a:t>Natural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28840" y="2855880"/>
            <a:ext cx="1595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Energ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37080" y="4535640"/>
            <a:ext cx="38638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Recursos</a:t>
            </a:r>
            <a:r>
              <a:rPr b="0" lang="es-ES_tradnl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Miner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200480"/>
            <a:ext cx="2016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Geoter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03520" y="4200480"/>
            <a:ext cx="159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Petró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08240" y="6048360"/>
            <a:ext cx="3024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Minería Metá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35880" y="6048360"/>
            <a:ext cx="3444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Minería No Metá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5080" y="2268360"/>
            <a:ext cx="839880" cy="21830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4956120"/>
            <a:ext cx="1428840" cy="1092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368600" y="4956120"/>
            <a:ext cx="1176120" cy="11764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092240" y="3276720"/>
            <a:ext cx="923760" cy="1006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52600" y="3276720"/>
            <a:ext cx="1008000" cy="1006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184480" y="2268360"/>
            <a:ext cx="1931760" cy="6717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395-12FE-4D07-B99D-8CACEBE56876}" type="slidenum">
              <a:t>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9524880" cy="693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LASIFICACION Y RESUMEN  DE PROCESOS MINERALIZADORE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CESOS ENDÓGENOS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Cristalización Magmátic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Precipitación de minerales como constituyentes de un magm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Diamantes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en Kimberlit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Granitoides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como rocas hornamentale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C0D-97C2-415C-9BD1-66CBE5462D5F}" type="slidenum">
              <a:t>20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pediam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3880" y="0"/>
            <a:ext cx="653256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165-A29B-49B4-B58E-5977E8CEC126}" type="slidenum">
              <a:t>21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72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rocesos Endógenos I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851760" cy="6095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egregación Magmat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ristalización Fraccionada, Diferenciación Magmática, inmiscibilidad de liquidos, precipitación de súlfu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Alteración Hidroterm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positación desde soluciones de origen magmático, metamórfico, meteórico y mari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órfidos Cuprífe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huquicamata, El Teniente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etas Auríferas del Ind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230-9161-4067-B32C-87A1137E30BA}" type="slidenum">
              <a:t>2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rocesos Endógenos II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Metamórfic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etamorfismo de contacto, Metamorfismo Regional principal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Mármo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Skar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E5F-7EBB-40D1-A74E-92D55ABB0082}" type="slidenum">
              <a:t>2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distpofidos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914400"/>
            <a:ext cx="10080720" cy="58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7127-85D3-4FD4-87EC-E948A3EB2681}" type="slidenum">
              <a:t>24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Evol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004760"/>
            <a:ext cx="8763120" cy="570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F90-E6D8-40C1-936B-28D8E4D91487}" type="slidenum">
              <a:t>25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634-745C-4D35-AFF6-22875CB2CC41}" type="slidenum">
              <a:t>26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karn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914400" y="457200"/>
            <a:ext cx="8305920" cy="672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902-AF79-4576-A557-19568ABFBFCB}" type="slidenum">
              <a:t>27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karnmuestra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D59-27FD-45F2-B90F-34B474C3C3CE}" type="slidenum">
              <a:t>28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CESOS EXÓGENO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9396360" cy="5410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Exhalativos, Superficiales, Volcanogénic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Exhalación de soluciones hidrotermales en superficie, generalmente en condiciones submarin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Volcanes Submarinos Modern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Epitermale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17A-8C1F-4820-B736-38F82455C542}" type="slidenum">
              <a:t>2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457200"/>
            <a:ext cx="9144000" cy="69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Procesos Mineraliz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Los depósitos minerales constituyen concentraciones anómalas de un(os) elemento(s) en la corteza terrestre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Para que un determinado elemento llegue a constituir un yacimiento explotable el metal debe estar concentrado muy por encima de su abundancia media en la corteza terrestr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l grado de enriquecimiento varía para cada elemento dependiendo de su valor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EC5-A65F-46AA-AF72-1B9C02E13AF0}" type="slidenum">
              <a:t>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BlackSmokersPeq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4000"/>
            <a:ext cx="10080720" cy="72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D78-49C5-45E4-9913-D484C1C5C543}" type="slidenum">
              <a:t>30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cesos Exógenos II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Sedimentarios Alóctonos (clásticos)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Concentración de minerales pesados y durables, en sedimentos clástic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Placeres de Au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Arenas Silíce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Gravas de uso industrial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958-EEAD-4E9E-9982-5B51DC585322}" type="slidenum">
              <a:t>31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laceresfluviales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C30-9FAD-455B-BBCE-0B2C7E229D02}" type="slidenum">
              <a:t>32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diamnatesplaceres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465120"/>
            <a:ext cx="8686800" cy="709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F04-3E2D-4C0D-9FB3-0A9B544C4718}" type="slidenum">
              <a:t>33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9677520" cy="105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CURSOS ENERGÉTICO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E ORIGEN ORGÁNICO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9601200" cy="571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Acumulación, degradación y evolución de restos orgánicos hasta su </a:t>
            </a: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entramp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ndiciones anaeróbicas y un gradiente P-T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Carbón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: Hojas, Tallos y Tron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Hidrocarburos(petróleo,gas natural, asfaltos).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Plancton, Algas y Bacter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oca mad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oca Reservo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E63-AA29-4BF6-87C9-FE4A0004114F}" type="slidenum">
              <a:t>34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55640" y="380880"/>
            <a:ext cx="8569440" cy="640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Para lograr una acumulación de hidrocarburos,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se debe producir el siguiente ciclo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360600" y="2100240"/>
            <a:ext cx="2940120" cy="31068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6840" y="5291280"/>
            <a:ext cx="134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o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dre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11520" y="5627520"/>
            <a:ext cx="2352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5796000"/>
            <a:ext cx="2016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G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IM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64120" y="5375160"/>
            <a:ext cx="176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o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eservo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544720" y="2268360"/>
            <a:ext cx="1174680" cy="260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1679400"/>
            <a:ext cx="1260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Tram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16480" y="2771640"/>
            <a:ext cx="1847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G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81B-892F-4626-9818-25E18C7F5E37}" type="slidenum">
              <a:t>3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anticlinetrap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9220320" cy="73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4E0-BF58-4E3B-AA6D-8555CA363AAF}" type="slidenum">
              <a:t>36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faulttrap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9296280" cy="703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DD8-2E40-4BF0-A8F3-448A018BC9DF}" type="slidenum">
              <a:t>37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stratigraphictrapd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152280"/>
            <a:ext cx="8153640" cy="713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F675-C33D-4861-9253-6CBB1F6C95E8}" type="slidenum">
              <a:t>38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16360" y="2660760"/>
            <a:ext cx="223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275-5F86-4DDF-978A-4A9A692EB56B}" type="slidenum">
              <a:t>3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1981080"/>
          <a:ext cx="969948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96994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47840" y="252360"/>
            <a:ext cx="91296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Procesos Mineralizadore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C4E-3542-41AF-A683-9F8EA2635410}" type="slidenum">
              <a:t>4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52280"/>
            <a:ext cx="9677520" cy="70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PÓSITOS MINERALES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LGUNAS 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Ocurrencia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Concentración anómala de un mineral que se considera valiosa por alguien en alguna parte o que es de interés científico o técnic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Depósito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Es una ocurrencia mineral (concentración anómala de un mineral o elemento metálico) de tamaño (volumen) y ley suficiente para que en circunstancias favorables, sea considerado con potencial económic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5AE-54E8-4F96-84C4-C3AB20A7892B}" type="slidenum">
              <a:t>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380880"/>
            <a:ext cx="9220320" cy="73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oca de caj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La roca que rodea al depósito, por ejemplo las rocas a ambos lados de una vet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oca huéspe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La roca dentro de la cual se presenta el depósito mineral. Ej. Pórfido Chuqui en Chuquicamat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Estéri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Término minero utilizado para referirse a la roca que no constituye mena explotable, en oposición a rocas mineralizadas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146-5F4B-43F4-938A-2EE56DB05341}" type="slidenum">
              <a:t>6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228600"/>
            <a:ext cx="9753840" cy="73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Men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ineral o minerales que pueden ser  extraídos de una roca con ganancia económica (utilidad). Es  utilizable, tal como se extrae o uno o más componentes  se pueden recuperar, separar, trata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j. Menas de Cu: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opir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FeS2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Born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5FeS4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osin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2S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Gang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quellos minerales los cuales ocurren con los minerales de mena, pero que no tienen valor económico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j.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uarzo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SiO2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aCO3) o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Pir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FeS2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D30-AB05-46FC-AEE9-65162ACADBA3}" type="slidenum">
              <a:t>7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0"/>
            <a:ext cx="9220320" cy="71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Mineraliza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Se refiere usualmente a procesos formadores de minerales de mena,y ha minerales asociados que permiten la sobreconcentración  de ellos(pirita)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Hipógena o Primari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Mineralización endógena, es decir producida por procesos internos de la tierra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2DE-BA68-4300-9D28-FAE15C90BA61}" type="slidenum">
              <a:t>8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3FF-FEC1-4B69-A7E7-03A86303312F}" type="slidenum">
              <a:t>9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19:18:16Z</dcterms:created>
  <dc:creator/>
  <dc:description/>
  <dc:language>en-US</dc:language>
  <cp:lastModifiedBy>digaytan</cp:lastModifiedBy>
  <dcterms:modified xsi:type="dcterms:W3CDTF">2004-10-26T22:08:51Z</dcterms:modified>
  <cp:revision>17</cp:revision>
  <dc:subject/>
  <dc:title>GEOLOGIA ECONOMICA</dc:title>
</cp:coreProperties>
</file>