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cashreg.wav" ContentType="audio/x-wav"/>
  <Override PartName="/ppt/media/image12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F65-94B3-403E-819B-87C5A053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D86-4004-41B3-B304-24CBAA62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8D8-9827-4CDB-92C2-1EB75E95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9F1-224E-4286-AD1A-704EE2CF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ECDF-4B7D-4B21-882F-64179E95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D252-7888-480D-B788-0468B3FD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5F92-7917-434F-8B7C-1263D9AE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3857-67E9-471E-8FF6-A2456AD0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8EB9-6968-434F-BA9F-0BA17BAD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4E8D-497D-48A4-8585-E87D6BB0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EB07-08AD-40C2-93D5-72B77AA1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9A5-CCCA-40F2-8D4E-87585EDE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BAA4-BC85-46ED-9A15-AF58FE72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FF91-B281-4401-B900-6F7D6135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B7D0-4C8D-47C2-BFDD-772ACC59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913C-3549-44A8-97EF-1761F9EF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ACA7-3D59-4BB9-BF2D-9A766DB3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150-21F9-429B-9212-E7902086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B45-E08E-4E86-930E-6A5C87C2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3BE-607C-40E7-8675-24727C79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DBB-377E-48B6-BDDF-4AED2B7A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44B-B2EF-40AB-AFBE-37B961BF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3B4-A156-429D-93A8-A2D9FBF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2A0-75B2-4223-8232-83CDD5CB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6592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1996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85ECBA0-E1E5-47EA-BA47-B47A6C7B4B97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1008000" y="1449360"/>
            <a:ext cx="907272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755280"/>
            <a:ext cx="92394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83720" y="6865560"/>
            <a:ext cx="21272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71840" y="6865560"/>
            <a:ext cx="31370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80280" y="6865560"/>
            <a:ext cx="201600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171A218-3563-419F-B6C3-720F070572A0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1008000" y="2016000"/>
            <a:ext cx="9072720" cy="4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1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8953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GEOLOGIA ECONOMICA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785880" y="3273120"/>
            <a:ext cx="86058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0E1-AC55-4239-A713-D39AE1CD2A95}" type="slidenum">
              <a:t>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304920"/>
            <a:ext cx="9851760" cy="70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Supérgena o Secund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o efectos exógenos sobre cuerpos mineralizados, como meteorización, oxidación, descomposición de minerales y formación de nuevos minerales estables en el ambiente supérgen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EB8-C551-4115-B2BE-927F4F59A981}" type="slidenum">
              <a:t>1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sidual-enriquesid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10080720" cy="555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905-B048-4758-B7D4-C9117721AF78}" type="slidenum">
              <a:t>1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296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Yacimien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Depósito mineral que ha sido examinado y ha probado tener suficiente tamaño, ley y accesibilidad, como para ser puesto en producción y ser rentable.La rentabilidad de un yacimiento depende de sus características intrínsecas (como tonelaje y ley), y depende de condiciones ajenas al cuerpo mineral, como las tasas de impuesto, precio de metales, etc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E10-C5B7-4000-A489-CC9270148D89}" type="slidenum">
              <a:t>1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605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Corresponde a las labores de explotación de un yacimiento, las que pueden ser subterráneas o a cielo abier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Raj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xcavación a cielo abierto para la extracción minera.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j. Rajo de Chuquicamat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E31-1D73-4590-B38A-C5F8BCF9ECEB}" type="slidenum">
              <a:t>1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antYesoCienpozuelo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67E-974B-4138-9054-CE6E0967CD79}" type="slidenum">
              <a:t>1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9296640" cy="68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curs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 y que es un posible blanco de extracción económic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servas Miner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Porción o volumen de un Recurso Mineral en el que se han, efectuado estudios técnicos y económicos. El vol. y ley permiten establecer la vida del yacimient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65A-FF0A-4B33-BBD4-5E10B1DCD0FE}" type="slidenum">
              <a:t>1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98280"/>
            <a:ext cx="9623520" cy="75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. Se expresa como porcentaje, ppm, ppb, etc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3F5-5829-4FE1-B043-73E582117761}" type="slidenum">
              <a:t>1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762120"/>
            <a:ext cx="9240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 u="sng">
                <a:solidFill>
                  <a:srgbClr val="000000"/>
                </a:solidFill>
                <a:uFillTx/>
                <a:latin typeface="Verdana"/>
              </a:rPr>
              <a:t>Según orig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1.Hidrotermales (primarios o hipó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tapas tardías de la cristalización magmática. Se les suele separar en dos subcatego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(700-250 ºC)       Epitermales(&gt;250º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2.Sedi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centración producto de procesos gravitacionales, transporte diferencial, meteorización diferencial, factores morf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52280"/>
            <a:ext cx="7309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Tipos de Depós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4B0-6A35-4ECD-A5B2-A2B2AF95B4EC}" type="slidenum">
              <a:t>1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228600"/>
            <a:ext cx="96775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Secundarios (supér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ósitos hidrotermales expuestos a condiciones superficiales ( alzamiento, erosión), que bajo dichas condiciones interactúan con las aguas meteóricas, las que disuelven y reconcentran la mineralización prim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sección  vertical típica presenta tres niveles de techo a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 Zona de Oxidación y Lixivi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 Zona de enriquecimient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 Zona de mineraliza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AC4-33DA-45D4-B118-A7BA2112CD5E}" type="slidenum">
              <a:t>1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228600"/>
            <a:ext cx="9601200" cy="68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Según  la geometría de la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órfido Cuprífe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en Stockworks (vetillas) y dise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oligad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Cuerpos mineralizados tienen forma de estrato , capa o manto, y son concordantes con la miner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etiform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de forma tabular, corresponden generalmente a fracturas rell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ip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con forma de cono invertido, generalmente asociados a la formación de brechas magmáticas, magmático-hidrotermales o hidroterm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B51-A4C9-46D9-9122-B1A3623E3650}" type="slidenum">
              <a:t>1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95520" y="503280"/>
            <a:ext cx="7392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OLOGÍA ECONÓ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4880" y="1763640"/>
            <a:ext cx="46213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3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Natura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28840" y="2855880"/>
            <a:ext cx="1595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Ener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7080" y="4535640"/>
            <a:ext cx="3863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Miner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200480"/>
            <a:ext cx="2016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Geoter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03520" y="4200480"/>
            <a:ext cx="159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Petró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08240" y="6048360"/>
            <a:ext cx="3024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35880" y="6048360"/>
            <a:ext cx="3444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No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5080" y="2268360"/>
            <a:ext cx="839880" cy="21830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4956120"/>
            <a:ext cx="1428840" cy="1092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68600" y="4956120"/>
            <a:ext cx="1176120" cy="11764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92240" y="3276720"/>
            <a:ext cx="92376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2600" y="3276720"/>
            <a:ext cx="100800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184480" y="2268360"/>
            <a:ext cx="1931760" cy="6717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84F-0780-4CDF-BF55-59F1B4F5A6F5}" type="slidenum">
              <a:t>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9524880" cy="693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ASIFICACION Y RESUMEN  DE PROCESOS MINERALIZADOR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NDÓGENOS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Cristalización Magmátic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Precipitación de minerales como constituyentes de un magm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Diamant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n Kimberlit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nitoid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mo rocas hornament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092-E9EB-4508-9682-0976A2D0B94E}" type="slidenum">
              <a:t>2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pediam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53256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9A3-5D6C-446F-B902-17FE541B77B0}" type="slidenum">
              <a:t>2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851760" cy="609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egregación Magmat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ristalización Fraccionada, Diferenciación Magmática, inmiscibilidad de liquidos, precipitación de súlfu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Alteración Hidroter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ositación desde soluciones de origen magmático, metamórfico, meteórico y mari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s Cuprífe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huquicamata, El Tenient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tas Auríferas del In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551-0ABD-4DFA-944C-1905715CD5F7}" type="slidenum">
              <a:t>2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etamórfic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etamorfismo de contacto, Metamorfismo Regional principal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ármo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Ska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2AF-4717-4662-92D7-A2056E775432}" type="slidenum">
              <a:t>2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distpofido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914400"/>
            <a:ext cx="1008072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340-118A-483B-9010-77DFE8B99AF1}" type="slidenum">
              <a:t>24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vol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004760"/>
            <a:ext cx="8763120" cy="57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15A-75ED-4048-B9E0-A55A3DCAEFB6}" type="slidenum">
              <a:t>25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7FC-BA1D-4C39-8775-D8872DF9849D}" type="slidenum">
              <a:t>26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kar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14400" y="457200"/>
            <a:ext cx="8305920" cy="67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CDA-FDE1-4814-8FFF-33EFD4ECAFAB}" type="slidenum">
              <a:t>2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karnmuestra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9E9-07C4-474A-8B39-3CC98217301C}" type="slidenum">
              <a:t>2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OS EXÓGENO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9396360" cy="541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xhalativos, Superficiales, Volcanogén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xhalación de soluciones hidrotermales en superficie, generalmente en condiciones submarin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Volcanes Submarinos Modern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piterm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755-FCBE-4DB9-9587-0F8E973CABDB}" type="slidenum">
              <a:t>2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457200"/>
            <a:ext cx="9144000" cy="69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Los depósitos minerales constituyen concentraciones anómalas de un(os) elemento(s) en la corteza terrestre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Para que un determinado elemento llegue a constituir un yacimiento explotable el metal debe estar concentrado muy por encima de su abundancia media en la corteza terrestr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l grado de enriquecimiento varía para cada elemento dependiendo de su valo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790-147F-4000-BC36-A6A63B5E1B4C}" type="slidenum">
              <a:t>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lackSmokersPeq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4000"/>
            <a:ext cx="10080720" cy="72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933-BAEF-4C7E-8257-6391D65B6FD7}" type="slidenum">
              <a:t>30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xógenos II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Sedimentarios Alóctonos (clásticos)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ncentración de minerales pesados y durables, en sedimentos clást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Placeres de Au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Arenas Silíce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vas de uso industrial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111-5D77-4CF3-8837-7291E4C6B059}" type="slidenum">
              <a:t>3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laceresfluviale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777-2FF0-4449-A33F-CFF66AE19AD9}" type="slidenum">
              <a:t>32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iamnatesplacere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65120"/>
            <a:ext cx="8686800" cy="709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3AE-599E-4E4A-A1E2-5F6BBB56E300}" type="slidenum">
              <a:t>33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9677520" cy="105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CURSOS ENERGÉTICO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E ORIGEN ORGÁNIC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9601200" cy="571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cumulación, degradación y evolución de restos orgánicos hasta su 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entramp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diciones anaeróbicas y un gradiente P-T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Carbón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: Hojas, Tallos y Tron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Hidrocarburos(petróleo,gas natural, asfaltos).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Plancton, Algas y Bacte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ma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Reservo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AF2-1B79-4670-8A5B-7709578CCB9C}" type="slidenum">
              <a:t>34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380880"/>
            <a:ext cx="8569440" cy="640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a lograr una acumulación de hidrocarburos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debe producir el siguiente ciclo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60600" y="2100240"/>
            <a:ext cx="2940120" cy="3106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6840" y="5291280"/>
            <a:ext cx="134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dre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11520" y="5627520"/>
            <a:ext cx="235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5796000"/>
            <a:ext cx="2016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64120" y="5375160"/>
            <a:ext cx="176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servo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544720" y="2268360"/>
            <a:ext cx="1174680" cy="260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679400"/>
            <a:ext cx="1260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Tram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6480" y="2771640"/>
            <a:ext cx="1847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5E2-BA47-4953-B7D4-67F3F8036243}" type="slidenum">
              <a:t>3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nticlinetrap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9220320" cy="73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7F7-68E0-41E9-BBEC-597A34AC6977}" type="slidenum">
              <a:t>36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faulttrap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9296280" cy="703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3B1-4492-4135-B698-90252322DAFD}" type="slidenum">
              <a:t>3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tratigraphictrapd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52280"/>
            <a:ext cx="8153640" cy="71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183-EA04-4FC1-86D0-6B1E8F355686}" type="slidenum">
              <a:t>3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16360" y="2660760"/>
            <a:ext cx="223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406-FCEE-4FFC-AF03-4188FF29EE83}" type="slidenum">
              <a:t>3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981080"/>
          <a:ext cx="96994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9699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7840" y="252360"/>
            <a:ext cx="91296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F2A-984C-4F18-8AE8-9004244414F5}" type="slidenum">
              <a:t>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9677520" cy="70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PÓSITOS MINERALE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LGUNAS 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Concentración anómala de un mineral que se considera valiosa por alguien en alguna parte o que es de interés científico o técn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Es una ocurrencia mineral (concentración anómala de un mineral o elemento metálico) de tamaño (volumen) y ley suficiente para que en circunstancias favorables, sea considerado con potencial económ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993-CDF0-4ED7-A226-F19CCED2A0B1}" type="slidenum">
              <a:t>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380880"/>
            <a:ext cx="9220320" cy="73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69F-0A86-43F2-B0D2-F4614E846BAA}" type="slidenum">
              <a:t>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28600"/>
            <a:ext cx="9753840" cy="73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ineral o minerales que pueden ser  extraídos de una roca con ganancia económica (utilidad). Es  utilizable, tal como se extrae o uno o más componentes  se pueden recuperar, separar, trata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quellos minerales los cuales ocurren con los minerales de mena, pero que no tienen valor económico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EF3-F152-4296-8375-ED1EA54CCDC4}" type="slidenum">
              <a:t>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0"/>
            <a:ext cx="9220320" cy="71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,y ha minerales asociados que permiten la sobreconcentración  de ellos(pirita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Hipógena o Prim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endógena, es decir producida por procesos internos de la tierra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EE5-027A-4E3B-B527-4B9C7558B316}" type="slidenum">
              <a:t>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FBF-28FF-415B-803D-16160723364F}" type="slidenum">
              <a:t>9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9:18:16Z</dcterms:created>
  <dc:creator/>
  <dc:description/>
  <dc:language>en-US</dc:language>
  <cp:lastModifiedBy>digaytan</cp:lastModifiedBy>
  <dcterms:modified xsi:type="dcterms:W3CDTF">2004-10-26T22:08:51Z</dcterms:modified>
  <cp:revision>17</cp:revision>
  <dc:subject/>
  <dc:title>GEOLOGIA ECONOMICA</dc:title>
</cp:coreProperties>
</file>