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cashreg.wav" ContentType="audio/x-wav"/>
  <Override PartName="/ppt/media/image12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1626-CD82-4D6A-860E-F9E80677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A3A-145C-44C9-8826-0A874D31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C278-EC65-4651-9DF3-04DB653D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5248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060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36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5248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060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0A9-D6E4-4994-A087-56D9FA03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E88A-3AD0-4C32-B8CB-07F7D3FB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12E0-7CE3-437E-8750-F6176BE7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7C92-2CCA-452E-BBF7-5FA2D94A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CA75-802F-45B8-B812-18C816C1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7F1C-07F6-4B39-B633-9C538FFF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7840" y="252000"/>
            <a:ext cx="91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DA91-C70D-409A-9A3C-A6D221AD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2311-B1CC-42BB-BD18-95D95C53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758-1514-44F8-8967-6667F175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76F8-96AA-4421-9B57-15FA9E62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6740-02BC-417B-8320-D382D7D6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A828-AE52-4C38-8354-141C4DB0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0B6A-06E6-4544-8364-58E209CA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5248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0060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5248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0060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8CD3-4A33-4FCE-A259-3B6FF895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3C6-192F-4478-B77E-0BB09E18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CC0-0853-42B4-80DA-0E16FFE7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2EC-76D2-4FFF-8B80-D1C45C92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7840" y="252000"/>
            <a:ext cx="91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7B2-13AA-4605-B08F-CB58010A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E6F-E60A-4784-B2F8-CC1C8DBC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ACBD-8981-4EB6-9EA9-8B564B24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20D-B9B4-4D94-8C2D-B36ACE95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865920"/>
            <a:ext cx="21002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65920"/>
            <a:ext cx="31910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19960" y="6865920"/>
            <a:ext cx="21002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EA8F2D75-DCB9-43E0-B29C-DF13FD977247}" type="slidenum">
              <a:rPr b="0" lang="en-US" sz="15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1008000" y="1449360"/>
            <a:ext cx="9072720" cy="4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360" y="755280"/>
            <a:ext cx="92394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83720" y="6865560"/>
            <a:ext cx="212724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71840" y="6865560"/>
            <a:ext cx="313704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80280" y="6865560"/>
            <a:ext cx="201600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2362AB5A-903F-42B0-943A-B548E909A1C8}" type="slidenum">
              <a:rPr b="0" lang="en-US" sz="15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1008000" y="2016000"/>
            <a:ext cx="9072720" cy="42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5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1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8953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GEOLOGIA ECONOMICA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785880" y="3273120"/>
            <a:ext cx="860580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 Geología Económica corresponde esencialmente al estudio de depósitos minerales. Esto incluye tanto recursos metálicos, minerales industriales (no metálicos) y tambien los combust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8319-48FB-444E-8406-EA4556848E19}" type="slidenum">
              <a:t>1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320" y="304920"/>
            <a:ext cx="9851760" cy="70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Supérgena o Secundari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Mineralización o efectos exógenos sobre cuerpos mineralizados, como meteorización, oxidación, descomposición de minerales y formación de nuevos minerales estables en el ambiente supérgen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872-1F6B-455C-9E3F-371EBCCEB4CA}" type="slidenum">
              <a:t>10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sidual-enriquesido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838080"/>
            <a:ext cx="10080720" cy="555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02A6-6DF3-4B48-BF3F-71C92E30DD16}" type="slidenum">
              <a:t>11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finiciones Básicas V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92966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Yacimient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Depósito mineral que ha sido examinado y ha probado tener suficiente tamaño, ley y accesibilidad, como para ser puesto en producción y ser rentable.La rentabilidad de un yacimiento depende de sus características intrínsecas (como tonelaje y ley), y depende de condiciones ajenas al cuerpo mineral, como las tasas de impuesto, precio de metales, etc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A14-0AE6-474E-AE78-C385A0C5FE3F}" type="slidenum">
              <a:t>1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finiciones Básicas V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605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Min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Corresponde a las labores de explotación de un yacimiento, las que pueden ser subterráneas o a cielo abiert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Raj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xcavación a cielo abierto para la extracción minera.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j. Rajo de Chuquicamat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0A6-095B-452E-B324-5972286C340D}" type="slidenum">
              <a:t>1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antYesoCienpozuelos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6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765-1045-4C7E-B6E9-93C39E3428A5}" type="slidenum">
              <a:t>14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80880"/>
            <a:ext cx="9296640" cy="68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V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ecurso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Tonelaje o volumen de roca mineralizada de interés económico intrínseco, cuyas leyes, límites y otras características apropiadas están conocidas con cierto grado de certeza y que es un posible blanco de extracción económic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eservas Mineral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Porción o volumen de un Recurso Mineral en el que se han, efectuado estudios técnicos y económicos. El vol. y ley permiten establecer la vida del yacimient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C02-DCFC-4453-BAC8-DA5D63C04F48}" type="slidenum">
              <a:t>1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98280"/>
            <a:ext cx="9623520" cy="75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000000"/>
                </a:solidFill>
                <a:latin typeface="Tahoma"/>
              </a:rPr>
              <a:t>Le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ahoma"/>
              </a:rPr>
              <a:t>Grado de concentración de un elemento en el cuerpo mineralizado. Se expresa como porcentaje, ppm, ppb, etc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000000"/>
                </a:solidFill>
                <a:latin typeface="Tahoma"/>
              </a:rPr>
              <a:t>Ley de Cort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ahoma"/>
              </a:rPr>
              <a:t>Grado mínimo de concentración, para que la explotación sea rentabl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6E5-F0EA-405F-A4F6-9CDB132A34B7}" type="slidenum">
              <a:t>16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762120"/>
            <a:ext cx="924084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426960" indent="-328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100" spc="-1" strike="noStrike" u="sng">
                <a:solidFill>
                  <a:srgbClr val="000000"/>
                </a:solidFill>
                <a:uFillTx/>
                <a:latin typeface="Verdana"/>
              </a:rPr>
              <a:t>Según orige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1.Hidrotermales (primarios o hipógen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tapas tardías de la cristalización magmática. Se les suele separar en dos subcategor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órfido(700-250 ºC)       Epitermales(&gt;250º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2.Sedimen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centración producto de procesos gravitacionales, transporte diferencial, meteorización diferencial, factores morf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just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152280"/>
            <a:ext cx="7309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Black"/>
              </a:rPr>
              <a:t>Tipos de Depósi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1E1-67D4-4A7B-8B07-349CA7AC3406}" type="slidenum">
              <a:t>17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228600"/>
            <a:ext cx="967752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Secundarios (supérgen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pósitos hidrotermales expuestos a condiciones superficiales ( alzamiento, erosión), que bajo dichas condiciones interactúan con las aguas meteóricas, las que disuelven y reconcentran la mineralización prima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a sección  vertical típica presenta tres niveles de techo a b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1. Zona de Oxidación y Lixivi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. Zona de enriquecimiento secun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3. Zona de mineraliza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376F-14D4-4C8F-8E69-9F2664270E4A}" type="slidenum">
              <a:t>18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228600"/>
            <a:ext cx="9601200" cy="68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Según  la geometría de la miner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órfido Cuprífer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en Stockworks (vetillas) y disemi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oligado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Cuerpos mineralizados tienen forma de estrato , capa o manto, y son concordantes con la minera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etiform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Cuerpos mineralizados de forma tabular, corresponden generalmente a fracturas relle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ip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Cuerpos Mineralizados con forma de cono invertido, generalmente asociados a la formación de brechas magmáticas, magmático-hidrotermales o hidroterm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3D3-DD0D-46DE-9342-8E6AE0510501}" type="slidenum">
              <a:t>1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95520" y="503280"/>
            <a:ext cx="73929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GEOLOGÍA ECONÓ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74880" y="1763640"/>
            <a:ext cx="46213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Bookman Old Style"/>
              </a:rPr>
              <a:t>Recursos</a:t>
            </a:r>
            <a:r>
              <a:rPr b="0" lang="es-ES_tradnl" sz="3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3100" spc="-1" strike="noStrike">
                <a:solidFill>
                  <a:srgbClr val="000000"/>
                </a:solidFill>
                <a:latin typeface="Bookman Old Style"/>
              </a:rPr>
              <a:t>Natural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28840" y="2855880"/>
            <a:ext cx="1595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Energ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37080" y="4535640"/>
            <a:ext cx="38638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Recursos</a:t>
            </a:r>
            <a:r>
              <a:rPr b="0" lang="es-ES_tradnl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Miner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200480"/>
            <a:ext cx="2016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Geoter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03520" y="4200480"/>
            <a:ext cx="159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Petró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08240" y="6048360"/>
            <a:ext cx="3024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Minería Metá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35880" y="6048360"/>
            <a:ext cx="34448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Minería No Metá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5080" y="2268360"/>
            <a:ext cx="839880" cy="21830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4956120"/>
            <a:ext cx="1428840" cy="1092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368600" y="4956120"/>
            <a:ext cx="1176120" cy="11764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092240" y="3276720"/>
            <a:ext cx="923760" cy="1006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52600" y="3276720"/>
            <a:ext cx="1008000" cy="1006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184480" y="2268360"/>
            <a:ext cx="1931760" cy="6717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A26-F75C-4135-BFC8-EF3E0B078A5C}" type="slidenum">
              <a:t>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9524880" cy="693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LASIFICACION Y RESUMEN  DE PROCESOS MINERALIZADORE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CESOS ENDÓGENOS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Cristalización Magmátic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Precipitación de minerales como constituyentes de un magm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Diamantes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en Kimberlit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Granitoides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como rocas hornamentale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3FF-7107-4A18-B8C3-FF0C701ADD5D}" type="slidenum">
              <a:t>20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pediam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3880" y="0"/>
            <a:ext cx="653256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EDE-958B-4D96-BF24-D14B47020C4F}" type="slidenum">
              <a:t>21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72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rocesos Endógenos I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851760" cy="6095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egregación Magmat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ristalización Fraccionada, Diferenciación Magmática, inmiscibilidad de liquidos, precipitación de súlfu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Alteración Hidroterm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positación desde soluciones de origen magmático, metamórfico, meteórico y mari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órfidos Cuprífe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huquicamata, El Teniente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etas Auríferas del Ind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AC3-9E1E-4833-B695-43B5C1EE18C3}" type="slidenum">
              <a:t>2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rocesos Endógenos II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Metamórfic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etamorfismo de contacto, Metamorfismo Regional principal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Mármo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Skar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BE4-9D36-401E-96D0-3500462B2E33}" type="slidenum">
              <a:t>2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distpofidos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914400"/>
            <a:ext cx="10080720" cy="58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9C8-7781-4F14-9EDF-9791E8C74DDE}" type="slidenum">
              <a:t>24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Evol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004760"/>
            <a:ext cx="8763120" cy="570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7D0-664E-49AB-A52D-C6249C04D2E6}" type="slidenum">
              <a:t>25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569-AB3F-47C5-9654-71FE62795E2D}" type="slidenum">
              <a:t>26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karn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914400" y="457200"/>
            <a:ext cx="8305920" cy="672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7CD-5DD5-4585-9104-61556D401C72}" type="slidenum">
              <a:t>27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karnmuestra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36C-4D17-478E-9CF0-1E9D444492A9}" type="slidenum">
              <a:t>28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CESOS EXÓGENO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9396360" cy="5410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Exhalativos, Superficiales, Volcanogénic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Exhalación de soluciones hidrotermales en superficie, generalmente en condiciones submarin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Volcanes Submarinos Modern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Epitermale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14C-728F-45AF-B5F3-B59092F58803}" type="slidenum">
              <a:t>2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457200"/>
            <a:ext cx="9144000" cy="69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Procesos Mineraliz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Los depósitos minerales constituyen concentraciones anómalas de un(os) elemento(s) en la corteza terrestre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Para que un determinado elemento llegue a constituir un yacimiento explotable el metal debe estar concentrado muy por encima de su abundancia media en la corteza terrestr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l grado de enriquecimiento varía para cada elemento dependiendo de su valor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F706-BFC2-4044-AC55-708DDCAC8047}" type="slidenum">
              <a:t>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BlackSmokersPeq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4000"/>
            <a:ext cx="10080720" cy="72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62B-67F3-43E4-A363-CB4CA22873C7}" type="slidenum">
              <a:t>30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cesos Exógenos II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Sedimentarios Alóctonos (clásticos)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Concentración de minerales pesados y durables, en sedimentos clástic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Placeres de Au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Arenas Silíce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Gravas de uso industrial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37C-0968-464D-B9BA-85B938D1561D}" type="slidenum">
              <a:t>31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laceresfluviales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4D0-B25E-402F-8570-CD0ADE84B3AA}" type="slidenum">
              <a:t>32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diamnatesplaceres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465120"/>
            <a:ext cx="8686800" cy="709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D6E-50CB-4F67-A304-8EA3B04E9E89}" type="slidenum">
              <a:t>33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9677520" cy="105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CURSOS ENERGÉTICO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E ORIGEN ORGÁNICO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9601200" cy="571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Acumulación, degradación y evolución de restos orgánicos hasta su </a:t>
            </a: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entramp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ndiciones anaeróbicas y un gradiente P-T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Carbón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: Hojas, Tallos y Tron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Hidrocarburos(petróleo,gas natural, asfaltos).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Plancton, Algas y Bacter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oca mad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oca Reservo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C934-433A-4B61-B7E4-2B2E5D393179}" type="slidenum">
              <a:t>34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55640" y="380880"/>
            <a:ext cx="8569440" cy="640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Para lograr una acumulación de hidrocarburos,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se debe producir el siguiente ciclo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360600" y="2100240"/>
            <a:ext cx="2940120" cy="31068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6840" y="5291280"/>
            <a:ext cx="134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o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dre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11520" y="5627520"/>
            <a:ext cx="2352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5796000"/>
            <a:ext cx="2016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G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IM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64120" y="5375160"/>
            <a:ext cx="176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o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eservo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544720" y="2268360"/>
            <a:ext cx="1174680" cy="260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1679400"/>
            <a:ext cx="1260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Tram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16480" y="2771640"/>
            <a:ext cx="1847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G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B89-5872-4D6B-9370-CD0B42B35EC5}" type="slidenum">
              <a:t>3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anticlinetrap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9220320" cy="73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450-3808-4155-8245-2E19E038C78D}" type="slidenum">
              <a:t>36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faulttrap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9296280" cy="703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68A-5886-4C62-BC91-9E0974F665C3}" type="slidenum">
              <a:t>37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stratigraphictrapd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152280"/>
            <a:ext cx="8153640" cy="713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CB4-9BFC-474E-9E77-8F53F200C66C}" type="slidenum">
              <a:t>38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16360" y="2660760"/>
            <a:ext cx="223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8F5-CFBB-4302-9470-BD47F50DCE88}" type="slidenum">
              <a:t>3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1981080"/>
          <a:ext cx="969948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96994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47840" y="252360"/>
            <a:ext cx="91296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Procesos Mineralizadore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C42-57CB-46B6-9FFC-98C6EBCB8E50}" type="slidenum">
              <a:t>4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52280"/>
            <a:ext cx="9677520" cy="70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PÓSITOS MINERALES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LGUNAS DEFINICIONE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Ocurrencia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Concentración anómala de un mineral que se considera valiosa por alguien en alguna parte o que es de interés científico o técnic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Depósito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Es una ocurrencia mineral (concentración anómala de un mineral o elemento metálico) de tamaño (volumen) y ley suficiente para que en circunstancias favorables, sea considerado con potencial económic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753-26A3-4E73-8626-C96C94F97B7E}" type="slidenum">
              <a:t>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380880"/>
            <a:ext cx="9220320" cy="73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oca de caj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La roca que rodea al depósito, por ejemplo las rocas a ambos lados de una vet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oca huéspe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La roca dentro de la cual se presenta el depósito mineral. Ej. Pórfido Chuqui en Chuquicamat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Estéri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Término minero utilizado para referirse a la roca que no constituye mena explotable, en oposición a rocas mineralizadas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8A0-454E-4571-B7AD-9DB85BC2FF45}" type="slidenum">
              <a:t>6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228600"/>
            <a:ext cx="9753840" cy="73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Men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ineral o minerales que pueden ser  extraídos de una roca con ganancia económica (utilidad). Es  utilizable, tal como se extrae o uno o más componentes  se pueden recuperar, separar, trata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j. Menas de Cu: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opir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FeS2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Born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5FeS4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osin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2S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Gang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quellos minerales los cuales ocurren con los minerales de mena, pero que no tienen valor económico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j.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uarzo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SiO2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aCO3) o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Pir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FeS2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0C86-11DD-40BC-A5EA-32E4BE5B7895}" type="slidenum">
              <a:t>7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0"/>
            <a:ext cx="9220320" cy="71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Mineraliza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Se refiere usualmente a procesos formadores de minerales de mena,y ha minerales asociados que permiten la sobreconcentración  de ellos(pirita)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Hipógena o Primari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Mineralización endógena, es decir producida por procesos internos de la tierra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7AEC-43C9-431D-9360-B33E9B154DFD}" type="slidenum">
              <a:t>8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42C-4038-464E-93C5-E1CECFC3DB7D}" type="slidenum">
              <a:t>9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19:18:16Z</dcterms:created>
  <dc:creator/>
  <dc:description/>
  <dc:language>en-US</dc:language>
  <cp:lastModifiedBy>digaytan</cp:lastModifiedBy>
  <dcterms:modified xsi:type="dcterms:W3CDTF">2004-10-26T22:08:51Z</dcterms:modified>
  <cp:revision>17</cp:revision>
  <dc:subject/>
  <dc:title>GEOLOGIA ECONOMICA</dc:title>
</cp:coreProperties>
</file>