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6F1-181E-40EC-BC26-911F7872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766-3436-4CAE-BAF5-3D604285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78E-DF35-402E-8F85-26FD02FB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926-2AFB-4586-B1E1-4A6A0E8C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C1A-0E4B-4F5D-8848-B77C58AB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E90-39C8-4435-A125-9743104B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011-4A19-4CE2-8F35-0DCD45DD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6F5-635A-4475-A0D3-4969ADF0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AB0-E8C7-4D2C-88DA-05B5C1AD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AE4-484C-45C8-8896-B75A615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DBC-03DE-44D2-B28A-FBC9770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BB5-F161-44D8-8B09-065EF856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AEB7-0CAD-4218-A787-9E6038484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SMICIDAD  Y   ESTRUCTURA   INTERNA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MAS  QUE   OTROS   PROCESOS  GEOLÓGICOS,    DEMUESTRAN  QUE   LA  TIERRA  CONTINÚA   SIENDO  UN  PLANETA  DINÁMICO,   QUE  CAMBIA   CADA   DÍA   POR  LAS  FUERZAS    TECTÓNICAS 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 SON    VIBRACIONES   DE   LA  TIERRA,   CAUSADAS    POR     EL  FRACTURAMIENTO   EN   PROFUNDIDAD    DE   LAS  ROCAS   SOMETIDAS   A   PERMANENTES   Y   CONTINUOS   ESFUERZOS,    QUE   SE  ACUMULAN   MAS   ALLÁ   DE 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ST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OMPERSE    Y   CAUSAR   UN  DESPLAZAMIENTO   SÚBITO   DE  LA 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L  REBOTE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(EL  TÉRMINO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L  GRIEG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SEISMOS 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=   AGITACIÓN,      Y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DE   LOS   VOCABLOS   LATINO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“ TER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“    Y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MOTUS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=   MOVIMIENTO DE  TIER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GOLPE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TERRESTRE,     PROVOCADO    LA   RUPTURA   Y   MOVIMIENTO  SÚBITO    DE   LAS   ROCAS,    GENERA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N   TODAS  DIRECCIONES,  QUE  TRANSMITEN  EL  MOVIMIENTO  O  TEMBLOR  DE 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PUNTO   DÓNDE   SE   INICIA  LA   RUPTURA   SE    DENOMI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C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PO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 EL   PUNTO   EN   LA  SUPERFICIE   TERRESTRE ,  DIRECTAMENTE    ENCIMA   D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 EL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PICENTR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CCIÓN     (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I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  ASUNTO  DIFÍCIL.       NO  OBSTANTE ,   ALGUNOS  ESTUDIOS  EXITOSOS  EN    ESTA  MATERIA   SE   HAN   LOGRADO   EN  CHINA  Y   EN   LOS    ESTADOS UNIDO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 CHINA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ACIERTOS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15  en  to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HAN   ESTADO   BASADOS  FUNDAMENTALMENTE  EN  OBSERVACIONES 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PORTAMIENTO  DE  ANI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EN  CAMBIOS   PRODUCIDOS  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NIVELES   FRÁ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(SE  LE    PRESTA  MUCHA  ANTENCIÓN  AL   PERÍODO  DE BAJA,   CUANDO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 DE  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HA  SIDO    LARGO.   LA  POBLACIÓN COMPLETA  ESTÁ  ORGANIZADA  EN  TORNO   AL PROCESO   DE  LA PREDICCIÓN)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ADOS  UNID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OS  ESTUDIOS   SE  HAN  BASADO   EN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  LA  DILA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O   DEFORMACIÓN  PREV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QUE   ES   SOMETIDA   LA   ROCA.    LA ROCA  SE  HINCHA  ANTES  DE   ROMPERSE,   Y   NUMEROSAS  MICROFRACTURAS  COMIENZAN  A   PRODUCIRSE   EN  MEDIO  DEL 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TRESS”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FRACTURA,   GENERÁNDOSE   DIFERENCIAS  EN  ALGUNAS  DE  LAS  PROPIEDADES  DE  LAS  ROCAS,   COMO  SER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ISTENCIA  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LOCIDAD  DE  LAS 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ÍSMICAS,    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AS   RAD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RREMOTOS    Y   TECTÓNICA   DE  PLA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ÍA   DE   LOS   SISMOS  OCURREN  EN   LOS  LIMITES   DE   PLACAS,   Y  A  PARTIR  DE  SU  DISTRIBUCIÓN   SE  PUEDEN  DELINEAR  FÁCILMENTE   LOS  BORDES   DE   LAS PLAC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DE   FOCOS  SUPERFICIALES  COINCIDEN  CON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ESTA  DE   LAS   DORSALES  OCEÁN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CO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ALLAS   TRANSFORMA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TRE  SEGMENTOS  DE   DORSA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EN  LOS  MÁRGENE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S  CONVERG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DISTRIBUYEN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S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BAJO  EL  CONTINENTE   ADYACENTE   O   ARCOS  DE  ISLAS;   ESTOS  PLANOS   INCLINADOS   ESTÁN   CARACTERIZADOS  POR   SISMO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S  SUPERFICIALES,    INTERMEDIOS    Y   PROFUND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Y   SU  DISTRIBUCIÓN   DEFINE    LO  QUE  SE  CONOCE   COMO   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O   DE   BENI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S  DE  FALLAS  ASOCIADOS A  SISMOS  A  LO   LARGO    DE   BORDES  DE PLACAS,    MUESTRAN    LA  DIIRECCIÓN  ACTUAL    DEL  MOVIMIENTOS  DE   LAS PLA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INTRAPLA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LEJOS  DE  LOS BORDES DE  LA PLACA,   SON  POCO  FRECUENTES ,   Y  CUANDO    OCURREN    SON   DE   BAJA   A    INTERMEDIA    MAGNITUD    Y,    NORMALMENTE,    SUPERFICIAL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S   ONDAS   SÍSMICAS    Y    EL    INTERIOR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 DESPUÉS  QUE  SE  CONOCIERON   LAS  CARACTERÍSTICAS  Y  EL COMPORTAMIENTO  DE  LAS  ONDAS  SÍSMICAS  QUE   ATRAVIESAN   LA TIERRA,  Y   TENER  UNA VERDADERA  RADIOGRAFÍA  DE  SU  INTERIOR,    SE   PUDO   PROBAR   COMO  ERA   SU  INTERIOR   Y    FORMULAR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DELO  DE  SU ESTRUCTURA Y  COMPOSI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   INFORMACIÓN,   QUE   PROVE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PUEDE   SER   ANALIZADA   EN   L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.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  LA  TIERRA  FUESE   HOMOGÉNEA  EN   SU  INTERIOR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RÍAN  A  VELOCIDADES  CONSTANTES,   Y  EN  UNA  DIRECCIÓN  SIEMPR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ERPENDICULAR  AL FRENTE   DE   O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 U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AYO  SÍSM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INVESTIGACIONES  DEMOSTRARON,   SIN  EMBARGO,  QU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UMENTAN  Y  CAMBIAN  NOTABLEMENTE  SUS  VELOCIDADES Y  DIRECCIONES   AL   ATRAVESAR   LA   TIER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 ,   AL  OCURRIR   UN  SISMO,   EN  UN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CHA  ZONA  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MISFERIO  O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CONOCE  COMO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SOMB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NO  SE  DETECTA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ENTRE  LOS  103°  Y  143°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MAS  ALLA  DE  LOS  143 °,    SE   DETECTABAN   SÓL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ENTRE  LOS  143 ° Y  180°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 ONDAS  SÍSMICAS  Y  EL INTERIOR  DE LA TIERR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VELOCIDAD 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VARÍAN   DE   ACUERDO  AL  MEDIO  POR  DONDE  AVANZAN,  Y   SE  CONOCE  QUE,   TANTO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N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OMO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ASTIC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  MEDIO,   SON  LAS  DOS  PROPIEDADES   FÍSICAS  DETERMINANTES  DE   ESTA   PARTICUL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ZONAS  SUPERFICIALES  DE  L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CORTE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VIAJAN    A   VELOCIDADES     DE    5.4.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6.3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/  seg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  HACEN 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km  /  seg   a  3.7  km  / 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LLEGAR  AL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ÍMITE  CORTEZA -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N AUMENTADO   BRUSCAMENTE   A  VELOCIDADES  QUE   LLEGAN  A    8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g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  4.5  km  / 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UEGO   DE    UNA   BRUSCA  DISMINUCIÓN  A  LOS  100  km DE   PROFUNDIDAD,   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UMENTAN    LENTA  Y PROGRESIVAMENTE   SUS  VELOCIDADES,  HASTA  ALCANZAR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13.7   km /  seg.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7.3   km  /  seg.,   AL  LLEGAR  AL  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EL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UCLE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LA  VELOCIDAD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AE    BRUSCAMENTE  A  8  km  /  seg,  PARA VOLVER  A REMONTAR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PI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LO ANTERIOR  SE  DESPRENDE   QUE  EL  INTERIOR  DE   LA TIERRA  ES  CLARAMENTE  HETEROGÉNEO,   EN  EL  SENTIDO  QUE   A DIFERENTES  PROFUNDIDADES  LOS  MATERIALES  TIENEN   PROPIEDADES  ELÁSTICAS  DISTINTAS.  ES  UN   PLANETA  DIFERENCIADO  INTERIORMENT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CONTINUIDADES   DE  LA  VELOCIDAD  DE  LAS   ONDAS  S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CAMBIOS  DE  VELOCIDAD  QUE  EXPERIMENTAN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L   ATRAVESAR   EL  INTERIOR  DE  LA  TIERRA,   DETERMINAN  LA OCURRENCIA  DE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SCONTINUIDAD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IMPORTANTES,  QUE   REVELAN   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PE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ORTEZ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RRE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U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MUESTRAN  QUE  ELLOS  TIENEN  DIFERENTES  COMPOSICIONES QUÍ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LOS ESTUDIOS   DE  LAS  VELOCIDADES SÍSMICAS  REVELAN   MUCHÍSIMO  ACERCA  DE  LA  NATURALEZA  FÍSICA  DEL INTERIOR,   REVELANDO  UN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INTERNO  SÓL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  UN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EXTERNO  LÍQ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STENÓSFERA   BLANDA   O    DÚCTI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ÓSFERA    RÍGI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VARIACIÓN  DE  LA  VELOCIDAD  D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CURRE    E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ENTRE  EL  MANTO  Y  EL  NÚ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A  UNA PROFUNDIDAD   DE    2.9O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REDUCEN  DRÁSTICAMENTE  SU  VELOCIDAD, 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APARECEN).   SE  LE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DISCONTINUIDA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IECHERT-GUTENBE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NTINUIDADES  DE  LA VELOCIDAD DE LAS  ONDAS  SÍSMICA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SÍSM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IMPORTANTE  APARECE   ENTRE   LOS   5  Y  7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BAJO  LA  SUPERFICIE,    Y  SE 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OHOROVIC 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H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SE  CONSIDERA  QUE  EST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RESENT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ASE    DE  LA CORTEZ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MARCA  UN   IMPORTANTE  CAMBIO   COMPOSICIONAL,   DE UNA  CORTEZ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A  EN   FELDESPA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UN   MANT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O   EN  OLI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BABLEMENT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DISCONTINUIDAD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 SIGNIFICATIVA,  SIN  EMBARGO,   SEA  LA  ZONA  DE  BAJA  VELOCIDAD   QUE  SE  DETECTA   DESDE  LOS  100  A LOS  250  Km   BAJO  LA  SUPERFICIE.   SE  TRATA  DE  UNA  ZONA,   DÓNDE,  PROBABLEMETE ,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TÉ  MUY  CERCA  DE  SU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DE  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O  INCLUSO  PUEDE  EST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CIALMENTE  FUND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ERO, TAL  VEZ,   NO   MAS  DE    1 %   A  5  %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MOGRAFÍ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ÍSMICA  COMIENZA  A   REVELARN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ODELOS  DE CONVECCIÓN  D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VECCIONES    INTERNAS    DE   LA 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CELDAS  DE  CONVECCIÓN  E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NÚCLEO   Y  EL  MANTO   SON  EL  MECANISMO  MAS  IMPORTANTE   DE   TRANSFERENCIA   DEL  CALOR  INTERNO  DE LA TIERRA.  LA  CONVECCIÓN  EN  EL  NÚCLEO  FÉRRICO  ES  RESPONSABLE,   PROBABLEMENTE,    DEL  CAMPO  MAGNÉTICO  DE  LA TIER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 SÍSMICAS   Y   LOCALIZACIÓN   DEL   SÍ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 DE  TRES  TIPOS:    (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PRIMARIAS  O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P”),   (2)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SECUNDARIAS   O  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S” ),     Y  (3)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   O  LARG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“L”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TRES  TIPOS   D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N   A   VELOCIDADES    FIFERENTES,    INCLUSO   EN   EL  MISMO  MEDIO.     LAS   MAS    VELOCES  EN   PROPAGARSE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LAS  MAS  LENTAS  SON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CUANTO   A  LA  LOCALIZACIÓN   D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FOCO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LLO    ES   MUY   IMPORTANTE  EN  EL   ESTUDIO  DE   LA  TECTÓNICA  DE   PLACAS,    PORQUE   INDICA   LA   PROFUNDIDAD  EN  QUE  OCURRE  LA  RUPTURA  Y  MOVIMIENTO  DE   LAS  R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ACUERDO  A  LA  PROFUNDIDAD   EN  QUE  OCURREN  LOS   SISMOS,  ÉSTOS  SE   PUEDEN  AGRUPAR   E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LA   SUPERFICIE   TERRESTRE  Y  LO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0  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PROFUNDIDAD,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DE  FOCO  INTER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 LOS  70    Y   3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,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DE  FOCO  PROFU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TRE  300   Y   7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.                                                                                               SISMOS  MAS  PROFUNDOS  NO  SE  HAN  DETECTA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SÍSMICAS   Y   LOCALIZACIÓN   DEL  SISMO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MÉTODO  PARA  LA  LOCALIZACIÓN   DEL   EPICENTRO    SÍSMICO  ES  RELATIVAMENTE   SIMPLE,   VALIÉNDOSE    DE   LA  PROPIEDAD   DE  LAS   ONDAS  SISMICAS   DE   VIAJAR   A   VELOCIDADES  DIFERENTES   EN  UN  MISMO 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SON  LAS  MAS  VELOCES  EN PROPAGARSE,   LLEGAN  PRIMERO   A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  SISMOLÓG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DE   INTERVA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TRE   LA   LLEGADA  DE  LAS  PRIMERAS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 LA   LLEGADA  DE  LAS  SEGUND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SERÁ   EN  FUNCIÓN   DE    LA   DISTANCIA   ENTR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 DISTINTOS  GRUP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 UN  SISMO   DETERMINADO  Y  DE   FUENTE   CONOCIDA,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IDENTIFICAN   EN   L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NUMEROS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  EL   REGISTRO  DE   LOS  MOVIMIENTOS  SÍSMICOS   CAPTADOS  POR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FO)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UEGO,   LOS   TIEMPOS   RECORRIDOS   POR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ABULA  Y   SE   CONSTRUYEN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GRÁFICOS   DE   TIEMPO - DISTA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,   QUE   PUEDEN   SER  USADOS  PARA    DETERMINAR     LA  DISTANCIA  DE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NUEVOS  TER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 PARA  DETERMINAR    LA   LOCALIZACIÓN    EXACTA 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SISMO,    SE   REQUIERE   DE   LA  INFORMACIÓN   DE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ES  ESTACION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 HAYAN   REGISTRADO   ESE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ÁFICO    DE    TIEMPO -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TANCIA  EN   km  TIEMPO DE  RECORRIDO  INTERVALO  ENTRE         DESDE  EL ORIGEN     ONDAS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ONDA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             SISMO DE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n. F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IN) (SEG)    (MIN)(SEG)      (MIN.)      (SEG)    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.600  km                   4        22           6           3               2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200  km                   5        56          10        48               4             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.800  km                   8          1           14       28               6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.400  km                   9         50          17       50               8             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8.000  km                  11        26          20       51               9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9.600   km                  12        43          23       27              10            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.200  km                   13        50          25       39              11            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19051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ANÁ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9051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A 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1066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7242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3 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12189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1240" y="228600"/>
            <a:ext cx="845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 Y       MAGNITIUD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    UN    SISMO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UN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LA  EVALUACIÓN   DE  LA   SEVERIDAD  DEL  MOVIMIENTO TERRESTRE  EN  UNA  LOCALIDAD    DETERMINADA ,    O     PODER  DE   DESTRUCCIÓN.    SE   MIDE   EN   RELACIÓN   A  L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LA  VIDA  HUMA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BASA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ECIACIÓN   PERSON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L  EVALUADOR;    SE   DESCRIBE   EN  TÉRMINOS   DEL  DAÑO  CAUSADO  EN   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FICIOS,   REPRESAS,   PUENT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TRAS 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PUEDEN  REPORTAR   RÁPIDAMENT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  LO TANTO,    UNA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RELATIV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ÍA  DE   UNA    LOCALIDAD   ESPECÍFICA   A  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QUE   DEPENDERÁ   DE  VARIOS  FACTORES:   (1)   D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TAL  DE  LA ENERGÍA  LIBERA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(2)     DE   LA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TANCIA   DEL    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ONERDS  GEOLÓG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LUG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tipo   roca,    estructuras, morfología,   grado  de  consolidación  del  suelo,  et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 (4)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PO   Y   CALIDAD   DE   LA  CONSTRU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MIDE   EN  GRADOS,    DE   ACUERDO  A   ESCALAS  CONVENCIONALES,    DÓNDE   CADA   GRADO   REPRESENTA    DISTINTAS  CONDICIONES  DE   MOVIMIENTO   Y   DAÑOS  A  LA    CONSTRUCCIÓN    Y  OBJETOS.    EN  CHILE    SE  USA  LA   ESCALA   INTERNACIONAL  MODIFICADA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 MERCALL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CONTEMPLA  12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RAD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   UN  SISMO   ES   UNA  MEDIDA  FÍSICA   INDIRECTA   DE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NTIDAD   DE   ENERGÍA  LIBERAD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 HIPOCENTRO  DEL  SISMO,  Y   SE    OBTIENE   A   TRAVÉS   DE   MEDICIONES   INSTRUMENTALES  EN   L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ES  SISMOLÓGICAS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A   MEDIDA  MUCHO  MAS   PRECISA  QUE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QUE   ESTÁ   BASADA    SÓLO   EN   OBSERVACIONES  SUBJETIVAS  DE   LA   DESTRUCCIÓN  EN   CADA  LU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 SOLA  PARA  CADA 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DETERMINA    A  PARTIR   DE   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CIÓN   DIRECT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MPLITUD   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  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ERÍO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ECHAS   E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SE  TRATA  DE 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 ABSOLUTA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NO   DEPENDE   DE   LA   DISTANCIA  EN  QUE   SE   ENCUENTRE   LA   ESTACIÓN.     LA   TOTALIDAD  DE    LA   ENERGÍA  DE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 CALCULADA   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PLITUD  DE   LAS OND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LA  DISTANCIA   DEL   EPICEN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UN  SISMO   SE  EXPRESA  USANDO 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QUE   ARBITRARIAMENTE   ASIGNA    GRADO  CERO  A   LOS  LÍMITES  BAJOS  DE    DETECCIÓN,  Y   NO  TIENE    UN  LÍMITE  SUPERIOR.    CADA   GRADO    DE   LA    ESCALA   REPRESENTA,   RESPECTO  AL   GRADO QUE   LE    PRECEDE ,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REMENTO   EN  LA AMPLITUD  DE  ONDA   POR  UN   FACTOR  DE   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L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VIBRACIONES  DE   UN    SISMO    CON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S  10  VECES  MAS  GRANDE   EN  AMPLITUD  QUE   UN    SISMO  CO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Y   LAS   VIBRACIONES   DE   UN  SISMO  CON  MAGNITUD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UN  MILLÓN  DE  VECES   MAS  GRANDE   EN  AMPLITUD  QUE  UN  SISMO  DE   MAGNITU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INAMIENTOS   RECIENTES   EN 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CALA   D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OS   SISMOS,   BUSCAN   DISTINGUIR    MEJOR   LAS   DIFERENCIAS   ENTRE    TERREMOTOS.    UNA  MODIFICACIÓN,    LLAMAD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MAGNITUD  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HA  SIDO  DESARROLLADA   CON   ESTE    PROPÓSITO,   Y    ES    HOY AMPLIAMENTE   LA   MAS  USADA    PARA   MEDIR    LA  MAGNITUD  DE    LOS   SISMOS     (ELLA     REFLEJA   LA   CANTIDAD  DE  ENERGÍA   LIBERADA  POR   EL   SISM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UAL  QU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ALA   RICHTER  ESTAND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GNITUDES   DE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LOGARÍTMICAS   Y  VAN    DE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,   MAS  O  MENOS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GRADOS  DE  MAGNITUD,     PERO  EN SU   VALOR  ABSOLUTO  TIENEN   UNA  DIFERENCIA   SÓLO    DESPRECIA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MAYOR   TERREMOTO   REGISTRADO  HASTA  HOY   HA   SIDO   DE  GRADO   9.5,   CONSIDERÁNDOSE   “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  LOS   DE   GRADO  7.5.    TERREMOTOS  MAYORES  ES  POCO  PROBABLE  QUE  OCURRAN,   DEBIDO A QUE  LAS  ROCAS   NO  SON  SUFICIENTEMENTE   FUERTES   PARA   ACUMULAR   MAS  ENERG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ESGO       SÍS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ER   EFECT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TERREMOTO  ES  EL  MOVIMIENTO  DEL   SUELO   Y   EVENTUAL    OCURRENCIAS   DE   FALLAS  SUPERFICIALES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  LOS  RIESGOS  SÍSMICOS  INCLUYEN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SLIZAMIENTOS    DE   TIERRA ,    STUNAMIS ,  LIQUEFACCIÓN.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SOLEVANTAMIENTOS   Y  SUBSIDENCIAS,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TANTO  LOCALES  COMO   REGIONALES.    ADEMÁS,    OTR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FECTOS    SECUNDARI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RTANTES   SO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INCENDIOS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AVALANCHAS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ROVOCADAS    POR   ROTURAS   DE     LAS   REDES   DE  AGUAS,   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SURGENCI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PONTÁNEAS   DE  NAPAS  SUBTERRÁNEAS,   O     POR  FALLAS  EN   LAS  REPRESAS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DICCIÓN         SÍS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ECIR  UN  SISMO  INVOLUCRA   3   PARÁMETROS  BIÉN  CONDICIONADOS (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LUG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ONDE  OCURRIRÁ  EL   PRÓXIMO  SISMO, 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FECHA  Y  HORA),    Y    (3)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,   LA   LOCALIZACIÓN  Y  EL  MOMENTO  EN QUE  OCURRIRÁ   UN  SISMO,   NO   PUEDEN  SER   PREDECIDOS  CON   EXACTITUD;    TAMPOCO    SU   MAGNITUD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N    EMBARGO,    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  SÍSM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AVALUADO,   A  PARTIR   DE   DATOS   HISTÓRICOS  Y   MEDICIONES  INSTRUMENTALES,   Y   ESTABLECER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ZONAS   SÍSMICAS   DE   ALTO   RIESGO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REPARÁNDOLAS   PARA   ENFRENTAR   FUTUR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S,  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MINIMIZAR  ASÍ    LOS  EVENTUAL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 LAS  CONSTRUCCIONES  Y   LA  POBLACIÓ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OCIENDO  BIÉN  LA  HISTORIA  SÍSMICA  DE  UNA  REGIÓN,  CON  CIERTOS  PARÁMETROS  GEOFÍSICOS  SE   PUEDE  ESTIMAR   EL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EMPO  DE  RECURRENCI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N  MAS  O  MENOS  UN  25  %   DE  ERROR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PUÉS   DE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L   NÚMERO  DE   EVENTOS    Y    LA  ENERGÍA   DISMINUYEN   CON   EL TIEMPO,   HASTA  ALCANZAR  UN   PERÍODO   DE   QUIETUD,  QUE  COMÚNMENTE  SE  ALTERA  PREVIO  A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 RÉP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ON  ACOMODAMIENTOS  BIÉN  CONOCIDOS  EN  LA ZONA  DE   UN   TEMBLOR,   PERO,   PARA   DETERMINAR    EL  CARÁCTER  DE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CUR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Y  QUE  COMPARAR    CON  REGISTROS  SÍSMICOS  ANTERIO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7:05Z</dcterms:created>
  <dc:creator>Compaq</dc:creator>
  <dc:description/>
  <dc:language>en-US</dc:language>
  <cp:lastModifiedBy>Universidad de Chile</cp:lastModifiedBy>
  <cp:lastPrinted>2001-06-22T21:57:17Z</cp:lastPrinted>
  <dcterms:modified xsi:type="dcterms:W3CDTF">2001-06-26T23:51:53Z</dcterms:modified>
  <cp:revision>22</cp:revision>
  <dc:subject/>
  <dc:title>SISMICIDAD  Y  ESTRUCTURA  INTERNA  DE LA TIERRA</dc:title>
</cp:coreProperties>
</file>