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FBC1-5193-4306-818B-EF425843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5DE9-B03E-4CC9-BD89-CA5CB536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BF2D-679D-42B3-B0BF-C6F97CB0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5370-6EF0-4FC0-96B5-2266D706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9BA8-A7BB-49CD-BEC7-989CB963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B9E-5229-4240-8661-E2E12950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D570-AF16-4790-B9D3-C23F78E2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2379-4CD6-46C0-B653-E5955DD2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6B93-5B57-475C-BBB8-E4B40908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FE46-34A3-4283-B570-49150835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B0D5-85F9-4B67-B363-172BB148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6893-6863-49E7-B7A3-B6FADBA8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6561-102B-4438-9016-6E3BD13CD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SISMICIDAD  Y   ESTRUCTURA   INTERNA   DE   LA  T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SISM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MAS  QUE   OTROS   PROCESOS  GEOLÓGICOS,    DEMUESTRAN  QUE   LA  TIERRA  CONTINÚA   SIENDO  UN  PLANETA  DINÁMICO,   QUE  CAMBIA   CADA   DÍA   POR  LAS  FUERZAS    TECTÓNICAS  INTER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SISMOS   SON    VIBRACIONES   DE   LA  TIERRA,   CAUSADAS    POR     EL  FRACTURAMIENTO   EN   PROFUNDIDAD    DE   LAS  ROCAS   SOMETIDAS   A   PERMANENTES   Y   CONTINUOS   ESFUERZOS,    QUE   SE  ACUMULAN   MAS   ALLÁ   DE   SU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MITE   ELÁST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HAST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ROMPERSE    Y   CAUSAR   UN  DESPLAZAMIENTO   SÚBITO   DE  LA   RO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EORÍA  DEL  REBOTE  ELÁST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.    (EL  TÉRMINO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ISM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DEL  GRIEG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“ SEISMOS “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=   AGITACIÓN,      Y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RREMO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DE   LOS   VOCABLOS   LATINO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“ TER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“    Y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“ MOTUS 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=   MOVIMIENTO DE  TIER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“GOLPE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TERRESTRE,     PROVOCADO    LA   RUPTURA   Y   MOVIMIENTO  SÚBITO    DE   LAS   ROCAS,    GENERA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EN   TODAS  DIRECCIONES,  QUE  TRANSMITEN  EL  MOVIMIENTO  O  TEMBLOR  DE  TIER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PUNTO   DÓNDE   SE   INICIA  LA   RUPTURA   SE    DENOMIN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FOC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O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HIPO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  EL   PUNTO   EN   LA  SUPERFICIE   TERRESTRE ,  DIRECTAMENTE    ENCIMA   DEL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O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ES   EL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PICENTRO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L   S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DICCIÓN     (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DIC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S  UN  ASUNTO  DIFÍCIL.       NO  OBSTANTE ,   ALGUNOS  ESTUDIOS  EXITOSOS  EN    ESTA  MATERIA   SE   HAN   LOGRADO   EN  CHINA  Y   EN   LOS    ESTADOS UNIDO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N CHINA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ACIERTOS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15  en  to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   HAN   ESTADO   BASADOS  FUNDAMENTALMENTE  EN  OBSERVACIONES   D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PORTAMIENTO  DE  ANIM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Y   EN  CAMBIOS   PRODUCIDOS  E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NIVELES   FRÁ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(SE  LE    PRESTA  MUCHA  ANTENCIÓN  AL   PERÍODO  DE BAJA,   CUANDO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IEMPO   DE  RECURRENC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HA  SIDO    LARGO.   LA  POBLACIÓN COMPLETA  ESTÁ  ORGANIZADA  EN  TORNO   AL PROCESO   DE  LA PREDICCIÓN).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STADOS  UNIDO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OS  ESTUDIOS   SE  HAN  BASADO   EN 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EORÍA  DE  LA  DILAT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O   DEFORMACIÓN  PREV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  QUE   ES   SOMETIDA   LA   ROCA.    LA ROCA  SE  HINCHA  ANTES  DE   ROMPERSE,   Y   NUMEROSAS  MICROFRACTURAS  COMIENZAN  A   PRODUCIRSE   EN  MEDIO  DEL  “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TRESS”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FRACTURA,   GENERÁNDOSE   DIFERENCIAS  EN  ALGUNAS  DE  LAS  PROPIEDADES  DE  LAS  ROCAS,   COMO  SER   EN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SISTENCIA   ELÉCTR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ELOCIDAD  DE  LAS  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ÍSMICAS,    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GAS   RAD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 O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RREMOTOS    Y   TECTÓNICA   DE  PLA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MAYORÍA   DE   LOS   SISMOS  OCURREN  EN   LOS  LIMITES   DE   PLACAS,   Y  A  PARTIR  DE  SU  DISTRIBUCIÓN   SE  PUEDEN  DELINEAR  FÁCILMENTE   LOS  BORDES   DE   LAS PLACA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S  DE   FOCOS  SUPERFICIALES  COINCIDEN  CON 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RESTA  DE   LAS   DORSALES  OCEÁN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Y  CON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ALLAS   TRANSFORMA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NTRE  SEGMENTOS  DE   DORSAL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SISMOS  EN  LOS  MÁRGENES  DE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CAS  CONVERGE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DISTRIBUYEN   E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ZONAS  INCLIN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BAJO  EL  CONTINENTE   ADYACENTE   O   ARCOS  DE  ISLAS;   ESTOS  PLANOS   INCLINADOS   ESTÁN   CARACTERIZADOS  POR   SISMOS  DE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OCOS  SUPERFICIALES,    INTERMEDIOS    Y   PROFUND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Y   SU  DISTRIBUCIÓN   DEFINE    LO  QUE  SE  CONOCE   COMO   EL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NO   DE   BENIOF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VIMIENTOS  DE  FALLAS  ASOCIADOS A  SISMOS  A  LO   LARGO    DE   BORDES  DE PLACAS,    MUESTRAN    LA  DIIRECCIÓN  ACTUAL    DEL  MOVIMIENTOS  DE   LAS PLAC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S  INTRAPLA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LEJOS  DE  LOS BORDES DE  LA PLACA,   SON  POCO  FRECUENTES ,   Y  CUANDO    OCURREN    SON   DE   BAJA   A    INTERMEDIA    MAGNITUD    Y,    NORMALMENTE,    SUPERFICIALE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AS   ONDAS   SÍSMICAS    Y    EL    INTERIOR   DE   LA  T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 DESPUÉS  QUE  SE  CONOCIERON   LAS  CARACTERÍSTICAS  Y  EL COMPORTAMIENTO  DE  LAS  ONDAS  SÍSMICAS  QUE   ATRAVIESAN   LA TIERRA,  Y   TENER  UNA VERDADERA  RADIOGRAFÍA  DE  SU  INTERIOR,    SE   PUDO   PROBAR   COMO  ERA   SU  INTERIOR   Y    FORMULAR 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DELO  DE  SU ESTRUCTURA Y  COMPOSI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   INFORMACIÓN,   QUE   PROVEEN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PUEDE   SER   ANALIZADA   EN   LO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GRAMAS .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  LA  TIERRA  FUESE   HOMOGÉNEA  EN   SU  INTERIOR, 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VIAJARÍAN  A  VELOCIDADES  CONSTANTES,   Y  EN  UNA  DIRECCIÓN  SIEMPRE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ERPENDICULAR  AL FRENTE   DE   ON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OMO  UN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RAYO  SÍSM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INVESTIGACIONES  DEMOSTRARON,   SIN  EMBARGO,  QUE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UMENTAN  Y  CAMBIAN  NOTABLEMENTE  SUS  VELOCIDADES Y  DIRECCIONES   AL   ATRAVESAR   LA   TIERR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DICIONALMENTE ,   AL  OCURRIR   UN  SISMO,   EN  UN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NCHA  ZONA  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EMISFERIO  OPUES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SE  CONOCE  COMO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ZONA  DE SOMB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NO  SE  DETECTAN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SÍSMICAS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ENTRE  LOS  103°  Y  143°  D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O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Y  MAS  ALLA  DE  LOS  143 °,    SE   DETECTABAN   SÓLO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(ENTRE  LOS  143 ° Y  180°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S  ONDAS  SÍSMICAS  Y  EL INTERIOR  DE LA TIERRA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VELOCIDAD   DE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VARÍAN   DE   ACUERDO  AL  MEDIO  POR  DONDE  AVANZAN,  Y   SE  CONOCE  QUE,   TANTO   L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NSIDA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COMO   L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ASTIC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DEL    MEDIO,   SON  LAS  DOS  PROPIEDADES   FÍSICAS  DETERMINANTES  DE   ESTA   PARTICULAR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 ZONAS  SUPERFICIALES  DE  L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CORTEZ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VIAJAN    A   VELOCIDADES     DE    5.4.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6.3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 /  seg 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ONDA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  HACEN  DE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3.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km  /  seg   a  3.7  km  /  s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L  LLEGAR  AL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ÍMITE  CORTEZA - 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HAN AUMENTADO   BRUSCAMENTE   A  VELOCIDADES  QUE   LLEGAN  A    8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/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seg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Y  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    4.5  km  /  s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EL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UEGO   DE    UNA   BRUSCA  DISMINUCIÓN  A  LOS  100  km DE   PROFUNDIDAD,   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NDAS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UMENTAN    LENTA  Y PROGRESIVAMENTE   SUS  VELOCIDADES,  HASTA  ALCANZAR 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13.7   km /  seg.,  Y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7.3   km  /  seg.,   AL  LLEGAR  AL  NUC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 EL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NUCLE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LA  VELOCIDAD  DE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CAE    BRUSCAMENTE  A  8  km  /  seg,  PARA VOLVER  A REMONTAR,  Y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  PI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-------------------------                                           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ONCLUSIÓN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LO ANTERIOR  SE  DESPRENDE   QUE  EL  INTERIOR  DE   LA TIERRA  ES  CLARAMENTE  HETEROGÉNEO,   EN  EL  SENTIDO  QUE   A DIFERENTES  PROFUNDIDADES  LOS  MATERIALES  TIENEN   PROPIEDADES  ELÁSTICAS  DISTINTAS.  ES  UN   PLANETA  DIFERENCIADO  INTERIORMENTE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ISCONTINUIDADES   DE  LA  VELOCIDAD  DE  LAS   ONDAS  SÍ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CAMBIOS  DE  VELOCIDAD  QUE  EXPERIMENTAN  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L   ATRAVESAR   EL  INTERIOR  DE  LA  TIERRA,   DETERMINAN  LA OCURRENCIA  DE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ISCONTINUIDADE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IMPORTANTES,  QUE   REVELAN   EL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PES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ORTEZ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ERRESTR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NUCLE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MUESTRAN  QUE  ELLOS  TIENEN  DIFERENTES  COMPOSICIONES QUÍM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DICIONALMENTE,   LOS ESTUDIOS   DE  LAS  VELOCIDADES SÍSMICAS  REVELAN   MUCHÍSIMO  ACERCA  DE  LA  NATURALEZA  FÍSICA  DEL INTERIOR,   REVELANDO  UN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ÚCLEO  INTERNO  SÓL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  UN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ÚCLEO  EXTERNO  LÍQU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UN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STENÓSFERA   BLANDA   O    DÚCTI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 UN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ITÓSFERA    RÍGI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MAYOR  VARIACIÓN  DE  LA  VELOCIDAD  DE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OCURRE    EN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MITE  ENTRE  EL  MANTO  Y  EL  NÚCLE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A  UNA PROFUNDIDAD   DE    2.9OO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REDUCEN  DRÁSTICAMENTE  SU  VELOCIDAD,   Y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SAPARECEN).   SE  LE  CONOCE  COM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DISCONTINUIDAD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DE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WIECHERT-GUTENBER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CONTINUIDADES  DE  LA VELOCIDAD DE LAS  ONDAS  SÍSMICAS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CONTINUIDAD  SÍSM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IMPORTANTE  APARECE   ENTRE   LOS   5  Y  70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BAJO  LA  SUPERFICIE,    Y  SE   CONOCE  COM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CONTINUIDA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OHOROVIC  (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HO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 SE  CONSIDERA  QUE  EST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CONTINUIDAD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PRESENTA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BASE    DE  LA CORTEZA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MARCA  UN   IMPORTANTE  CAMBIO   COMPOSICIONAL,   DE UNA  CORTEZ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CA  EN   FELDESPA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  UN   MANT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CO   EN  OLIV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BABLEMENTE  LA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DISCONTINUIDAD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S  SIGNIFICATIVA,  SIN  EMBARGO,   SEA  LA  ZONA  DE  BAJA  VELOCIDAD   QUE  SE  DETECTA   DESDE  LOS  100  A LOS  250  Km   BAJO  LA  SUPERFICIE.   SE  TRATA  DE  UNA  ZONA,   DÓNDE,  PROBABLEMETE , 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STÉ  MUY  CERCA  DE  SU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UNTO  DE  FUS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O  INCLUSO  PUEDE  ESTAR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ARCIALMENTE  FUND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ERO, TAL  VEZ,   NO   MAS  DE    1 %   A  5  %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QU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OMOGRAFÍ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SÍSMICA  COMIENZA  A   REVELARNO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ODELOS  DE CONVECCIÓN  DEL  M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ONVECCIONES    INTERNAS    DE   LA   T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CELDAS  DE  CONVECCIÓN  E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NÚCLEO   Y  EL  MANTO   SON  EL  MECANISMO  MAS  IMPORTANTE   DE   TRANSFERENCIA   DEL  CALOR  INTERNO  DE LA TIERRA.  LA  CONVECCIÓN  EN  EL  NÚCLEO  FÉRRICO  ES  RESPONSABLE,   PROBABLEMENTE,    DEL  CAMPO  MAGNÉTICO  DE  LA TIER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ONVECCIÓN  EN  EL  NÚC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ONVECCIÓN  EN  EL  M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TIPOS  DE  ONDAS   SÍSMICAS   Y   LOCALIZACIÓN   DEL   SÍ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ON   DE  TRES  TIPOS:    (1)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PRIMARIAS  O   LONGITUDI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(ONDAS  “P”),   (2)   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SECUNDARIAS   O  TRANSVERS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(ONDAS  “S” ),     Y  (3)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   SUPERFICIALES   O  LARG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(ONDAS “L” 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TRES  TIPOS   DE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VIAJAN   A   VELOCIDADES    FIFERENTES,    INCLUSO   EN   EL  MISMO  MEDIO.     LAS   MAS    VELOCES  EN   PROPAGARSE  SON  LAS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 LONGITUDI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Y  LAS  MAS  LENTAS  SON  LA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   SUPERFICI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CUANTO   A  LA  LOCALIZACIÓN   DEL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FOCO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LLO    ES   MUY   IMPORTANTE  EN  EL   ESTUDIO  DE   LA  TECTÓNICA  DE   PLACAS,    PORQUE   INDICA   LA   PROFUNDIDAD  EN  QUE  OCURRE  LA  RUPTURA  Y  MOVIMIENTO  DE   LAS  RO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ACUERDO  A  LA  PROFUNDIDAD   EN  QUE  OCURREN  LOS   SISMOS,  ÉSTOS  SE   PUEDEN  AGRUPAR   EN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S   SUPERFICI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ENTRE   LA   SUPERFICIE   TERRESTRE  Y  LOS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70  km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PROFUNDIDAD,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S   DE  FOCO  INTERMEDI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ENTRE    LOS  70    Y   300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 PROFUNDIDAD,  Y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S  DE  FOCO  PROFUN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NTRE  300   Y   700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 PROFUNDIDAD.                                                                                               SISMOS  MAS  PROFUNDOS  NO  SE  HAN  DETECTADO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IPOS  DE  ONDAS  SÍSMICAS   Y   LOCALIZACIÓN   DEL  SISMO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(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continuación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 MÉTODO  PARA  LA  LOCALIZACIÓN   DEL   EPICENTRO    SÍSMICO  ES  RELATIVAMENTE   SIMPLE,   VALIÉNDOSE    DE   LA  PROPIEDAD   DE  LAS   ONDAS  SISMICAS   DE   VIAJAR   A   VELOCIDADES  DIFERENTES   EN  UN  MISMO  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LONGITUDI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 SON  LAS  MAS  VELOCES  EN PROPAGARSE,   LLEGAN  PRIMERO   A  UN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CIÓN  SISMOLÓG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QUE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RANSVERS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IEMPO  DE   INTERVA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NTRE   LA   LLEGADA  DE  LAS  PRIMERAS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 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Y   LA   LLEGADA  DE  LAS  SEGUND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SERÁ   EN  FUNCIÓN   DE    LA   DISTANCIA   ENTRE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T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PI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 DISTINTOS  GRUPOS  D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 UN  SISMO   DETERMINADO  Y  DE   FUENTE   CONOCIDA,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IDENTIFICAN   EN   L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GRAM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NUMEROS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TACION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GRA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    EL   REGISTRO  DE   LOS  MOVIMIENTOS  SÍSMICOS   CAPTADOS  POR    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ÓGRAFO)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UEGO,   LOS   TIEMPOS   RECORRIDOS   POR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S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TABULA  Y   SE   CONSTRUYEN 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GRÁFICOS   DE   TIEMPO - DISTANC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,   QUE   PUEDEN   SER  USADOS  PARA    DETERMINAR     LA  DISTANCIA  DE  L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PICENTRO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NUEVOS  TERREMO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INALMENTE,   PARA  DETERMINAR    LA   LOCALIZACIÓN    EXACTA   D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PI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DEL  SISMO,    SE   REQUIERE   DE   LA  INFORMACIÓN   DE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RES  ESTACIONE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QUE    HAYAN   REGISTRADO   ESE   S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GRÁFICO    DE    TIEMPO - 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9903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------------------------------------------------------------------------------------------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ISTANCIA  EN   km  TIEMPO DE  RECORRIDO  INTERVALO  ENTRE         DESDE  EL ORIGEN     ONDAS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ONDAS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(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                                                                         SISMO DE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n. Fc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MIN) (SEG)    (MIN)(SEG)      (MIN.)      (SEG)    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.600  km                   4        22           6           3               2              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3.200  km                   5        56          10        48               4              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4.800  km                   8          1           14       28               6              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6.400  km                   9         50          17       50               8              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8.000  km                  11        26          20       51               9             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9.600   km                  12        43          23       27              10             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1.200  km                   13        50          25       39              11             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8120"/>
            <a:ext cx="190512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DIANÁPO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29000"/>
            <a:ext cx="190512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STA  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743200"/>
            <a:ext cx="10666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 PA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724280"/>
            <a:ext cx="106704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03 °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733920"/>
            <a:ext cx="121896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038480"/>
            <a:ext cx="106704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343400"/>
            <a:ext cx="9144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1219320"/>
            <a:ext cx="0" cy="3962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1752480"/>
            <a:ext cx="0" cy="335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121932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0" y="1447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2514600"/>
            <a:ext cx="0" cy="266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121932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63120" y="190512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763120" y="12193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763120" y="1676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1240" y="228600"/>
            <a:ext cx="84582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      Y       MAGNITIUD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DE    UN    SISMO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 UN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SISM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  LA  EVALUACIÓN   DE  LA   SEVERIDAD  DEL  MOVIMIENTO TERRESTRE  EN  UNA  LOCALIDAD    DETERMINADA ,    O     PODER  DE   DESTRUCCIÓN.    SE   MIDE   EN   RELACIÓN   A  L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FECTOS  EN  LA  VIDA  HUMAN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SE   BASA   EN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RECIACIÓN   PERSON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L  EVALUADOR;    SE   DESCRIBE   EN  TÉRMINOS   DEL  DAÑO  CAUSADO  EN   LO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DIFICIOS,   REPRESAS,   PUENTES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OTRAS  ESTRUCTUR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SE  PUEDEN  REPORTAR   RÁPIDAMENTE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INTENSIDA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DE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ES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R   LO TANTO,    UNA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DA  RELATIV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VARÍA  DE   UNA    LOCALIDAD   ESPECÍFICA   A   OT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 QUE   DEPENDERÁ   DE  VARIOS  FACTORES:   (1)   D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OTAL  DE  LA ENERGÍA  LIBERA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(2)     DE   LA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TANCIA   DEL    EPI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(3)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L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DICIONERDS  GEOLÓG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L LUGAR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tipo   roca,    estructuras, morfología,   grado  de  consolidación  del  suelo,  etc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Y   (4) 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IPO   Y   CALIDAD   DE   LA  CONSTRUC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  MIDE   EN  GRADOS,    DE   ACUERDO  A   ESCALAS  CONVENCIONALES,    DÓNDE   CADA   GRADO   REPRESENTA    DISTINTAS  CONDICIONES  DE   MOVIMIENTO   Y   DAÑOS  A  LA    CONSTRUCCIÓN    Y  OBJETOS.    EN  CHILE    SE  USA  LA   ESCALA   INTERNACIONAL  MODIFICADA   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   MERCALLI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 CONTEMPLA  12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GRADOS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     Y     MAGNITUD      DE   UN    SISMO   (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DE   UN  SISMO   ES   UNA  MEDIDA  FÍSICA   INDIRECTA   DE 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NTIDAD   DE   ENERGÍA  LIBERAD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EL  HIPOCENTRO  DEL  SISMO,  Y   SE    OBTIENE   A   TRAVÉS   DE   MEDICIONES   INSTRUMENTALES  EN   LA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CIONES  SISMOLÓGICAS.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S  UNA   MEDIDA  MUCHO  MAS   PRECISA  QUE   L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  QUE   ESTÁ   BASADA    SÓLO   EN   OBSERVACIONES  SUBJETIVAS  DE   LA   DESTRUCCIÓN  EN   CADA  LUG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ES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UNA  SOLA  PARA  CADA  SISM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SE   DETERMINA    A  PARTIR   DE   L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CIÓN   DIRECT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L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MPLITUD   DE   L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OND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  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ERÍO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HECHAS   EN  L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ÓGRAM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O  SE  TRATA  DE   UN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DA   ABSOLUTA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NO   DEPENDE   DE   LA   DISTANCIA  EN  QUE   SE   ENCUENTRE   LA   ESTACIÓN.     LA   TOTALIDAD  DE    LA   ENERGÍA  DE 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ERREMO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UEDE   SER    CALCULADA   DE   L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MPLITUD  DE   LAS OND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DE  LA  DISTANCIA   DEL   EPICENTR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UN  SISMO   SE  EXPRESA  USANDO    L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CALA  DE   RICHTE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,    QUE   ARBITRARIAMENTE   ASIGNA    GRADO  CERO  A   LOS  LÍMITES  BAJOS  DE    DETECCIÓN,  Y   NO  TIENE    UN  LÍMITE  SUPERIOR.    CADA   GRADO    DE   LA    ESCALA   REPRESENTA,   RESPECTO  AL   GRADO QUE   LE    PRECEDE ,   U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CREMENTO   EN  LA AMPLITUD  DE  ONDA   POR  UN   FACTOR  DE   10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     Y     MAGNITUD      DE   UN    SISMO   (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 LA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CALA   RICHTE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AS  VIBRACIONES  DE   UN    SISMO    CON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S  10  VECES  MAS  GRANDE   EN  AMPLITUD  QUE   UN    SISMO  CO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Y   LAS   VIBRACIONES   DE   UN  SISMO  CON  MAGNITUD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8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ES  UN  MILLÓN  DE  VECES   MAS  GRANDE   EN  AMPLITUD  QUE  UN  SISMO  DE   MAGNITU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2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FINAMIENTOS   RECIENTES   EN   L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CALA   DE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NITUD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LOS   SISMOS,   BUSCAN   DISTINGUIR    MEJOR   LAS   DIFERENCIAS   ENTRE    TERREMOTOS.    UNA  MODIFICACIÓN,    LLAMADA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CALA  DE   MAGNITUD   MOM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,    HA  SIDO  DESARROLLADA   CON   ESTE    PROPÓSITO,   Y    ES    HOY AMPLIAMENTE   LA   MAS  USADA    PARA   MEDIR    LA  MAGNITUD  DE    LOS   SISMOS     (ELLA     REFLEJA   LA   CANTIDAD  DE  ENERGÍA   LIBERADA  POR   EL   SISM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GUAL  QUE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CALA   RICHTER  ESTAND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A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AGNITUDES   DE MOM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ON  LOGARÍTMICAS   Y  VAN    DE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,   MAS  O  MENOS,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GRADOS  DE  MAGNITUD,     PERO  EN SU   VALOR  ABSOLUTO  TIENEN   UNA  DIFERENCIA   SÓLO    DESPRECIABL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MAYOR   TERREMOTO   REGISTRADO  HASTA  HOY   HA   SIDO   DE  GRADO   9.5,   CONSIDERÁNDOSE   “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RM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”    LOS   DE   GRADO  7.5.    TERREMOTOS  MAYORES  ES  POCO  PROBABLE  QUE  OCURRAN,   DEBIDO A QUE  LAS  ROCAS   NO  SON  SUFICIENTEMENTE   FUERTES   PARA   ACUMULAR   MAS  ENERGÍ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IESGO       SÍS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MER   EFECT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L  TERREMOTO  ES  EL  MOVIMIENTO  DEL   SUELO   Y   EVENTUAL    OCURRENCIAS   DE   FALLAS  SUPERFICIALES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DICIONALMENTE,     LOS  RIESGOS  SÍSMICOS  INCLUYEN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ESLIZAMIENTOS    DE   TIERRA ,    STUNAMIS ,  LIQUEFACCIÓN.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SOLEVANTAMIENTOS   Y  SUBSIDENCIAS,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TANTO  LOCALES  COMO   REGIONALES.    ADEMÁS,    OTRO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FECTOS    SECUNDARI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ORTANTES   SON  L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INCENDIOS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AVALANCHAS 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PROVOCADAS    POR   ROTURAS   DE     LAS   REDES   DE  AGUAS,   O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SURGENCI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ESPONTÁNEAS   DE  NAPAS  SUBTERRÁNEAS,   O     POR  FALLAS  EN   LAS  REPRESAS.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REDICCIÓN         SÍS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3805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DECIR  UN  SISMO  INVOLUCRA   3   PARÁMETROS  BIÉN  CONDICIONADOS (1)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LUG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ONDE  OCURRIRÁ  EL   PRÓXIMO  SISMO,     (3)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M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(FECHA  Y  HORA),    Y    (3)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GENERAL,   LA   LOCALIZACIÓN  Y  EL  MOMENTO  EN QUE  OCURRIRÁ   UN  SISMO,   NO   PUEDEN  SER   PREDECIDOS  CON   EXACTITUD;    TAMPOCO    SU   MAGNITUD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N    EMBARGO,    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ESGO   SÍSMICO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UEDE   SER   AVALUADO,   A  PARTIR   DE   DATOS   HISTÓRICOS  Y   MEDICIONES  INSTRUMENTALES,   Y   ESTABLECER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ZONAS   SÍSMICAS   DE   ALTO   RIESGO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REPARÁNDOLAS   PARA   ENFRENTAR   FUTUR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ERREMOTOS,  Y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MINIMIZAR  ASÍ    LOS  EVENTUALE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FECTOS  EN   LAS  CONSTRUCCIONES  Y   LA  POBLACIÓ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OCIENDO  BIÉN  LA  HISTORIA  SÍSMICA  DE  UNA  REGIÓN,  CON  CIERTOS  PARÁMETROS  GEOFÍSICOS  SE   PUEDE  ESTIMAR   EL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IEMPO  DE  RECURRENCI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(T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  DE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ON  MAS  O  MENOS  UN  25  %   DE  ERROR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SPUÉS   DE   U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L   NÚMERO  DE   EVENTOS    Y    LA  ENERGÍA   DISMINUYEN   CON   EL TIEMPO,   HASTA  ALCANZAR  UN   PERÍODO   DE   QUIETUD,  QUE  COMÚNMENTE  SE  ALTERA  PREVIO  A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ECURRENC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S  RÉP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SON  ACOMODAMIENTOS  BIÉN  CONOCIDOS  EN  LA ZONA  DE   UN   TEMBLOR,   PERO,   PARA   DETERMINAR    EL  CARÁCTER  DE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RECURS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HAY  QUE  COMPARAR    CON  REGISTROS  SÍSMICOS  ANTERIORES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02:17:05Z</dcterms:created>
  <dc:creator>Compaq</dc:creator>
  <dc:description/>
  <dc:language>en-US</dc:language>
  <cp:lastModifiedBy>Universidad de Chile</cp:lastModifiedBy>
  <cp:lastPrinted>2001-06-22T21:57:17Z</cp:lastPrinted>
  <dcterms:modified xsi:type="dcterms:W3CDTF">2001-06-26T23:51:53Z</dcterms:modified>
  <cp:revision>22</cp:revision>
  <dc:subject/>
  <dc:title>SISMICIDAD  Y  ESTRUCTURA  INTERNA  DE LA TIERRA</dc:title>
</cp:coreProperties>
</file>