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EAC-B308-49A2-9C6B-85E47C1E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017-57BA-4650-8960-768A8A55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C68-4B4E-4853-B79B-DD307EEC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FF7-33AD-4F87-884B-C9E9F3E8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D6E-D91C-4F02-9DD7-F57B4DF8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908-D78C-4590-8ED0-846941D5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719-711E-4655-B795-A9FE317B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783D-60AB-45BC-BAC2-2624D833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2BF-67E0-4A40-BE35-B0FA0BF1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524-9229-4F17-A323-375F12FD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FB0-4D8F-4D0D-9CB3-862411E0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53D-C850-43E2-9184-A7802D3A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037A-AD51-45B1-9AA5-8E19BBFBF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se originan a partir de la solidificación de un mag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MAGMA ES UN PRODUCTO DE LA DINÁMICA DE LOS MÁRGENES DE PLACAS,  ORIGINADO POR FUSIÓN PARCIAL DE LA CORTEZA INFERIOR   y/o  MANTO SUPERIOR,  USUALMENTE  A PROFUNDIDADES QUE VARÍAN ENTRE  50  a  200  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 CAPAZ  DE MOVERSE   EN LA CORTEZA,  PENETRANDO  A TRAVÉS DE EL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COMO LA MAYORÍA DE LOS FLUIDOS, EL MAGMA TIENE  MENOR DENSIDAD QUE EL SÓLIDO DEL CUAL SE FORMA, Y POR LA FUERZA DE FLOTABILIDAD  TIENDE A MIGRAR HACIA  ARRIBA  A  TRAVÉS DEL MANTO Y LA CORTEZA  (proceso de intrusión:  penetra en las rocas superiores,  por inyección en las fracturas;  presiona y empuja las rocas superiores formando un domo;  funde y asimila las rocas que inv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 ROCAS IGNEAS  SON  REGISTROS  DE  LA  HISTORIA  TERMAL  DE  LA TIERRA.  SU  ORIGEN  ESTÁ  ASOCIADO   ESTRECHAMENTE  AL MOVIMIENTO  DE  PLACAS  TECTÓNICAS  Y   JUEGAN  UN   ROL IMPORTANTE  EN   LA  EXPANSIÓN  DE   LOS  FONDOS  OCEÁNICOS,   EN  EL ORIGEN  DE  LAS  MONTAÑAS,   Y  EN   LA   EVOLUCIÓN  DE  LOS CONTIN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 MEJORES  EJEMPLOS  CONOCIDOS  DE   LA ACTIVIDAD   IGNEA  SON  LAS  ERUPCIONES  VOLCÁNICAS,   DÓNDE  MATERIAL   ROCOSO  LÍQUIDO  SE  ABRE  CAMINO  HACIA   LA  SUPERFICIE   HASTA  ERUPTAR  A  TRAVÉS  DE  LOS  CENTROS  (  O  DUCTOS)   Y   FISU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OS   ESPECTACULAR ,   PERO  TAN  IMPORTANTE  O   MAS,   SON   LOS TREMENDOS   VOLÚMENES  DE  ROCA   LÍQUIDA   QUE  NUNCA   LLEGA  A  LA SUPERFICIE,   PORQUE   PERMANECE   ATRAPADA  EN  LA CORTEZA,   A  CIERTA   DISTANCIA   DE  LA  SUPERFICIE,   DÓNDE  SE   ENFRÍA   LENTAMENTE   HASTA  SOLIDIFCARSE   DE   MANERA  CRISTALI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  GRANITO  ES  LA  VARIEDAD  MAS   COMÚN   DE  ESTE   TIPO  DE  ROCA  Y   ESTÁ   COMÚNMENTE   EXPUESTA   EN    LAS  CADENAS  DE  MONTAÑAS  QUE   HAN  SIDO   ERODADAS,    Y  EN  LAS RAICES DE   LOS  SISTEMAS  DE   MONTAÑAS  QUE  SE   PRESENTAN   EN   LOS   ESU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DESPLAZAMIENTO DEL MAGMA SE  DETIENE   CUANDO  SU DENSIDAD  LLEGA  A  EQUILIBRARSE  CON LA DE LAS ROCAS CIRCUNDANTES,  O DONDE LAS ROCAS DEL TECHO SON DEMASIADO RESISTENTES PARA PERMITIR QUE EL MAGMA CONTINÚE  SU DESPLAZAMIENTO  PENETRANDO  MAS ALLÁ DE 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VENTUALMENTE,  EL MAGMA SE ENFRÍA PAULATINAMENTE Y CRISTALIZA ANTES DE ALCANZAR LA SUPERFICIE TERRESTRE,  PARA  FORMAR CUERPOS DE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NTRUSIV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SI ÉSTAS SE FORMAN CERCANAS A LA SUPERFICIE SE LES DENOMIN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HIPABISALE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Y SI LO HACEN A MAYOR PROFUNDIDAD         (&gt; 3 km)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PLUTÓN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EL MAGMA  LOGRA ASCENDER HASTA SALIR A LA SUPERFICIE TERRESTRE, SE ENFRÍA RÁPIDAMENTE PARA FORMAR CUERPOS DE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EXTRUSIVAS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VOLCÁNICAS.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LA EXTRUSIÓN SE HACE DE MANERA  “TRANQUILA”,  A TRAVÉS DE UN CONDUCTO CENTRAL O FISURAL, EL MATERIAL  EXTRUÍDO PUEDE  FLUIR SOBRE EL PAISAJE  EN UNA COLAD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LAVA,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FORMANDO UN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IGNEA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DENOMINADA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EFUS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N CASO CONTRARIO,  SI EL MAGMA EXTRUYE DE MANERA MENOS “TRANQUILA”,  PUEDE HACERLO EN FORMA EXPLOSIVA,  EXPLUSANDO  FRAGMENTOS   SÓLIDOS  LLAMADOS  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PIROCLASTOS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tos  fragmentos  forma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denominadas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ROCAS PIROCLÁ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OS A  ROCAS IGNEAS INTRUSIVAS SON: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BATOLITO, STOCK, DIQUE, FILÓN -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AS A ROCAS IGNEAS EXTRUSIVAS SON: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COLADA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(de morfología y apariencia diferente, según la composición) y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 ESTRATO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 caso de ciertas rocas piroclást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L MA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EL MAGMA: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ES  UN  MATERIAL SILICATADO FUNDIDO  (líquido + gases + crist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OS  ELEMENTOS CONSTITUYENTES  PRINCIPALES  SON:  Si, O, Al, Ca, Fe, Mg, N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  PROPIEDADES   FÍSICAS   DEL   MAGMA,   como   la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densidad,  la  viscosidad,  y  la  manera de extruir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,   SON CONTROLADAS  AMPLIAMENTE  POR  LOS CONSTITUYENTES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.    LA   PROPORCIÓN  DEL  CONSTITUYENTE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  DE  LA  COMPOSICIÓN QUÍMICA  DEL  MAGMA ES VARIABLE,  ENTRE  EL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33%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7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 EXPLOSIVIDAD  ES  CONTROLADA  POR  LOS  GASES DISUELTOS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(C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;  S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, H Cl....),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QUE PUEDEN LLEGAR  HASTA  14 %   EN  VOLUM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NO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BSTANTE LA  GRAN VARIEDAD EN SU COMPOSICIÓN DEL MAGMA,  SE PUEDE  ILUSTRAR MUCHO SOBRE MAGMAS SILICATADOS EXAMINADO SÓLO DOS TIPOS EXTREMOS: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AGMA  MÁFICO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MAGMA 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MÁFIC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(+ o -)  50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 un rango de temperatura de 900° a 1200°  C .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ABRO - BASALT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(Ca-plagioclasa y piroxeno, con menor cantidad de olivino y sin, o muy poco,  cuarzo).  SE GENERA POR FUSIÓN PARCIAL DEL MANTO (en Rift - zona). ES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UY FLU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65 % Y 75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con temperatura generalmente bajo 850° C. 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RANITO - RIOLITA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(cuarzo, K-feldespato, Na-plagioclasa, menor cantidad de biotita o anfíbola).  SE GENERA POR FUSIÓN PARCIAL DE CORTEZA OCEÁNICA Y PARTE INFERIOR DE CORTEZA CONTINENTAL  ( en zona de subducción).  ES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MUY VISC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UN MAGMA DE COMPOSICIÓN  INTERMEDIO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tre alto y bajo contenido de Si 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)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PRODUCE ROCAS DE LA FAMILIA 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DIORITA - ANDES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DIFERENTE COMPOSICIÓN  QUÍMICA DE LOS MAGMAS, DESDE  BASÁLTICOS (o  máficos) A GRANÍTICOS,  PASANDO POR LOS DIORÍTICOS,  FORMAN ROCAS CON MINERALES DIFERENTES Y DAN ORÍGEN  A ERUPCIONES VOLCÁNICAS  DIFERENTES. EN UN EXTREMO ERUPCIONES ”TRANQUILAS”, CON SÓLO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LUJOS DE LAVA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Y  EN EL OTRO EXTREMO ERUPCIONES “VIOLENTAS”  Y EXPLOSIVAS, CON SÓLO EXPULSIÓN DE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PIROCLASTOS.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ERUPCIÓN  MIXTA,  EFUSIVA Y PIROCLÁSTICA, SE ASOCIA CON MAGMAS DE COMPOSICIÓN INTERMEDI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EL EDIFICIO VOLCÁNICO (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VOLCÁN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)  QUE RESULTA A PARTIR DE LOS DIFERENTES TIPOS DE ERUPCIONES QUE OCURREN,  PRESENTAN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ORMAS O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 DIFERENTES.  TANTO EL TIPO DE ERUPCIÓN COMO LA FORMA DEL VOLCAN RESULTANTE SE CLASIFICAN DE ACUERDO A PARÁMETROS  DEFI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 Volc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RUPCIONES  BASÁLTICAS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O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COMUNES. RELLENAN VALLES Y DEPRESIONES TOPOGRÁFICAS. EXTRUYEN DE FRACTURAS Y FISURAS (en dorsales). FORMAN NUEVA CORTEZA OCEÁNICA DONDE SE SEPARAR LAS PLA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POS COMUNES DE COLA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aa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poco gas; movimiento lento; 3-10  m espesor).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hoehoe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menor  espesor (1 m); repliegues o rollos de cuerda; tubos de lava). Lavas vesiculares (burbujas de gas). Lavas masivas y no vesiculares, con fracturas poligonales (“columnas” hexagonales “). Pillow-lav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DE CENI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UBES  ARDIENT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:   hasta 250 km/ hora;   400  km extensión;  100 m espesor  (son catastróficas). dan  origen  a  u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GNIMBRITA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. L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ÍDA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o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“LLUVIA”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CENI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da  origen  a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F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TAMAÑO  DE  LOS  PIROCLASTOS  ES  VARIABLE:  DESDE 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CENIZ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IN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&lt; 1/16 mm);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ENIZA GRUES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16 - 2 mm);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PILL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2 - 64 mm);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OMB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LOQU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&gt; 64 mm)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ROCAS  PRIROCLÁSTICAS  QUE  SE  ORIGINAN,       RESPECTIVAMENTE,  SON: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OBA,    BRECHA   Y   AGLOM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S DE ERUPCIONES VOLCÁ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AWA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FLUJOS (escasos piroclásticos); LAGOS DE LAV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TROMBL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(descargas rítmicas de escoria incandecente; bomb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ULCA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PIROCLÁSTICOS, NUBES OSCURAS,  FREÁTICA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ELE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VIOLENTA; FORMA DOMOS Y “AGUJ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I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MENTE GASEOSA, CONTÍNUA, NUBE DE PÓM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REATOMAGMÁ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+ AGUA= ERUPCIÓN VIOLENTA ÚNICA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ORMAS VOL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CUDOS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hasta 100 Km de diámetro y  10 km de alt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OS CINERÍ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30 - 300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OMOS DE LAVA SILÍCE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AGUJAS MÚLTIPLES (ESPINAS) DE 500 - 8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OLCÁN COM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IXTO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base: 30 -40 km   y  3000 m (o más) 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ALDERA Y LAGO VOLCÁNICO (SOM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AARS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ater de explosión pequeño al atravesar nivel fre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IVIDAD FUMARÓLICA (H2O,HCl,CO2), SOLFATÁRICA (H2S,SO2), GEYSERS Y FUENTES TE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X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ARIENCIA GENERAL DE LA ROCA,   DETERMINADA  POR   LA RELACIÓN  DE   TAMAÑO,   FORMA  Y  ARREGLO  GEOMÉTRICO   DE  LOS  ELEMENTOS  O  GRANOS  DE  MINERALES   CONSTITUY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PRINCIPALES FACTORES QUE INCIDEN EN LA TEXTURA DE LAS ROCAS SON LA PROFUNDIDAD A LA QUE SOLIDIFICA EL MAGMA Y EL TIEMPO QUE  TIENE  PARA HACERLO  (velocidad de enfri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 SE PUEDEN CLASIFICAR  DE ACUERDO CON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GRADO DE CRISTALINIDAD, TAMAÑO DEL GRANO y  TAMAÑO RELATIVO DEL GRA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PRINCIPALES O  MAYORES SON: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ITREA, AFANÍTICA, FANERÍTICA, PORFÍRIC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DIFERENTES TIPOS DE ROCAS IGNEAS SE CLASIFICAN EN BASE A SUS TEXTURAS, ADEMÁS DE SU COM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6:53:25Z</dcterms:created>
  <dc:creator>Universidad de Chile</dc:creator>
  <dc:description/>
  <dc:language>en-US</dc:language>
  <cp:lastModifiedBy>Compaq</cp:lastModifiedBy>
  <cp:lastPrinted>2001-03-28T23:16:59Z</cp:lastPrinted>
  <dcterms:modified xsi:type="dcterms:W3CDTF">2001-08-16T05:39:10Z</dcterms:modified>
  <cp:revision>41</cp:revision>
  <dc:subject/>
  <dc:title>ROCAS IGNEAS (se originan a partir de la solidificación de un magma)</dc:title>
</cp:coreProperties>
</file>