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3D8-9AFC-4EB1-8073-FE26288D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8E4-08A3-4178-A774-AB8F2B03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C85E-CCE1-4EE4-B171-95D67BBF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E34-1B2B-4052-B39D-4F8A13B9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C8F-0BC3-42E0-B7B6-77F6F8DF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BDA-F7E2-43F1-9A3E-93F3EEEE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27A-DF5D-4338-818D-03375820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8BA-82D6-4195-8F43-2555161A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CFBC-80CF-404D-9B7D-79629398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BF4-8BF1-4C31-996A-93AB7D07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F40-5614-4F1C-92F0-BBC2C7C8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D35-44E1-44A8-BC54-C6BD4A5F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E0FB-37BB-4932-94DE-AFB0E598D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OCAS  SEDIMENTARIA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ORMADAS  EN  LA  SUPERFICIE,  POR  EFECTO  DEL  SISTEMA  HIDROLÓG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MPLICAN  LOS  PROCESOS   SIGUI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TEORIZACIÓ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:  LA  PARTE  MAS  SUPERFICIAL  DE  LA CORTEZA,   EXPUESTA   A   LA   INTEMPERIE   (INTEMPERIZACIÓN),   SE   “ALTERA”  ( o  “descompone”)   Y  EL  MATERIAL   SE    DESCOMPONE.        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S  ELEMENTOS  COMPONENTES  DEL   MACIZO  ROCOSO  SE  SUELTAN   (SE   “DISGREGAN”    O   “SEPARAN”),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A   CAUSA   DE   DETERMINADOS   PROCESOS      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QUÍMIC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y/o   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CÁNIC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QUE  LO  AFECTAN   EN   CONTACTO  CON   LA   ATMÓSF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ROSIÓN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:    LOS  DIFERENTES  AGENTES    DEL  SISTEMA  HIDROLÓGICO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(hielo,  rios,  viento, etc. )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IENEN   U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FECTO  ABRASIVO   Y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ROSIONA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LOS   BLOQUES  DE   ROCA,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DESGASTANDO   LA   SUPERFICIE   EXPUESTA,      PROCESO   QUE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SE  VE  FACILITADO  POR   LA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METEORIZACIÓN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PREVIA.  EL   DESGASTE   PRODUCIDO   POR  LA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ROSIÓN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CONDUCE         AL   APLANAMIENTO  DE  LAS   PARTES   ALTAS   DEL  RELIEVE,  Y  LOS  CLASTOS  O   FRAGMENTOS   DE   ROCA   MENORES   (SEDIMENTOS),   PRODUCIDOS   POR   LA  EROSIÓN,   SE   ACUMULAN  LEJOS,   EN   LUGARES TOPOGRÁFICAMENTE  MAS   BAJOS    (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odificación del paisaj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RANSPORT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:    LOS  CLASTOS  O  FRAGMENTOS  DE  ROCA   MENORES ,   DISGREGADOS  DE  LOS  BLOQUES   MAYORES  POR  EL  PROCESO  DE  EROSIÓN,   SON  TRASLADO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 ( o transportados),  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COMO   SEDIMENTO,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 LUGARES  TOPOGRÁFICAMENTE   MAS   BAJOS,   A   GRANDES  DISTANCIA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DE  SU  LUGAR   DE ORIGEN,    POR   EL  MISMO  AGENTE  DEL  SISTEMA  HIDROLÓGICO  QUE   LO EROSIONÓ.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  distancia  y  velocidad  del   traslado  dependerá de  la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nergía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( 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rza)   y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naturaleza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l  agente   transportador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(agua, viento o hielo)   y   del 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amañ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rma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del  material   transportado  (“competencia”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POSITACIÓN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:  LA  CAPACIDAD  DE  TRANSPORTE     DISMINUYE  O  DESAPARECE,  Y   EL MATERIAL  TRANSPORTADO  ( SEDIMENTO)   DECANTA   Y  SE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DEPOSITA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EN   EL  “FONDO”  (o  “piso”),    FORMANDO  UN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PÓSITO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SEDIMENTARI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;   LOS  ELEMENTOS  TRANSPORTADOS   EN  SOLUCIÓN   PRECIPITAN  QUÍMICAMENTE.                                                                                            LA   MATERIA   ORGÁNICA,   SIN   VIDA,   TAMBIÉN    SE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DEPOSITA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Y  ACUMULA  EN  EL FONDO  (o  piso)   DEL  MEDIO  DONDE  VIVÍ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TIFICACIÓN  O  DIAGÉNESIS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PROCESOS   FÍSICOS   Y   QUÍMICOS   QUE  TRANSFORMAN   EL  DEPÓSITO  SEDIMENTARIO  EN  ROCA  SEDIMENTARIA.  LOS  FACTORES  MAS  IMPORTANTES   SON: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temperatura,  la presión  litostática  y  las  soluciones   que  lo atraviesan y  que  contienen elementos  que  “pegan”  o  cementantan     los granos  o clastos.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S   ETAPAS  PRINCIPALES  SO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el hundimiento,    la compactación   y  la  c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CONCEPTO   DE   FACIES: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APARIENCIA  GENERAL   DEL  DEPÓSITO   O   LA   ROCA  SEDIMENTARIA,    DETERMINADA  POR   LAS     CARACTERÍSTICAS  FÍSICAS   Y  QUÍMICAS   DE  SUS    COMPONENTES,    Y    POR   LA  RELACIÓN   Y  ARREGLO   DE  TODOS  SUS   ELEMENTOS  INTEGRANTES.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A   PARTIR  DEL ESTUDIO  DE  LAS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  FACIES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 DE  UN  DETERMINADO   DEPÓSITO  O  ROCA  SEDIMENTARIA,  SE  PUEDEN  DETERMINAR   LAS  CONDICIONES  Y  CIRCUSTANCIAS  EN  QUE  SE  DESARROLLARON  LOS  PROCESOS   SEDIMENTARIOS  QUE  CONDUJERON  A   LA  FORMACIÓN  DE   ESE  DEPÓSITO  O  ROCA  SEDIMANTARIA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LA  SUMA  DE  LAS  CARACTERÍSTICAS    LITOLÓGICAS   </a:t>
            </a:r>
            <a:r>
              <a:rPr b="1" lang="es-ES" sz="1500" spc="-1" strike="noStrike" u="sng">
                <a:solidFill>
                  <a:srgbClr val="ffffff"/>
                </a:solidFill>
                <a:uFillTx/>
                <a:latin typeface="Times New Roman"/>
              </a:rPr>
              <a:t>(litofacies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)   Y   BIOLÓGICAS  </a:t>
            </a:r>
            <a:r>
              <a:rPr b="1" lang="es-ES" sz="1500" spc="-1" strike="noStrike" u="sng">
                <a:solidFill>
                  <a:srgbClr val="ffffff"/>
                </a:solidFill>
                <a:uFillTx/>
                <a:latin typeface="Times New Roman"/>
              </a:rPr>
              <a:t>(biofacies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)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DE   UN  DEPÓSITO  SEDIMENTARIO   DEFINEN    LAS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FACIES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DEL   DEPÓSITO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Y   EL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AMBIENTE   DE  DEPOSITACIÓN.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LOS   AMBIENTES  DE  DEPOSITACIÓN   PUEDEN  SER  CONTINENTALES  (subacuáticos  y  aéreos  o  secos)  Y   MARINOS.   Pueden  ser   fluvial,  abanico fluvial,   eólico,  glaciar,  fluivio-glaciar,  deltaico,  de playa  o  linea  de costa,  arrecife,  marino somero,  marino profundo,  y otros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PALEOGEOGRAFÍA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:   RECONSTITUCIÓN   DE   LA   GEOGRAFÍA PRETÉRITA (PASADA)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Times New Roman"/>
              </a:rPr>
              <a:t>Concepto  de   </a:t>
            </a:r>
            <a:r>
              <a:rPr b="1" lang="es-ES" sz="1700" spc="-1" strike="noStrike">
                <a:solidFill>
                  <a:srgbClr val="ffffff"/>
                </a:solidFill>
                <a:latin typeface="Times New Roman"/>
              </a:rPr>
              <a:t>Cuenca  de   sedimentación     </a:t>
            </a:r>
            <a:r>
              <a:rPr b="0" lang="es-ES" sz="1700" spc="-1" strike="noStrike">
                <a:solidFill>
                  <a:srgbClr val="ffffff"/>
                </a:solidFill>
                <a:latin typeface="Times New Roman"/>
              </a:rPr>
              <a:t>(profundidad,  distancia  de  las  fuentes de aporte  y  bordes  de cuenca,  evolución  de la cuenca,  otros)</a:t>
            </a: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S SEDI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EL  ESTRATO: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  ES LA  ESTRUCTURA MAS   IMPORTANTE.          LAS ROCAS  SEDIMENTARIAS SE PRESENTAN EN ESTRATOS  O  CAPAS   DE ROCA  DE DIFERENTES TIPOS,  DE  COLORES Y TEXTURAS DIFERENTES, SOBREPUESTAS (APILADAS)  UNA SOBRE LA OTRA, ORIGINALMENTE HORIZONTALES  (SECUENCIA DE ROCAS SEDIMENTARIAS)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ESTRUCTURAS PRIMARIAS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:  ESTRATIFICACIÓN CRUZADA  (capas inclinadas formando un ángulo con la base de la superior); ESTRATIFICACIÓN GRADADA  (producidas por corrientes de turbidez  (turbiditas)), “RIPPLE MARKS” U ONDULITAS, GRIETAS DE BARRO Y OTRAS IMPRESIONES DE SUPERFICIE (que muestran que los ambientes sedimentarios quedan expuestos un tiempo al aire durante su depositación, antes que se deposite encima una nueva capa de sedimento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FÓSILES:  SON COMUNES DE ENCONTARR EN LAS ROCAS SEDIMENTARI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IPALES TIPOS DE ROCAS SEDI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OCAS CLÁSTIC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mpuestas por fragmentos de rocas preexistentes, de todos los tamaños, desde fracciones de milímetros a decenas de centímetros.  Se clasifican según el tamaño de los clastos en: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GLOMERA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&gt; 2  mm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ARENÍSC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2 - 02  mm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MOLI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&gt; 0,2  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OCAS QUÍMICAS Y ORGÁNICAS: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uesta de materia precipitada químicamente y de restos orgánicos decantados. ejemplos: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IZ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C O3);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LOMI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Mg (C O3)2;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L COMÚ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Na Cl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YES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SO4. 2H2O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IT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ocas formadas por evaporación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20:54:27Z</dcterms:created>
  <dc:creator>Universidad de Chile</dc:creator>
  <dc:description/>
  <dc:language>en-US</dc:language>
  <cp:lastModifiedBy>Compaq</cp:lastModifiedBy>
  <dcterms:modified xsi:type="dcterms:W3CDTF">2001-08-16T05:51:09Z</dcterms:modified>
  <cp:revision>24</cp:revision>
  <dc:subject/>
  <dc:title>ROCAS SEDIMENTARIAS SE FORMAN EN SUPERFICIE POR EFECTO DEL SISTEMA HIDROLÓGICO</dc:title>
</cp:coreProperties>
</file>