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A8D72-0E9A-4A95-A762-C3B60EE27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16823-6692-44A3-B957-5C5B5D5BF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530F1-03BE-45DD-BB0F-DD7D6034E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AC6DF-46BC-4A83-9F21-2B36F29DB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A4BA9-70A8-4F9A-A942-97B25D32F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AB2D4-E3F6-44BC-8DDC-62EBDD41F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2DE3-6BFC-4794-8FA7-DC107AA53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157C1-5257-402F-9512-CBE1A34A0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33A13-F09A-4656-9D60-66ED5E0CB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D2E6-572B-466E-8667-ECA0CD810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4C124-2B80-4EA2-8F94-D00CEB041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B3E31-E6D7-49B9-B884-556D1E2DB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A69F-4E3B-41BC-A132-AFB05F2DF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480" y="38088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MATERIALES  DE  LA  CORTEZA</a:t>
            </a:r>
            <a:br>
              <a:rPr sz="1800"/>
            </a:br>
            <a:endParaRPr b="0" lang="en-US" sz="2800" spc="-1" strike="noStrike">
              <a:solidFill>
                <a:srgbClr val="000000"/>
              </a:solidFill>
              <a:latin typeface="Times New Roman"/>
            </a:endParaRPr>
          </a:p>
        </p:txBody>
      </p:sp>
      <p:sp>
        <p:nvSpPr>
          <p:cNvPr id="42"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ATERIA  DE  LA CORTEZA  SE  PRESENTA  EN  LOS   ESTADOS   </a:t>
            </a:r>
            <a:r>
              <a:rPr b="1" lang="es-ES" sz="1800" spc="-1" strike="noStrike">
                <a:solidFill>
                  <a:srgbClr val="ffffff"/>
                </a:solidFill>
                <a:latin typeface="Times New Roman"/>
              </a:rPr>
              <a:t>sólido,   líquido   y   gaseoso</a:t>
            </a:r>
            <a:r>
              <a:rPr b="0" lang="es-ES" sz="1800" spc="-1" strike="noStrike">
                <a:solidFill>
                  <a:srgbClr val="ffffff"/>
                </a:solidFill>
                <a:latin typeface="Times New Roman"/>
              </a:rPr>
              <a:t>,  Y   LOS  FACTORES  MAYORES  QUE  DETERMINAN  EL  ESTADO  EN  QUE  EL  MATERIAL  EXISTE,    SON  LA </a:t>
            </a:r>
            <a:r>
              <a:rPr b="1" lang="es-ES" sz="1800" spc="-1" strike="noStrike">
                <a:solidFill>
                  <a:srgbClr val="ffffff"/>
                </a:solidFill>
                <a:latin typeface="Times New Roman"/>
              </a:rPr>
              <a:t>TEMPERATURA   Y   PRESIÓ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DIFERENCIA  ENTRE   ESTOS  TRES  ESTADOS   ESTÁ  RELACIONADA   CON  EL  GRADO   DE  ORDENAMIENTO  DE   LOS  ÁTOMOS,   QUE   ES  LA UNIDAD  MAS  PEQUEÑA  DEL   </a:t>
            </a:r>
            <a:r>
              <a:rPr b="1" lang="es-ES" sz="1800" spc="-1" strike="noStrike">
                <a:solidFill>
                  <a:srgbClr val="ffffff"/>
                </a:solidFill>
                <a:latin typeface="Times New Roman"/>
              </a:rPr>
              <a:t>elemento</a:t>
            </a:r>
            <a:r>
              <a:rPr b="0" lang="es-ES" sz="1800" spc="-1" strike="noStrike">
                <a:solidFill>
                  <a:srgbClr val="ffffff"/>
                </a:solidFill>
                <a:latin typeface="Times New Roman"/>
              </a:rPr>
              <a:t>   QUE   POSEE  LAS PROPIEDADES  DE  ÉST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VARIACIÓN   PROGRESIVA  EN   LA  COMPOSICIÓN  DE  LOS  ÁTOMOS  DE CADA  ELEMENTO,  QUE   CONSISTE   EN  UN  NÚCLEO   DE   </a:t>
            </a:r>
            <a:r>
              <a:rPr b="1" lang="es-ES" sz="1800" spc="-1" strike="noStrike">
                <a:solidFill>
                  <a:srgbClr val="ffffff"/>
                </a:solidFill>
                <a:latin typeface="Times New Roman"/>
              </a:rPr>
              <a:t>protones   y   neutrones</a:t>
            </a:r>
            <a:r>
              <a:rPr b="0" lang="es-ES" sz="1800" spc="-1" strike="noStrike">
                <a:solidFill>
                  <a:srgbClr val="ffffff"/>
                </a:solidFill>
                <a:latin typeface="Times New Roman"/>
              </a:rPr>
              <a:t>,   CON   UN  ENJAMBRE  CIRCUNDANTE   DE  </a:t>
            </a:r>
            <a:r>
              <a:rPr b="1" lang="es-ES" sz="1800" spc="-1" strike="noStrike">
                <a:solidFill>
                  <a:srgbClr val="ffffff"/>
                </a:solidFill>
                <a:latin typeface="Times New Roman"/>
              </a:rPr>
              <a:t>electrones,     </a:t>
            </a:r>
            <a:r>
              <a:rPr b="0" lang="es-ES" sz="1800" spc="-1" strike="noStrike">
                <a:solidFill>
                  <a:srgbClr val="ffffff"/>
                </a:solidFill>
                <a:latin typeface="Times New Roman"/>
              </a:rPr>
              <a:t>SE  VE  REFLEJADA  EN  LA  </a:t>
            </a:r>
            <a:r>
              <a:rPr b="1" lang="es-ES" sz="1800" spc="-1" strike="noStrike">
                <a:solidFill>
                  <a:srgbClr val="ffffff"/>
                </a:solidFill>
                <a:latin typeface="Times New Roman"/>
              </a:rPr>
              <a:t>“tabla periódica de los elemen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METAMÓRFIC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ROCAS ÍGNEAS Y SEDIMENTARIAS, POR CAMBIOS EN SU COMPOSICIÓN MINERALÓGICA Y TEXTURAL, POR EFECTOS DE CAMBIOS EN LA PRESIÓN Y LA TEMPERATURA A QUE SON SOMETIDAS. </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METAMÓRFICAS ESTÁN LIGADOS AL SISTEMA TECTÓNICO DE LA TIERR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44" name="PlaceHolder 2"/>
          <p:cNvSpPr>
            <a:spLocks noGrp="1"/>
          </p:cNvSpPr>
          <p:nvPr>
            <p:ph/>
          </p:nvPr>
        </p:nvSpPr>
        <p:spPr>
          <a:xfrm>
            <a:off x="838080" y="1219320"/>
            <a:ext cx="7848720" cy="39621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  </a:t>
            </a:r>
            <a:r>
              <a:rPr b="0" lang="es-ES" sz="2800" spc="-1" strike="noStrike">
                <a:solidFill>
                  <a:srgbClr val="ffffff"/>
                </a:solidFill>
                <a:latin typeface="Times New Roman"/>
              </a:rPr>
              <a:t>“</a:t>
            </a:r>
            <a:r>
              <a:rPr b="1" lang="es-ES" sz="1800" spc="-1" strike="noStrike">
                <a:solidFill>
                  <a:srgbClr val="ffffff"/>
                </a:solidFill>
                <a:latin typeface="Times New Roman"/>
              </a:rPr>
              <a:t>tabla periódica de los elementos”   </a:t>
            </a:r>
            <a:r>
              <a:rPr b="0" lang="es-ES" sz="1800" spc="-1" strike="noStrike">
                <a:solidFill>
                  <a:srgbClr val="ffffff"/>
                </a:solidFill>
                <a:latin typeface="Times New Roman"/>
              </a:rPr>
              <a:t>MUESTRA  EL  NOMBRE  Y  SÍMBOLO   DE  TODOS  LOS  ELEMENTOS   CONOCIDOS  DEL  COSMOS,   FORMADOS    NATURALMENTE   EN  EL  PROCESO   EVOLUTIVO   DEL   UNIVERSO.   DE   MAS  LIVIANOS  Y  SIMPLES,   CADA  ELEMENTO  ES  PROGRESIVAMENTE   MAS  COMPLEJO,   CON  UN  NÚMERO  CRECIENTE  DE  PARTÍCULAS   NUCLEARES  Y  ELECTRONES</a:t>
            </a:r>
            <a:r>
              <a:rPr b="0" lang="es-ES" sz="1400" spc="-1" strike="noStrike">
                <a:solidFill>
                  <a:srgbClr val="ffffff"/>
                </a:solidFill>
                <a:latin typeface="Times New Roman"/>
              </a:rPr>
              <a:t>.</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S  PROPIEDADES  LOS  ELEMENTOS  DE  VINCULARSE   QUÍMICAMENTE   DE  DIFERENTES  MANERAS  </a:t>
            </a:r>
            <a:r>
              <a:rPr b="1" lang="es-ES" sz="1800" spc="-1" strike="noStrike">
                <a:solidFill>
                  <a:srgbClr val="ffffff"/>
                </a:solidFill>
                <a:latin typeface="Times New Roman"/>
              </a:rPr>
              <a:t>(iónica,   covalente  o  metálica</a:t>
            </a:r>
            <a:r>
              <a:rPr b="0" lang="es-ES" sz="1800" spc="-1" strike="noStrike">
                <a:solidFill>
                  <a:srgbClr val="ffffff"/>
                </a:solidFill>
                <a:latin typeface="Times New Roman"/>
              </a:rPr>
              <a:t>),     CONTROLAN  EL  COMO  </a:t>
            </a:r>
            <a:r>
              <a:rPr b="1" lang="es-ES" sz="1800" spc="-1" strike="noStrike">
                <a:solidFill>
                  <a:srgbClr val="ffffff"/>
                </a:solidFill>
                <a:latin typeface="Times New Roman"/>
              </a:rPr>
              <a:t>SE   COMBINAN  ENTRE  ELLOS    PARA   FORMAR  MINERAL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                                                     </a:t>
            </a:r>
            <a:r>
              <a:rPr b="1" lang="es-ES" sz="1900" spc="-1" strike="noStrike">
                <a:solidFill>
                  <a:srgbClr val="ffffff"/>
                </a:solidFill>
                <a:latin typeface="Times New Roman"/>
              </a:rPr>
              <a:t>LOS     MINERALES</a:t>
            </a: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VIVIMOS  EN  UN  MUNDO  DE MINERALES.    LOS MINERALES ESTÁN EN  TODAS  PARTES  ALREDEDOR  NUESTRO.   </a:t>
            </a:r>
            <a:r>
              <a:rPr b="0" i="1" lang="es-ES" sz="1900" spc="-1" strike="noStrike" u="sng">
                <a:solidFill>
                  <a:srgbClr val="ffffff"/>
                </a:solidFill>
                <a:uFillTx/>
                <a:latin typeface="Times New Roman"/>
              </a:rPr>
              <a:t>GEMAS</a:t>
            </a:r>
            <a:r>
              <a:rPr b="0" i="1" lang="es-ES" sz="1900" spc="-1" strike="noStrike">
                <a:solidFill>
                  <a:srgbClr val="ffffff"/>
                </a:solidFill>
                <a:latin typeface="Times New Roman"/>
              </a:rPr>
              <a:t>  Y  </a:t>
            </a:r>
            <a:r>
              <a:rPr b="0" i="1" lang="es-ES" sz="1900" spc="-1" strike="noStrike" u="sng">
                <a:solidFill>
                  <a:srgbClr val="ffffff"/>
                </a:solidFill>
                <a:uFillTx/>
                <a:latin typeface="Times New Roman"/>
              </a:rPr>
              <a:t>BRILLANTES</a:t>
            </a:r>
            <a:r>
              <a:rPr b="0" i="1" lang="es-ES" sz="1900" spc="-1" strike="noStrike">
                <a:solidFill>
                  <a:srgbClr val="ffffff"/>
                </a:solidFill>
                <a:latin typeface="Times New Roman"/>
              </a:rPr>
              <a:t>   </a:t>
            </a:r>
            <a:r>
              <a:rPr b="0" lang="es-ES" sz="1900" spc="-1" strike="noStrike">
                <a:solidFill>
                  <a:srgbClr val="ffffff"/>
                </a:solidFill>
                <a:latin typeface="Times New Roman"/>
              </a:rPr>
              <a:t> SON  MINERALES.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GRAVA</a:t>
            </a:r>
            <a:r>
              <a:rPr b="0" i="1" lang="es-ES" sz="1900" spc="-1" strike="noStrike">
                <a:solidFill>
                  <a:srgbClr val="ffffff"/>
                </a:solidFill>
                <a:latin typeface="Times New Roman"/>
              </a:rPr>
              <a:t> </a:t>
            </a:r>
            <a:r>
              <a:rPr b="0" lang="es-ES" sz="1900" spc="-1" strike="noStrike">
                <a:solidFill>
                  <a:srgbClr val="ffffff"/>
                </a:solidFill>
                <a:latin typeface="Times New Roman"/>
              </a:rPr>
              <a:t>Y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ARENA</a:t>
            </a:r>
            <a:r>
              <a:rPr b="0" lang="es-ES" sz="1900" spc="-1" strike="noStrike">
                <a:solidFill>
                  <a:srgbClr val="ffffff"/>
                </a:solidFill>
                <a:latin typeface="Times New Roman"/>
              </a:rPr>
              <a:t>  SON  MINERALES.    EL </a:t>
            </a:r>
            <a:r>
              <a:rPr b="0" i="1" lang="es-ES" sz="1900" spc="-1" strike="noStrike" u="sng">
                <a:solidFill>
                  <a:srgbClr val="ffffff"/>
                </a:solidFill>
                <a:uFillTx/>
                <a:latin typeface="Times New Roman"/>
              </a:rPr>
              <a:t>BARRO</a:t>
            </a:r>
            <a:r>
              <a:rPr b="0" lang="es-ES" sz="1900" spc="-1" strike="noStrike">
                <a:solidFill>
                  <a:srgbClr val="ffffff"/>
                </a:solidFill>
                <a:latin typeface="Times New Roman"/>
              </a:rPr>
              <a:t>  ES  UNA  MEZCLA  DE  MINERALES  MICROSCÓPICOS.   EL </a:t>
            </a:r>
            <a:r>
              <a:rPr b="0" i="1" lang="es-ES" sz="1900" spc="-1" strike="noStrike" u="sng">
                <a:solidFill>
                  <a:srgbClr val="ffffff"/>
                </a:solidFill>
                <a:uFillTx/>
                <a:latin typeface="Times New Roman"/>
              </a:rPr>
              <a:t>HIELO</a:t>
            </a:r>
            <a:r>
              <a:rPr b="0" lang="es-ES" sz="1900" spc="-1" strike="noStrike">
                <a:solidFill>
                  <a:srgbClr val="ffffff"/>
                </a:solidFill>
                <a:latin typeface="Times New Roman"/>
              </a:rPr>
              <a:t>  ES  UN  MINERAL,  E   INCLUSO  EL  </a:t>
            </a:r>
            <a:r>
              <a:rPr b="0" i="1" lang="es-ES" sz="1900" spc="-1" strike="noStrike" u="sng">
                <a:solidFill>
                  <a:srgbClr val="ffffff"/>
                </a:solidFill>
                <a:uFillTx/>
                <a:latin typeface="Times New Roman"/>
              </a:rPr>
              <a:t>POLVO</a:t>
            </a:r>
            <a:r>
              <a:rPr b="0" lang="es-ES" sz="1900" spc="-1" strike="noStrike">
                <a:solidFill>
                  <a:srgbClr val="ffffff"/>
                </a:solidFill>
                <a:latin typeface="Times New Roman"/>
              </a:rPr>
              <a:t>   EN  EL  AIRE  QUE RESPIRAMOS  ESTÁ  FORMADO  POR  FINOS  GRAN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SUSTENTAN  NUESTRAS VIDAS Y NOS PROVEEN CONTINUAMENTE COMO SOCIEDAD</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CASA DONDE VIVIMOS,  LOS AUTOMÓVILES,  LAS CARRETERAS Y OTRAS ESTRUCTURAS DE NUESTRA SOCIEDAD,   COMO LA MAYORÍA DE LAS COSAS QUE TOCAMOS,   ESTÁN  HECH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ERO  LA  IMPORTANCIA  DE  LOS  MINERALES  SE  EXTIENDE   MAS ALLÁ  DE  SU  VALOR  COMO  DEPÓSITO  ECONÓMICO,    POR  QUE  ES LA  SUBSTANCIA  DEL  SISTEMA  NATURAL  DE  LA TIERRA,   ES  EL  CONTRUCTOR  DE    BLOQUES  DE ROCA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304560" y="0"/>
            <a:ext cx="8839080" cy="640080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OS  LOS  PROCESOS  DINÁMICOS DE LA TIERRA ENVUELVEN   LA CONSTRUCCIÓN  Y   DESTRUCCIÓN  DE   MINERALES,  COMO  MODELOS  DE CAMBIO  DE  UN  ESTADO  AL OTRO</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UANDO LA SUPERFICIE DE LA TIERRA SE METEORIZA Y ERODA,  ALGUNOS MINERALES SE DESTRUYEN Y OTROS CRECEN EN SU LUGAR.</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OS OCÉANOS LOS MINERALES  SE   ACUMULAN  Y  CRECEN  A  PARTIR DE  SOLUCIO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OTROS  MINERALES  CRECEN  AL  ENFRIARSE   LAS  LAVAS  ARROJADAS  DE LOS VOLCA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A PROFUNDIDAD  DE  LA TIERRA,   LA  ALTA  TEMPERATURA  Y  PRESIÓN  REMUEVE  LOS  ÁTOMOS  DE  UNA  ESTRUCTURA  CRISTALINA  DE ALGUNOS  MINERALES  Y  LOS RECOMBINA  EN  OTROS  NUEVOS MINERAL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SON CREADOS Y  DETRUÍDOS POR  VARIADOS  PROCESO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PARA  ENTENDER  LA  DINÁMICA DE LA TIERRA,  ES ESENCIAL  TENER  ALGÚN CONOCIMIENTO  DE  LOS MINERALES  MAYORES.    CONOCER    SUS CARACTERÍSTICAS  GENERALES   Y   SUS PROPIEDADES   FÍSICA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NERALES   Y   ROCAS</a:t>
            </a:r>
            <a:endParaRPr b="0" lang="en-US" sz="3200" spc="-1" strike="noStrike">
              <a:solidFill>
                <a:srgbClr val="000000"/>
              </a:solidFill>
              <a:latin typeface="Times New Roman"/>
            </a:endParaRPr>
          </a:p>
        </p:txBody>
      </p:sp>
      <p:sp>
        <p:nvSpPr>
          <p:cNvPr id="50"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UN MINERAL ES UN SÓLIDO INORGÁNICO NATURAL CON UN ESTRUCTURA INTERNA ESPECIFICA  (esto es,  los átomos constituyentes tienen un ordenamiento o arreglo específico que define un modelo geométrico definitivo)  Y UNA COMPOSICIÓN QUÍMICA   QUE VARÍA  SÓLO DENTRO DE CIERTOS LÍMITES  (la combinación específica de los Elementos constituyentes puede ser expresada en una fórmula químic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ADA TIPO DE MINERAL ES ESTABLE SÓLO BAJO CONDICIONES ESPECÍFICAS DE PRESIÓN Y TEMPERATUR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PUEDEN  CRECER  CUANDO  SE AGEGAN ÁTOMOS  A SU ESTRUCTURA CRISTALINA,   AL CAMBIAR LA MATERIA  DE SU ESTADO GASEOSO O LÍQUIDO  A SÓLIDO.  DE  IGUAL MODO, LOS MINERALES SE DISUELVEN O MEZCLAN CUANDO LOS ÁTOMOS SON REMOVIDOS DE LA  ESTRUCTURA  DEL CRISTAL</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A ESPECIE  MINERAL TIENE  PROPIEDADES FÍSICAS Y  QUÍMICAS  BIÉN DEFINIDAS,  NO IMPORTANDO DÓNDE ,  COMO   Y  CUANDO FUE   FORMADO.   ALGUNA DE LAS PROPIEDADES FÍSICAS Y QUÍMICAS  MAS FÁCILMENTE OBSERVABLES  SON:   su estructura cristalina,  su  clivaje o fractura, su  dureza, su peso específico, su color y su rayad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DE SILICATOS  SON LOS MAS ABUNDANTES  Y FORMAN   MAS DEL 95% DE LA CORTEZA TERRESTRE.   LOS MAS IMPORTANTES  MINERALES DE SILICATOS  SON  feldespatos,  micas,  olivinas, piroxenas,  anfibolitas,  cuarzo y  minerales de arcilla.   ALGUNOS  MINERALES  NO  SILICATADOS IMPORTANTES  SON  calcita,  dolomita, yeso y  halit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PUEDEN  CRECER  E  IMTERRUMPIR  SU CRECIMIENTO  BAJO CONDICIONES ESPECÍFICAS  DE PRESIÓN,  TEMPERATURA Y  COMPOSICIÓN QUÍMIC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L CRECIMIENTO FINAL DE  UN  CRISTAL LO DETERMINA  LA GEOMETRÍA DEL ESPACIO DISPONIBLE  DONDE  CRECE EL CRISTAL.</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N AMBIENTES  SIN  RESTRICCIONES  CADA CARA CRECE LIBREMENTE CON IGUAL FACILIDAD,   FORMÁNDOSE  UN CRISTAL “PERFECTO”.    CUANDO UN CRISTAL  CRECE EN AMBIENTES RESTRINGIDOS  PUEDE NO LLEGAR  A  DESARROLLAR  CARAS  O  SUPERFICIES CRISTALINAS PERFECTA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609480"/>
            <a:ext cx="777240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OCAS</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JUNTO   O  AGREGADO  DE  MINERALES (DOS  O  MAS  MINERALES   ASOCIADOS QUIMICAMENTE)</a:t>
            </a:r>
            <a:endParaRPr b="0" lang="en-US" sz="28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TIPOS DE ROCAS  SEGÚN SU GÉNESI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ÍGNE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SEDIMENTARI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METAMÓRFIC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1066680"/>
            <a:ext cx="8610480" cy="4267440"/>
          </a:xfrm>
          <a:prstGeom prst="rect">
            <a:avLst/>
          </a:prstGeom>
          <a:noFill/>
          <a:ln w="0">
            <a:noFill/>
          </a:ln>
        </p:spPr>
        <p:txBody>
          <a:bodyPr lIns="90000" rIns="90000" tIns="46800" bIns="46800" anchor="t">
            <a:normAutofit fontScale="99000"/>
          </a:bodyPr>
          <a:p>
            <a:pPr marL="33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ffffff"/>
                </a:solidFill>
                <a:uFillTx/>
                <a:latin typeface="Times New Roman"/>
              </a:rPr>
              <a:t>ROCAS ÍGNEAS</a:t>
            </a:r>
            <a:endParaRPr b="0" lang="en-US" sz="2100" spc="-1" strike="noStrike">
              <a:solidFill>
                <a:srgbClr val="000000"/>
              </a:solidFill>
              <a:latin typeface="Times New Roman"/>
            </a:endParaRPr>
          </a:p>
          <a:p>
            <a:pPr marL="3394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ON AQUELLAS ROCAS QUE SE ORIGINAN A PARTIR DE LA SOLIDIFICACIÓN DE UN MAGMA. EL MAGMA ES UN material rocoso fundido QUE SE FORMA Y PERMANECE BAJO LA SUPERFICIE DE LA TIERRA. PUEDE SOLIDIFICAR BAJO LA SUPERFICIE O EXTRUIR COMO LIQUIDO AL EXTERIOR (lava).</a:t>
            </a:r>
            <a:endParaRPr b="0" lang="en-US" sz="2100" spc="-1" strike="noStrike">
              <a:solidFill>
                <a:srgbClr val="000000"/>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PROCESOS FORMADORES DE ROCAS IGNEAS ESTÁN LIGADOS AL SISTEMA TECTÓNICO DE LA TIERRA   (endógeno)</a:t>
            </a:r>
            <a:endParaRPr b="0" lang="en-US" sz="21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SEDIMENTARI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UN AGREGADO DE FRAGMENTOS DE ROCAS PREEXISTENTES. POR UN PROCESO DE DIAGÉNESIS EL DEPÓSITO SEDIMENTARIO SE TRANSFORMA EN ROCA SEDIMENTARI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SEDIMENTARIAS ESTÁN LIGADOS AL SISTEMA HIDROLÓGICO DE LA TIERRA (exógeno)</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23:51:07Z</dcterms:created>
  <dc:creator>Universidad de Chile</dc:creator>
  <dc:description/>
  <dc:language>en-US</dc:language>
  <cp:lastModifiedBy>Compaq</cp:lastModifiedBy>
  <cp:lastPrinted>2001-08-13T23:15:41Z</cp:lastPrinted>
  <dcterms:modified xsi:type="dcterms:W3CDTF">2001-08-16T02:46:49Z</dcterms:modified>
  <cp:revision>19</cp:revision>
  <dc:subject/>
  <dc:title>LOS MATERIALES DE LA CORTEZA  LA MATERIA EXISTE EN  TRES   (3)   ESTADOS:   sólido,   líquido   y   gas.  LA DIFERENCIA ENTRE  ESTOS TRES ESTADOS  SE RELACIONA  CON EL GRADO   DE  ORDENAMIENTO  DE LOS ÁTOMOS  EL ÁTOMO   ES LA UNIDAD  MAS PEQUEÑA DE  UN elemento,  QUE   POSEE LAS PROPIEDADES  DE  ÉSTE.    CONSISTE EN UN NÚCLEO DE   protones y neutrones,   CON   UN  ENJAMBRE  CIRCUNDANTE   DE  electrones  LA VARIACIÓN PROGRESIVA  EN LA COMPOSICIÓN DE LOS ÁTOMOS DE CADA ELEMENTO SE VE REFLEJADA EN LA “tabla periódica de los elementos”</dc:title>
</cp:coreProperties>
</file>