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C2F-052C-46B2-8021-EE812B4D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FDF-DCBA-483B-A46E-59FF505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831-3A30-4359-95B9-5F805238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DDE-BFB8-4575-B475-545AD8B3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FB0-8FFF-4A43-8323-34534DE8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23C-516B-4C3F-A9C3-059294A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C478-2570-4C3A-AD61-DF3D5EF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0DE-FA68-4AA6-B8E8-E000B887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E2B4-8052-4C30-9200-6BC5E713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A756-FF6F-421E-87F2-9D5376B9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31B4-FF42-4909-87B1-73A7805E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446-2FDB-431E-9956-D9BA3F2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2F18-2299-4BDA-958A-AAADE4E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4D62-D8DA-4B49-AAD6-789C2B8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9737-9DDE-4276-8A2A-F3F24C91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F01D-6F88-49C8-816E-66FB4DC8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1DBE-8978-4BFF-8F4D-B10B25E8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775-55FA-4170-954F-23D7A1F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59A-EBEF-41D7-8C3A-545F8940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DDC-1996-42CA-B6A6-05EC4C3D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62E-675B-4913-946A-6789F466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EF4-E41C-444D-ADFB-6654D7C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8B6-6E72-4671-A964-4D608B55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A67-6A23-4622-A8D5-0D86C47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B888-68D3-4FC3-9BA1-7CF9C115575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8FD-B97A-4E79-A66A-67485D3F95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ffff99"/>
                </a:solidFill>
                <a:latin typeface="Arial"/>
              </a:rPr>
              <a:t>The Liquiñe Ofqui fault zone: a long-lived intra-arc fault system in southern Chil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José Cembrano, Francisco Hervé, Alain Lave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nia Villaseñor 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minios estructurales discretos donde fallas frágiles (subverticales con estrias horizontales) se sobreponen a granitos del Mio-Pli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s set: NNE (indicadores dextrales) y N60ºE (indicadores sinest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60880" cy="439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17236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60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3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Fallamiento frágil dextral de las rocas graniticas del Mio-Plioc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21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pósitos de cuenca y diques cenozoicos con rumbo NE y localización de volcanes recientes coinciden con la rama derecha del duplex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te marco es resultado de extensión NNW oblicuo a la zona de cizalle (NNE), entonces el strike-slip duplex es extensional al menos para el Cenozoico temprano (formación de la cuenca) y Cenozoico tardío (volcanis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del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FZ se inició en el Mesozoico a lo largo del arco magmático (Pankhurst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t 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199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lonitas preoligocenicas de la parte norte de LOFZ evidencian movimiento sinest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oceno-Mioceno (48-26 Ma) la subducción fue casi recta y de alta v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OFZ fue reactivada como una zona de falla strike-slip dextral (régimen transtensional en el arco magmát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arrollo de cuencas a lo largo de dominios extensionales en la mism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oceno (26 Ma) reorganización de placas cierra las cuencas por complejos plutónic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 Ma., subducción recta-oblicua de placa oceánica jóven (acoplamient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ranspresión dextral en el arco magmát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incidencia de LOFZ con cinturón Batolito norpatagónico (Mioceno), volcanismo cuaternario y cuencas del Cenozoico tempra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formación de strike-slip dextral durante Mioceno-Plioceno acompañado de emplazamiento de plutones sintectón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trones de rotación de bloques consistente con la geometria de LOFZ e indicadores cinemátic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ctonismo reciente en LOFZ es caracterizado por deformación dextral de strike-slip durante Plioceno y/o post-Plioceno y altas tasas de alzamiento durante el Hol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Zona de falla Liquiñe Ofqui: 1000 km de largo (39-48ºL.S) y set de lineamientos de intra-arc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cciones cinemáticas a partir de los 49 Ma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subducción casi paralel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de 26 Ma, subducción ortogonal luego del rompimiento de Farall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videncia de tectonismo transtensional y transpresional documentadas en LOFZ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62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iscutir la geometría, geología, paleomagnetismo y cinemática de la zona de falla Liquiñe Ofqui (LOFZ) integrando toda la información disponib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poner un modelo tectónico a partir de las evidencias disponib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metr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0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es tipos de linea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os lineamientos rectos con tendencia N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tro lineamientos en échelon rectos con tendencia 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res lineamientos curvos con tendencia NNW concavos hacia el S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trike-slip duple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9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terogeneidad en naturaleza e intensidad de la deformación de las roc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dominan rocas plutónicas desde tonalitas a granodiori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s metamorficas y volcano- sedimentarias en menor propor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trusivos son parte del Batolito Norpatagónico (NPB): cinturón de plutones de edad meso-cenozoica entre los 39 y 47º L.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PB de fabrica isotrópica con zonas de alto strain a lo largo de LOFZ: roca deformada dentro de roca sin deform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 de basamento con deformación: foliación con rumbo NNW y lineaciones de mxx subhorizontales en plutones del Neog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rmación Traiguén (Cenozoico) muy deformadas a lo largo del lineamiento recto sur de LOF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64120" cy="6453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132000" y="4292640"/>
            <a:ext cx="3024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2000" y="4221000"/>
            <a:ext cx="3095640" cy="14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4005000"/>
            <a:ext cx="4105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203640" y="2997000"/>
            <a:ext cx="172872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trus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92360" y="907920"/>
            <a:ext cx="302436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3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xx volcánicas del Holoc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458136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93080" y="184464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77080" y="314172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5229360"/>
            <a:ext cx="504720" cy="576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22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dicadores cin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ones de rotación de blo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ón en sentido antihorario al oeste de LOFZ y rotación en sentido horario dentro y al este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06800" y="1413000"/>
            <a:ext cx="423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475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antihorar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laca subducta en forma oblicua pero su movimiento es impedi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cortamien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on antihoraria hacia el norte de bloques. Ensanchamiento de la pla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87840" cy="3046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4000" y="4797360"/>
            <a:ext cx="475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horaria: debido a subducción dex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vé (1976). Foliación subvertical con tendencia NNE y un set conjugado de fallas de tendencia NNE dextral y otro ENE sinestral en milonita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movimiento dextral en la zona (Oligoceno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lutones del Plioceno intruyen roca metamorfica del Paleozoico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lacion entre esquistocidad NNW y bandas de corte N-S indican movimiento dextr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57:33Z</dcterms:created>
  <dc:creator>Tania</dc:creator>
  <dc:description/>
  <dc:language>en-US</dc:language>
  <cp:lastModifiedBy>Mario Pardo</cp:lastModifiedBy>
  <dcterms:modified xsi:type="dcterms:W3CDTF">2004-09-30T20:44:02Z</dcterms:modified>
  <cp:revision>18</cp:revision>
  <dc:subject/>
  <dc:title>The Liquiñe Ofqui fault zone: a long-lived intra-arc fault system in souther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