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0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11.png" ContentType="image/png"/>
  <Override PartName="/ppt/media/image6.wmf" ContentType="image/x-wmf"/>
  <Override PartName="/ppt/media/image30.png" ContentType="image/png"/>
  <Override PartName="/ppt/media/image31.png" ContentType="image/png"/>
  <Override PartName="/ppt/media/image37.png" ContentType="image/png"/>
  <Override PartName="/ppt/media/image7.png" ContentType="image/png"/>
  <Override PartName="/ppt/media/image12.png" ContentType="image/png"/>
  <Override PartName="/ppt/media/image36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28.png" ContentType="image/png"/>
  <Override PartName="/ppt/media/image1.wmf" ContentType="image/x-wmf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93068-FFE8-40C2-A95A-620AFBDA662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eguntar por los gráfic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30C5-B11E-4B1B-A3CC-1F9055A4A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AC96-93AE-4F8E-8178-EA26A4B9F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F76A-9927-49D7-9AD6-7F9BDB459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9AA2-32EA-44C8-A26F-63A3E5EDF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ADDCC-4971-4DD8-ACE0-25C8B953B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1DABF-7C59-4112-9D82-163B20257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FF974-5BFC-4D9F-BA9F-24AF0248B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13E76-8931-47D9-966A-75079DCEB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6B042-F825-4A7F-886A-AF830A16F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F956A-6616-4998-9AA9-142D5645C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BB7D6-3ACA-427D-A524-EF57C0376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354F-F3D8-4CD6-9035-B0286D89E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BB411-AB24-481C-9F9C-10938CA79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2FC36-0E91-4BC4-91F8-4DF77A821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5CBB1-FFDD-409D-822B-C1A85309E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7BA9C-893A-4990-B416-FD2E53543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15593-837B-4CEA-A560-386726F8B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4761-32B9-43CE-AEAB-284521474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BE11-E0F0-40E7-99FF-ABCA35BB1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621D-CD65-409D-B382-824A2C7CC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50E8-B699-487C-BC42-54162CF00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3490-CA0B-44DB-9754-E06D3B16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801B-1C92-4B54-9FFE-6DF426EB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6532-9053-4EC9-9AF7-B2C54F78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18320" y="420120"/>
                <a:ext cx="426816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37000" y="840600"/>
                <a:ext cx="3431160" cy="31946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255320" y="1261080"/>
                <a:ext cx="2594520" cy="2354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590120" y="1597680"/>
                <a:ext cx="1924560" cy="1681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518640" y="3515400"/>
                <a:ext cx="3249000" cy="30268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837240" y="3830760"/>
                <a:ext cx="2611800" cy="23961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4410720" y="4398480"/>
                <a:ext cx="1464840" cy="12610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4851360" y="506880"/>
                <a:ext cx="3630960" cy="34052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207760" y="861480"/>
                <a:ext cx="291888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563440" y="1216080"/>
                <a:ext cx="2207160" cy="19864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91894-DD5E-4EAC-AB81-58345040E9D0}" type="slidenum">
              <a:rPr b="1" lang="es-E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418320" y="420120"/>
                  <a:ext cx="426816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837000" y="840600"/>
                  <a:ext cx="3431160" cy="31946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255320" y="1261080"/>
                  <a:ext cx="2594520" cy="2354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590120" y="1597680"/>
                  <a:ext cx="1924560" cy="1681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3518640" y="3515400"/>
                  <a:ext cx="3249000" cy="30268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837240" y="3830760"/>
                  <a:ext cx="2611800" cy="23961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4410720" y="4398480"/>
                  <a:ext cx="1464840" cy="12610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4851360" y="506880"/>
                  <a:ext cx="3630960" cy="34052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5207760" y="861480"/>
                  <a:ext cx="291888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563440" y="1216080"/>
                  <a:ext cx="2207160" cy="19864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45079-E6D1-4B81-99F7-4D9212908264}" type="slidenum"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Petrología Del Manto En Relación a Las Placas tectonica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Times New Roman"/>
              </a:rPr>
              <a:t>Presentado por:</a:t>
            </a:r>
            <a:r>
              <a:rPr b="0" lang="es-E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Times New Roman"/>
              </a:rPr>
              <a:t>Pamela M. Linfor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Times New Roman"/>
              </a:rPr>
              <a:t>(autor sin referencia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572000" y="14479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1406520" y="4876920"/>
            <a:ext cx="632952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89000"/>
            <a:ext cx="6248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609480"/>
            <a:ext cx="3809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Transición Químic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-cambio en composició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Times New Roman"/>
              </a:rPr>
              <a:t>Oceánica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conocido por drenaje en las zonas de fracturas, peridotitas recubiertas por gabro y basalt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Times New Roman"/>
              </a:rPr>
              <a:t>Continental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para saberlo con certeza se debe conocer la corteza inferio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48320" y="685800"/>
            <a:ext cx="38098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4191120" cy="32274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572000" y="228600"/>
            <a:ext cx="41911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3.- Composición del manto superi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1905120"/>
            <a:ext cx="891540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eaeaea"/>
                </a:solidFill>
                <a:latin typeface="Times New Roman"/>
              </a:rPr>
              <a:t>Nuestro conocimiento petrologico proviene de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eaeaea"/>
                </a:solidFill>
                <a:latin typeface="Times New Roman"/>
              </a:rPr>
              <a:t>Nodulos arrojados por volcan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eaeaea"/>
                </a:solidFill>
                <a:latin typeface="Times New Roman"/>
              </a:rPr>
              <a:t>Secciones de manto fundido en ophiolit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eaeaea"/>
                </a:solidFill>
                <a:latin typeface="Times New Roman"/>
              </a:rPr>
              <a:t>Manto emergido en altas montañas como los Alpes(Ivrea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eaeaea"/>
                </a:solidFill>
                <a:latin typeface="Times New Roman"/>
              </a:rPr>
              <a:t>Modelos de composiciones basálticas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4191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Mineralogía del manto superior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1066680"/>
            <a:ext cx="419112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Variacíon mineralogica con la presion y temperatura puede ser medida experimentalment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El problema es saber la composición, ya que los registros no son de manto primario, sino de fusión parcia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El gráfico representa las condiciones de presion-temperatura en las cuales pueden existir o coexistir los distintos mineral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800600" y="4800600"/>
            <a:ext cx="4343400" cy="20574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0"/>
            <a:ext cx="44197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Métodos para investigar la mineralogía del manto en profund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0880" y="685800"/>
            <a:ext cx="8763120" cy="51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Investigación directa es imposibl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Aún los equipos más modernos no son capaces de reproducir presiones(130-340 Kb) y temperaturas(1500-3000 C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Times New Roman"/>
              </a:rPr>
              <a:t>Solución, métodos indirectos de investigació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eaeaea"/>
                </a:solidFill>
                <a:latin typeface="Times New Roman"/>
              </a:rPr>
              <a:t>a)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eaeaea"/>
                </a:solidFill>
                <a:latin typeface="Times New Roman"/>
              </a:rPr>
              <a:t>Comparar silicatos con germanatos</a:t>
            </a: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, esto se puede hacer debido a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Tienen radios similares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Tienen estructuras similares, pero la transformación de los germanatos ocurre a presiones  mucho menor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Misma agrupación con otros elementos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3200400" cy="4111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838080" y="4572000"/>
            <a:ext cx="45910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0"/>
            <a:ext cx="9144000" cy="32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Times New Roman"/>
              </a:rPr>
              <a:t>b) Midiendo Radius Ratio (Rcation/Ranion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Las nuevas fases se originan cuando este valor excede valores límit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Esto tiene relación con la polarizibilidad de los átomos involucrados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Times New Roman"/>
              </a:rPr>
              <a:t>c) Discontinuidades o fases con registro de velocidad de ondas p y 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4876920" cy="10666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304920" y="2895480"/>
            <a:ext cx="2990880" cy="36576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3429000" y="2743200"/>
            <a:ext cx="5486400" cy="47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eaeaea"/>
                </a:solidFill>
                <a:uFillTx/>
                <a:latin typeface="Times New Roman"/>
              </a:rPr>
              <a:t>Zonas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Baja velocidad: 200-250 Km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Menor discontinuidad: 350 Km , piroxeno aumenta 10% su densidad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Mayor discontinuidad: 400 Km , olivino aumneta en 8% su densidad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Mayor discontinuidad: 650 Km, hay varias transformaciones: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-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5.-</a:t>
            </a:r>
            <a:r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Sin discontinuidad: 900-2700 K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- no existen más transformaciones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- se supone medio homogeneo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3591000" y="4952880"/>
            <a:ext cx="5553000" cy="7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Mineralogía y cambio de fase en el ma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735440" y="1309680"/>
            <a:ext cx="4408560" cy="55483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380880" y="1371600"/>
            <a:ext cx="426744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Con este análisis, surgen preguntas y resultados interesantes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Si la subducción no penetra la capa de 700 Km, ¿dónde se queda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¿Hay dos zonas de convección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¿coinciden todas las discontinuidades con cambios químicos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¿existe algún cambio químico despues de los 700 Km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Modelo de Ringwood</a:t>
            </a:r>
            <a:br>
              <a:rPr sz="4400"/>
            </a:b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¿la subducción llega después de los 700 Km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5715000" y="1371600"/>
            <a:ext cx="3070080" cy="54864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304920" y="990720"/>
            <a:ext cx="5257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Hay evidencias sísmicas hasta los 650 K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Ahora se puede calcular la composición media del manto con la profundidad( representada en la figura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Además se puede calcular la densidad de la subducción con la profundidad y la temperatura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609480" y="2743200"/>
            <a:ext cx="4496040" cy="20448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609480" y="4857840"/>
            <a:ext cx="44960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80880" y="304920"/>
            <a:ext cx="3886200" cy="62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Ringwood propone que la subducción se queda en la discontinuidad de 650 Km. Por: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Slab es más densa por ser más fría lo que hace que caiga, pero con el tiempo, se hace más liviana al calentarse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Por lo tanto en principio, se hunde, pero parte pasa a formar el manto y otra se queda en la discontinuidad, hasta los 100 Km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Al fundirse, ya ayudado por la convección, es una forma en que se forman las plumas y hot-spots, deben formarse en una discontinuidad, ya sea la de los 650 Km o núcleo-mant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267080" y="0"/>
            <a:ext cx="4876920" cy="32097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4572000" y="3352680"/>
            <a:ext cx="457200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Este material puede evidenciarse en la diferencia en composición del manto superior oceánico y continenta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Este material no penetra directamente la litósfera sino que se funde y metasomatiza químicamente , lo que genera diferencias en la composición de ella.Este fenómeno se muestra a continuación: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973760" y="0"/>
            <a:ext cx="4170240" cy="35053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0" y="4572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76920" cy="48006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4952880" y="3627360"/>
            <a:ext cx="419112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INTRODUCCIÓ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Times New Roman"/>
              </a:rPr>
              <a:t>Aún hay muchas preguntas sin respuesta sobre la composición de la Tierra, ya que todas son teorías y no podemos acceder físicamente a ella, excepto en casos aislados. Nuestro interés es el Manto, su mineralogía y funcionamiento,  su  influencia en la corteza y aspectos en las placas tectónica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Modelo de la diferenciación del ma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4343400" y="1219320"/>
            <a:ext cx="4800600" cy="36576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04920" y="1371600"/>
            <a:ext cx="3886200" cy="47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El manto sufre procesos de diferenciación en el tiempo, mientras que la corteza es permanente y no reciclada por el manto( salvo subducción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Pirolita se funde para formar corteza oceánic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En subducción la corteza oceánica se deshidrata, se funde y provee al manto magmas andesítico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Magmas andesíticos se fraccionan produciendo magmas más siliceos, los cuales son de baja densidad e indestructibl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4343400" y="4876920"/>
            <a:ext cx="4800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Convección del ma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886200" y="1219320"/>
            <a:ext cx="5257800" cy="44956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228600" y="1295280"/>
            <a:ext cx="350532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Existe discusión si la convección se realiza solamente en el manto superior o si existe participación del manto inferior en este proces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¿Slab penetra en el manto inferior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3733920" y="1219320"/>
            <a:ext cx="5181480" cy="33526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228600" y="1143000"/>
            <a:ext cx="3429000" cy="55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Los análisis de corteza oceánica en subducción demuestran que existen ambos fenómenos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eaeaea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Arcos de islas en el pacífico oeste, pueden ser producidas por una subducción al sur del Japó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eaeaea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Mariana Arc pudo penetrar al manto inferi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Naturaleza del manto infer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114800" y="1295280"/>
            <a:ext cx="5029200" cy="26434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228600" y="1600200"/>
            <a:ext cx="3733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Generalmente se conoce la convección del manto superior, pero el manto inferior participa mucho más de lo que se creía, la interacción corteza-manto superior-manto inferior es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33520" y="4114800"/>
            <a:ext cx="822960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Subducción de la corteza, una parte se funde y somatiza con el manto superior, y otra pasa a formar parte del manto inferior, incluso en casos excepcionales puede llegar al núcleo externo, formando superpluma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Con la convección y plumas, hot-spot, el manto superior provee de material para formación de litósfera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La interacción entre manto superior e inferior, más las superplumas , cambian la composición del manto inferior y corteza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ff"/>
                </a:solidFill>
                <a:uFillTx/>
                <a:latin typeface="Times New Roman"/>
              </a:rPr>
              <a:t>Conclusion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1066680"/>
            <a:ext cx="8686800" cy="56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00"/>
                </a:solidFill>
                <a:latin typeface="Times New Roman"/>
              </a:rPr>
              <a:t>Nota: son mis respuestas personales, no directamente del au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eaeaea"/>
                </a:solidFill>
                <a:latin typeface="Times New Roman"/>
              </a:rPr>
              <a:t>Volviendo a las preguntas hechas inicialmente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¿La Litósfera tiene distinta composición que la Astenósfera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Times New Roman"/>
              </a:rPr>
              <a:t>R: sí, porque la astenósfera cambia su composición debido a metasomatismo en el manto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¿Cuál es la naturaleza de Moho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Times New Roman"/>
              </a:rPr>
              <a:t>R: es un cambio de fase composicional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¿El manto subcontinental es distinto al manto oceánico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Times New Roman"/>
              </a:rPr>
              <a:t>R: Sí,  porque la subducción de corteza oceánica afecta el manto subcontinenta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¿Cuál es la naturaleza del manto en profundidad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Times New Roman"/>
              </a:rPr>
              <a:t>R: Corresponde a diferenciación en el tiempo del manto, cuando los minerales son estables, no hay más cambios composicionales, sin discontinuidades</a:t>
            </a: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380880" y="304920"/>
            <a:ext cx="8458200" cy="55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¿Qué pasa en la zona de transición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Times New Roman"/>
              </a:rPr>
              <a:t>R: hay varias zonas, pero estas corresponden a cambios químicos debidos a presion y temperatura característicos para los elemento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¿La convección se realiza en todo el manto o hay 2 capas de convección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Times New Roman"/>
              </a:rPr>
              <a:t>R: aún no hay certeza, pero si se cree que el manto inferior participa en parte en este proces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¿Penetra la subducción en el manto inferior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Times New Roman"/>
              </a:rPr>
              <a:t>´R: Sí, cuando la subducción es tipo Mariana(alto ángulo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¿Qué son las plumas, superplumas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Times New Roman"/>
              </a:rPr>
              <a:t>R: Plumas: fusión y ascenso de material en la discontinuidad de 650 Km. ; Superplumas: ascenso de material desde el límite nícleo-mant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¿Cuál es la naturaleza de la zona de baja velocidad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Times New Roman"/>
              </a:rPr>
              <a:t>R: corresponde más a distinta viscosidad que distinta composició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057400" y="3581280"/>
            <a:ext cx="2666880" cy="26672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981080" y="358128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4724280" y="358128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4724280" y="144360"/>
            <a:ext cx="4419720" cy="41227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28600" y="0"/>
            <a:ext cx="4343400" cy="75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eaeaea"/>
                </a:solidFill>
                <a:latin typeface="Times New Roman"/>
              </a:rPr>
              <a:t>Las preguntas que deben hacerse son: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¿La Litósfera tiene distinta composición que la Astenósfera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¿Cuál es la naturaleza de Moho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¿El manto subcontinental es distinto al manto oceánico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¿Cuál es la naturaleza del manto en profundidad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¿Qué pasa en la zona de transición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¿La convección se realiza en todo el manto o hay 2 capas de convección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¿Penetra la subducción en el manto inferior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¿Qué son las plumas, superplumas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¿Cuál es la naturaleza de la zona de baja velocidad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4267080"/>
            <a:ext cx="43434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Times New Roman"/>
              </a:rPr>
              <a:t>Hay que notar que la corteza está exagerada, el modelo podría suponer que la subducción llega al núcleo, al fundirse formar las superplumas</a:t>
            </a:r>
            <a:r>
              <a:rPr b="0" lang="es-ES" sz="16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4724280" y="4943520"/>
            <a:ext cx="44197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113_45" descr=""/>
          <p:cNvPicPr/>
          <p:nvPr/>
        </p:nvPicPr>
        <p:blipFill>
          <a:blip r:embed="rId1"/>
          <a:stretch/>
        </p:blipFill>
        <p:spPr>
          <a:xfrm>
            <a:off x="1405080" y="2225520"/>
            <a:ext cx="6333840" cy="46324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050840" y="270000"/>
            <a:ext cx="755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28880" y="12952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eaeaea"/>
                </a:solidFill>
                <a:latin typeface="Times New Roman"/>
              </a:rPr>
              <a:t>Discontinuidades dadas por las velocidades de      ondas P y ondas 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90720" y="45720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aeaea"/>
                </a:solidFill>
                <a:latin typeface="Times New Roman"/>
              </a:rPr>
              <a:t>Estructura interna de la Tierra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113_46" descr=""/>
          <p:cNvPicPr/>
          <p:nvPr/>
        </p:nvPicPr>
        <p:blipFill>
          <a:blip r:embed="rId1"/>
          <a:stretch/>
        </p:blipFill>
        <p:spPr>
          <a:xfrm>
            <a:off x="2076480" y="571680"/>
            <a:ext cx="49910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04920" y="76212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4568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eaeaea"/>
                </a:solidFill>
                <a:uFillTx/>
                <a:latin typeface="Times New Roman"/>
              </a:rPr>
              <a:t>Corteza Continenta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Conocemos algo de la corteza superior(podemos acceder a ella físicamente), pero existe una incertesa de la corteza inferio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ff0000"/>
                </a:solidFill>
                <a:latin typeface="Times New Roman"/>
              </a:rPr>
              <a:t>¿es real la discontinuidad que las separa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i="1" lang="es-ES" sz="2000" spc="-1" strike="noStrike">
                <a:solidFill>
                  <a:srgbClr val="eaeaea"/>
                </a:solidFill>
                <a:latin typeface="Times New Roman"/>
              </a:rPr>
              <a:t>Discontinuidad: </a:t>
            </a: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la corteza inferior es más máfica, pero ¿cual es la causa?. Se postulan dos ideas: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- “Underplating”, intrusión de magmas máfico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- Extracción del silice en la parte inferior de la cortez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Existen numerosos lugares en donde la actividad tectónica nos ha permitido examinar la corteza inferior, como por ejemplo: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-Corteza Precámbrica: Kapuskasing y Pikwitonei en Canadá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-Corteza  del Fanerozoico: Calabria en Italia e Ivrea en Los Alpes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Lo cual ha arrojado los siguientes resultados: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666880" y="3429000"/>
            <a:ext cx="1906560" cy="19065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572000" y="289080"/>
            <a:ext cx="4343400" cy="31399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4572000" y="3489480"/>
            <a:ext cx="4343400" cy="33685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0" y="38088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609480"/>
            <a:ext cx="403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Con estudios de campo y geofísicos, se presentan niveles en la corteza en la zona de Kapuskasing (Canadá), en Lewisian se presentan resultados similares, ascenso de la corteza inferio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3962520"/>
            <a:ext cx="4572000" cy="23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Se muestran rocas de baja velocidad P y otras de alta velocidad P, las últimas son producidas a mayor profundidad de la que las encontramos, por condiciones de presion-temperatura, la pregunta es: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¿Qué causa que las rocas de alta velocidad P sean exhumadas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28600" y="304920"/>
            <a:ext cx="8229600" cy="69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eaeaea"/>
                </a:solidFill>
                <a:uFillTx/>
                <a:latin typeface="Times New Roman"/>
              </a:rPr>
              <a:t>2.- El Moho y corteza inferi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Velocidad de onda P (Km/s) en el manto bajo el moho:7.9-8.2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La composición del manto bajo el moho es principalmente: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Estos son acarreados por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imes New Roman"/>
              </a:rPr>
              <a:t>Respuesta a las preguntas: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ff0000"/>
                </a:solidFill>
                <a:latin typeface="Times New Roman"/>
              </a:rPr>
              <a:t>Existe la discontinuidad y esta se debe a 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ff0000"/>
                </a:solidFill>
                <a:latin typeface="Times New Roman"/>
              </a:rPr>
              <a:t>-granulite-facies son equilibradas a los 25-30 Km, composición medi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ff0000"/>
                </a:solidFill>
                <a:latin typeface="Times New Roman"/>
              </a:rPr>
              <a:t>-brechas volcánicas(gabro) son más máficas ,lo que da las irregularidad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ff0000"/>
                </a:solidFill>
                <a:latin typeface="Times New Roman"/>
              </a:rPr>
              <a:t>-En la corteza inferior, los reflectores se deben más a la viscosidad que a la composición.Una corteza antigua, pero estos patrones son destruidos por procesos tectónico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7010280" cy="4539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2895480" y="3429000"/>
            <a:ext cx="4195800" cy="2779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2895480" y="3733920"/>
            <a:ext cx="4267440" cy="3045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7238880" y="3200400"/>
            <a:ext cx="1905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Ultramáfic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máfic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El Moh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1760" y="723960"/>
            <a:ext cx="38098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eaeaea"/>
                </a:solidFill>
                <a:latin typeface="Times New Roman"/>
              </a:rPr>
              <a:t>Transición de fas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cambio en mineralogía pero no en composició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48320" y="761760"/>
            <a:ext cx="44956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Serpentine </a:t>
            </a: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 peridotita hidratad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(modelo aún discutido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Basalto o gabro + altas presiones       eclogit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     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Esto puede explicar algunas cosas, pero estudios de Green and Ringwood concluyero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-Transformación de ambos fue gradua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-Las transformaciones de fase ocurren a presiones sobre los 10 Kb(25Km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No puede ser una transformación de fase sino que una transformación químic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09480" y="2362320"/>
            <a:ext cx="3657600" cy="37735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019920" y="990720"/>
            <a:ext cx="30456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848720" y="1981080"/>
            <a:ext cx="30456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4800600" y="2209680"/>
            <a:ext cx="3819600" cy="1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1T17:40:39Z</dcterms:created>
  <dc:creator>pammunoz</dc:creator>
  <dc:description/>
  <dc:language>en-US</dc:language>
  <cp:lastModifiedBy>pammunoz</cp:lastModifiedBy>
  <dcterms:modified xsi:type="dcterms:W3CDTF">2002-01-07T12:10:00Z</dcterms:modified>
  <cp:revision>12</cp:revision>
  <dc:subject/>
  <dc:title>Petrología Del Manto En Relación a Las Placas tectonicas</dc:title>
</cp:coreProperties>
</file>