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0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1.png" ContentType="image/png"/>
  <Override PartName="/ppt/media/image6.wmf" ContentType="image/x-wmf"/>
  <Override PartName="/ppt/media/image30.png" ContentType="image/png"/>
  <Override PartName="/ppt/media/image31.png" ContentType="image/png"/>
  <Override PartName="/ppt/media/image37.png" ContentType="image/png"/>
  <Override PartName="/ppt/media/image7.png" ContentType="image/png"/>
  <Override PartName="/ppt/media/image12.png" ContentType="image/png"/>
  <Override PartName="/ppt/media/image36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.wmf" ContentType="image/x-wmf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802-BC7E-4DEA-876B-DAC018706F7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Preguntar por los gráfic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A97A-A95A-46CA-A5CB-7CB0FF61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1237-D999-405C-84BA-405D0CA5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9F75-D3F7-4A04-9A23-4FCC1898F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5D9-D8E4-48FF-BB64-BD4814DB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73D-F2A0-494E-99AA-3048D7E4B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30726-0950-48E4-B3AA-87CEEB65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70B74-918C-4B54-A769-FCCA4839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E340C-3E75-4685-A426-6D7E719B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60C-90D7-4F79-B04B-4CEDB98B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69DE-4957-40FE-B090-2BBAE4C0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14CA1-FDF6-4222-856D-89093C079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A04-0532-456A-8B89-7168303F6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150EE-0E00-471C-8843-1EAB4C22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7422-EEBC-4EA5-93C6-2847F9C7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308D6-D510-4B60-8A2D-C425C6DA9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5E19C-043D-486C-B0D7-6F0146969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9288-ED96-4EE1-8515-8DBAE75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CA62-46C0-4BC1-9067-B45FA542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9070-98A1-4EC4-AD1C-FAF322BC7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18E-8410-45B6-8534-67A90A304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82FA-672D-4B87-927D-D5BF96E91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1082-F54C-4631-9A7A-BC8D452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9C0-86E8-43C6-A95B-2F4DA93C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8D63-D66D-4545-A945-C1382BD2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1ED2-2758-4D1E-BA36-5BF0FC8841F5}" type="slidenum">
              <a:rPr b="1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5A8F-9B23-45FF-97E3-192F2DEC6355}" type="slidenum"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8153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Petrología Del Manto En Relación a Las Placas tectonica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resentado por: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Pamela M. Linfor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(autor sin referencia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572000" y="144792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1406520" y="4876920"/>
            <a:ext cx="6329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89000"/>
            <a:ext cx="62485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609480"/>
            <a:ext cx="3809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Transición Químic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cambi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Oceánic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ocido por drenaje en las zonas de fracturas, peridotitas recubiertas por gabro y basalto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Continental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ara saberlo con certeza se debe conocer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4832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191120" cy="322740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572000" y="228600"/>
            <a:ext cx="4191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3.- Composición del manto superi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1905120"/>
            <a:ext cx="891540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uestro conocimiento petrologico proviene d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Nodulos arrojados por volcan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Secciones de manto fundido en ophioli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anto emergido en altas montañas como los Alpes(Ivre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Times New Roman"/>
              </a:rPr>
              <a:t>Modelos de composiciones basáltica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ineralogía del manto superio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1066680"/>
            <a:ext cx="419112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Variacíon mineralogica con la presion y temperatura puede ser medida experimentalm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problema es saber la composición, ya que los registros no son de manto primario, sino de fusión parci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l gráfico representa las condiciones de presion-temperatura en las cuales pueden existir o coexistir los distintos miner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4800600" y="4800600"/>
            <a:ext cx="4343400" cy="20574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0"/>
            <a:ext cx="44197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Times New Roman"/>
              </a:rPr>
              <a:t>Métodos para investigar la mineralogía del manto en profund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685800"/>
            <a:ext cx="876312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Investigación directa es imposible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ún los equipos más modernos no son capaces de reproducir presiones(130-340 Kb) y temperaturas(1500-3000 C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Solución, métodos indirectos de investigació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a)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omparar silicatos con germanatos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, esto se puede hacer debido 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radios similares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Tienen estructuras similares, pero la transformación de los germanatos ocurre a presiones  mucho menor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isma agrupación con otros element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3200400" cy="41112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838080" y="4572000"/>
            <a:ext cx="4591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0"/>
            <a:ext cx="9144000" cy="32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b) Midiendo Radius Ratio (Rcation/Ranion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s nuevas fases se originan cuando este valor excede valores límit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tiene relación con la polarizibilidad de los átomos involucrado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eaeaea"/>
                </a:solidFill>
                <a:latin typeface="Times New Roman"/>
              </a:rPr>
              <a:t>c) Discontinuidades o fases con registro de velocidad de ondas p y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876920" cy="10666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04920" y="2895480"/>
            <a:ext cx="2990880" cy="36576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429000" y="2743200"/>
            <a:ext cx="548640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aeaea"/>
                </a:solidFill>
                <a:uFillTx/>
                <a:latin typeface="Times New Roman"/>
              </a:rPr>
              <a:t>Zona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Baja velocidad: 200-250 Km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enor discontinuidad: 350 Km , piroxeno aumenta 10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400 Km , olivino aumneta en 8% su densidad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Mayor discontinuidad: 650 Km, hay varias transformaciones: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5.-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Sin discontinuidad: 900-2700 K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no existen más transformaciones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eaeaea"/>
                </a:solidFill>
                <a:latin typeface="Times New Roman"/>
              </a:rPr>
              <a:t>- se supone medio homogeneo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3"/>
          <a:stretch/>
        </p:blipFill>
        <p:spPr>
          <a:xfrm>
            <a:off x="3591000" y="4952880"/>
            <a:ext cx="5553000" cy="7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6201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ineralogía y cambio de fase en 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735440" y="1309680"/>
            <a:ext cx="4408560" cy="55483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380880" y="1371600"/>
            <a:ext cx="426744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Con este análisis, surgen preguntas y resultados interesante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Si la subducción no penetra la capa de 700 Km, ¿dónde se queda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Hay dos zonas de convec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coinciden todas las discontinuidades con cambios químico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¿existe algún cambio químico despues de los 700 Km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Modelo de Ringwood</a:t>
            </a:r>
            <a:br>
              <a:rPr sz="4400"/>
            </a:b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¿la subducción llega después de los 700 Km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3070080" cy="54864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304920" y="990720"/>
            <a:ext cx="5257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Hay evidencias sísmicas hasta los 650 Km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hora se puede calcular la composición media del manto con la profundidad( representada en la figura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Además se puede calcular la densidad de la subducción con la profundidad y la temperatura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609480" y="2743200"/>
            <a:ext cx="4496040" cy="20448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09480" y="4857840"/>
            <a:ext cx="4496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80880" y="304920"/>
            <a:ext cx="3886200" cy="62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Ringwood propone que la subducción se queda en la discontinuidad de 650 Km. Por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Slab es más densa por ser más fría lo que hace que caiga, pero con el tiempo, se hace más liviana al calentars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Por lo tanto en principio, se hunde, pero parte pasa a formar el manto y otra se queda en la discontinuidad, hasta los 100 K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Al fundirse, ya ayudado por la convección, es una forma en que se forman las plumas y hot-spots, deben formarse en una discontinuidad, ya sea la de los 650 Km o nú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267080" y="0"/>
            <a:ext cx="4876920" cy="32097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352680"/>
            <a:ext cx="4572000" cy="26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puede evidenciarse en la diferencia en composición del manto superior oceánico y 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ste material no penetra directamente la litósfera sino que se funde y metasomatiza químicamente , lo que genera diferencias en la composición de ella.Este fenómeno se muestra a continuació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4973760" y="0"/>
            <a:ext cx="4170240" cy="35053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0" y="457200"/>
            <a:ext cx="3733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48006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3"/>
          <a:stretch/>
        </p:blipFill>
        <p:spPr>
          <a:xfrm>
            <a:off x="4952880" y="3627360"/>
            <a:ext cx="4191120" cy="32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Times New Roman"/>
              </a:rPr>
              <a:t>INTRODUCCIÓ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Times New Roman"/>
              </a:rPr>
              <a:t>Aún hay muchas preguntas sin respuesta sobre la composición de la Tierra, ya que todas son teorías y no podemos acceder físicamente a ella, excepto en casos aislados. Nuestro interés es el Manto, su mineralogía y funcionamiento,  su  influencia en la corteza y aspectos en las placas tectónica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Modelo de la diferencia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4343400" y="1219320"/>
            <a:ext cx="4800600" cy="36576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04920" y="1371600"/>
            <a:ext cx="388620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l manto sufre procesos de diferenciación en el tiempo, mientras que la corteza es permanente y no reciclada por el manto( salvo subducción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Pirolita se funde para formar corteza oceá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n subducción la corteza oceánica se deshidrata, se funde y provee al manto magmas andesítico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Magmas andesíticos se fraccionan produciendo magmas más siliceos, los cuales son de baja densidad e indestructibl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4343400" y="4876920"/>
            <a:ext cx="4800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Convección del ma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3886200" y="1219320"/>
            <a:ext cx="5257800" cy="44956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" y="1295280"/>
            <a:ext cx="35053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Existe discusión si la convección se realiza solamente en el manto superior o si existe participación del manto inferior en este proces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¿Slab penetra en el manto inferior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733920" y="1219320"/>
            <a:ext cx="5181480" cy="3352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28600" y="1143000"/>
            <a:ext cx="3429000" cy="55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Los análisis de corteza oceánica en subducción demuestran que existen ambos fenóme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Arcos de islas en el pacífico oeste, pueden ser producidas por una subducción al sur del Jap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eaeaea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ariana Arc pudo penetrar al manto inferi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ffffff"/>
                </a:solidFill>
                <a:latin typeface="Times New Roman"/>
              </a:rPr>
              <a:t>Naturaleza del manto infer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4114800" y="1295280"/>
            <a:ext cx="5029200" cy="26434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228600" y="160020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Generalmente se conoce la convección del manto superior, pero el manto inferior participa mucho más de lo que se creía, la interacción corteza-manto superior-manto inferior es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4114800"/>
            <a:ext cx="822960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ubducción de la corteza, una parte se funde y somatiza con el manto superior, y otra pasa a formar parte del manto inferior, incluso en casos excepcionales puede llegar al núcleo externo, formando superpluma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la convección y plumas, hot-spot, el manto superior provee de material para formación de litósfer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interacción entre manto superior e inferior, más las superplumas , cambian la composición del manto inferior y cortez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clusion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7200" y="1066680"/>
            <a:ext cx="8686800" cy="56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00"/>
                </a:solidFill>
                <a:latin typeface="Times New Roman"/>
              </a:rPr>
              <a:t>Nota: son mis respuestas personales, no directamente del au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Volviendo a las preguntas hechas inicialmente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porque la astenósfera cambia su composición debido a metasomatismo en el manto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es un cambio de fase composic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Sí,  porque la subducción de corteza oceánica afecta el manto subcontinent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a diferenciación en el tiempo del manto, cuando los minerales son estables, no hay más cambios composicionales, sin discontinuidade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380880" y="304920"/>
            <a:ext cx="8458200" cy="55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hay varias zonas, pero estas corresponden a cambios químicos debidos a presion y temperatura característicos para los elemen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aún no hay certeza, pero si se cree que el manto inferior participa en parte en este proces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´R: Sí, cuando la subducción es tipo Mariana(alto ángulo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Plumas: fusión y ascenso de material en la discontinuidad de 650 Km. ; Superplumas: ascenso de material desde el límite nícleo-mant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Times New Roman"/>
              </a:rPr>
              <a:t>R: corresponde más a distinta viscosidad que distinta composició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057400" y="3581280"/>
            <a:ext cx="2666880" cy="26672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981080" y="3581280"/>
            <a:ext cx="1800" cy="1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4724280" y="358128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4724280" y="144360"/>
            <a:ext cx="4419720" cy="4122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28600" y="0"/>
            <a:ext cx="4343400" cy="75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eaeaea"/>
                </a:solidFill>
                <a:latin typeface="Times New Roman"/>
              </a:rPr>
              <a:t>Las preguntas que deben hacerse son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Litósfera tiene distinta composición que la Astenósfera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Moh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El manto subcontinental es distinto al manto oceánico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l manto en profund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pasa en la zona de transi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La convección se realiza en todo el manto o hay 2 capas de convección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Penetra la subducción en el manto inferior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Qué son las plumas, superplumas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¿Cuál es la naturaleza de la zona de baja velocidad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4267080"/>
            <a:ext cx="43434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aeaea"/>
                </a:solidFill>
                <a:latin typeface="Times New Roman"/>
              </a:rPr>
              <a:t>Hay que notar que la corteza está exagerada, el modelo podría suponer que la subducción llega al núcleo, al fundirse formar las superplumas</a:t>
            </a:r>
            <a:r>
              <a:rPr b="0" lang="es-ES" sz="16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4724280" y="4943520"/>
            <a:ext cx="44197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113_45" descr=""/>
          <p:cNvPicPr/>
          <p:nvPr/>
        </p:nvPicPr>
        <p:blipFill>
          <a:blip r:embed="rId1"/>
          <a:stretch/>
        </p:blipFill>
        <p:spPr>
          <a:xfrm>
            <a:off x="1405080" y="2225520"/>
            <a:ext cx="6333840" cy="46324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050840" y="270000"/>
            <a:ext cx="7559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28880" y="1295280"/>
            <a:ext cx="70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eaeaea"/>
                </a:solidFill>
                <a:latin typeface="Times New Roman"/>
              </a:rPr>
              <a:t>Discontinuidades dadas por las velocidades de      ondas P y ondas 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45720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eaeaea"/>
                </a:solidFill>
                <a:latin typeface="Times New Roman"/>
              </a:rPr>
              <a:t>Estructura interna de la Tierra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113_46" descr=""/>
          <p:cNvPicPr/>
          <p:nvPr/>
        </p:nvPicPr>
        <p:blipFill>
          <a:blip r:embed="rId1"/>
          <a:stretch/>
        </p:blipFill>
        <p:spPr>
          <a:xfrm>
            <a:off x="2076480" y="571680"/>
            <a:ext cx="49910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76212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456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Corteza Continent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Conocemos algo de la corteza superior(podemos acceder a ella físicamente), pero existe una incertesa de la corteza inferi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¿es real la discontinuidad que las separa?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Discontinuidad: 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a corteza inferior es más máfica, pero ¿cual es la causa?. Se postulan dos ide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“Underplating”, intrusión de magmas máfic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 Extracción del silice en la parte inferior de la cortez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Existen numerosos lugares en donde la actividad tectónica nos ha permitido examinar la corteza inferior, como por ejemplo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Precámbrica: Kapuskasing y Pikwitonei en Canadá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-Corteza  del Fanerozoico: Calabria en Italia e Ivrea en Los Alp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Lo cual ha arrojado los siguientes resultado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1906560" cy="1906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4572000" y="289080"/>
            <a:ext cx="4343400" cy="3139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4572000" y="3489480"/>
            <a:ext cx="4343400" cy="33685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380880"/>
            <a:ext cx="426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609480"/>
            <a:ext cx="403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on estudios de campo y geofísicos, se presentan niveles en la corteza en la zona de Kapuskasing (Canadá), en Lewisian se presentan resultados similares, ascenso de la corteza inferior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962520"/>
            <a:ext cx="4572000" cy="23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 muestran rocas de baja velocidad P y otras de alta velocidad P, las últimas son producidas a mayor profundidad de la que las encontramos, por condiciones de presion-temperatura, la pregunta es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¿Qué causa que las rocas de alta velocidad P sean exhumadas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28600" y="304920"/>
            <a:ext cx="8229600" cy="69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eaeaea"/>
                </a:solidFill>
                <a:uFillTx/>
                <a:latin typeface="Times New Roman"/>
              </a:rPr>
              <a:t>2.- El Moho y corteza inferi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Velocidad de onda P (Km/s) en el manto bajo el moho:7.9-8.2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La composición del manto bajo el moho es principalmente: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s son acarreados por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25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Times New Roman"/>
              </a:rPr>
              <a:t>Respuesta a las pregunta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Existe la discontinuidad y esta se debe a 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granulite-facies son equilibradas a los 25-30 Km, composición medi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brechas volcánicas(gabro) son más máficas ,lo que da las irregularidad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</a:rPr>
              <a:t>-En la corteza inferior, los reflectores se deben más a la viscosidad que a la composición.Una corteza antigua, pero estos patrones son destruidos por procesos tectónico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457200" indent="-4572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7010280" cy="4539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895480" y="3429000"/>
            <a:ext cx="4195800" cy="2779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895480" y="3733920"/>
            <a:ext cx="4267440" cy="30456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238880" y="3200400"/>
            <a:ext cx="1905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Ultra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máf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El Moh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723960"/>
            <a:ext cx="380988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eaeaea"/>
                </a:solidFill>
                <a:latin typeface="Times New Roman"/>
              </a:rPr>
              <a:t>Transición de fas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cambio en mineralogía pero no en composición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Serpentine 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peridotita hidrat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modelo aún discutido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Basalto o gabro + altas presiones       eclogit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     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Esto puede explicar algunas cosas, pero estudios de Green and Ringwood concluyeron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Transformación de ambos fue gradual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-Las transformaciones de fase ocurren a presiones sobre los 10 Kb(25Km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ff0000"/>
                </a:solidFill>
                <a:latin typeface="Times New Roman"/>
              </a:rPr>
              <a:t>No puede ser una transformación de fase sino que una transformación quím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3657600" cy="37735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6019920" y="99072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848720" y="1981080"/>
            <a:ext cx="30456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4800600" y="2209680"/>
            <a:ext cx="3819600" cy="1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1T17:40:39Z</dcterms:created>
  <dc:creator>pammunoz</dc:creator>
  <dc:description/>
  <dc:language>en-US</dc:language>
  <cp:lastModifiedBy>pammunoz</cp:lastModifiedBy>
  <dcterms:modified xsi:type="dcterms:W3CDTF">2002-01-07T12:10:00Z</dcterms:modified>
  <cp:revision>12</cp:revision>
  <dc:subject/>
  <dc:title>Petrología Del Manto En Relación a Las Placas tectonicas</dc:title>
</cp:coreProperties>
</file>