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11.png" ContentType="image/png"/>
  <Override PartName="/ppt/media/image6.wmf" ContentType="image/x-wmf"/>
  <Override PartName="/ppt/media/image30.png" ContentType="image/png"/>
  <Override PartName="/ppt/media/image3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CBB5-6C15-4139-95B1-778B105B00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guntar por los gráf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363-374D-4E80-9AAA-4859B5F9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EBF-9FEB-49D8-9714-59DB2E98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083-5646-4A78-B650-D6DCC37E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8550-4531-455D-963C-0FA8E62E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5C8D-1212-4FF9-8265-48421F95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558E-2D77-4B40-B89A-7046FC78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F5E7-749C-43FA-B879-6C7E7758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9442-4819-4CED-A33A-6C05D189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DD2D-E087-42E0-B1C4-3364A71D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B926-44F4-48B7-A148-634F071D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066F-51C0-41A9-B755-C2337942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D15-9699-4C79-85AA-2437F267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F96F-C700-41AF-9935-239A586C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A273-5817-46BB-B4F4-2C6D76E5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E5C9-2554-4A9B-8A3E-17DCAF91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7252-888B-471F-92B8-B5736EF5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B51C-2F2C-4DBB-AFFF-0BB6C657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BEA-5B79-4CDC-BC31-A00D5A7A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74D-8AD5-4FE0-8492-94B07D2A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F8E-6E4F-4626-8397-C07140BA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17C-F14B-495F-929A-9FEE337E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B73-8652-49D9-ABE6-5AA1D319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71D-7F55-4B1D-B56B-D5BFFEBE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BD64-3982-44DE-BCEF-3658992F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9490-EB41-4907-ABA3-F6B25426B7FC}" type="slidenum"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B0D9-E426-4CE6-A38B-71433D0F5170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etrología Del Manto En Relación a Las Placas tectonic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Presentado por: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Pamela M. Linf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(autor sin referenci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406520" y="4876920"/>
            <a:ext cx="63295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248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Transición Quím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-cambio en composi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Times New Roman"/>
              </a:rPr>
              <a:t>Oceánica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conocido por drenaje en las zonas de fracturas, peridotitas recubiertas por gabro y basalt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Times New Roman"/>
              </a:rPr>
              <a:t>Continental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para saberlo con certeza se debe conocer la corteza inferio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191120" cy="3227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191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- Composición del manto supe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05120"/>
            <a:ext cx="8915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Nuestro conocimiento petrologico proviene d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Nodulos arrojados por volca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Secciones de manto fundido en ophioli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Manto emergido en altas montañas como los Alpes(Ivre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Modelos de composiciones basáltica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Mineralogía del manto superior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066680"/>
            <a:ext cx="41911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Variacíon mineralogica con la presion y temperatura puede ser medida experimentalm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El problema es saber la composición, ya que los registros no son de manto primario, sino de fusión parci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El gráfico representa las condiciones de presion-temperatura en las cuales pueden existir o coexistir los distintos miner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00600" y="4800600"/>
            <a:ext cx="4343400" cy="2057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Métodos para investigar la mineralogía del manto en profund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685800"/>
            <a:ext cx="876312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Investigación directa es imposibl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Aún los equipos más modernos no son capaces de reproducir presiones(130-340 Kb) y temperaturas(1500-3000 C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Solución, métodos indirectos de investigació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a)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Comparar silicatos con germanatos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, esto se puede hacer debido a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Tienen radios similares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Tienen estructuras similares, pero la transformación de los germanatos ocurre a presiones  mucho meno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Misma agrupación con otros elementos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3200400" cy="411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838080" y="4572000"/>
            <a:ext cx="4591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32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b) Midiendo Radius Ratio (Rcation/Ran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Las nuevas fases se originan cuando este valor excede valores límit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sto tiene relación con la polarizibilidad de los átomos involucrados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c) Discontinuidades o fases con registro de velocidad de ondas p y 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876920" cy="1066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2990880" cy="3657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429000" y="2743200"/>
            <a:ext cx="548640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eaeaea"/>
                </a:solidFill>
                <a:uFillTx/>
                <a:latin typeface="Times New Roman"/>
              </a:rPr>
              <a:t>Zona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Baja velocidad: 200-250 Km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Menor discontinuidad: 350 Km , piroxeno aumenta 10% su densida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Mayor discontinuidad: 400 Km , olivino aumneta en 8% su densida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Mayor discontinuidad: 650 Km, hay varias transformaciones: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5.-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Sin discontinuidad: 900-2700 K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- no existen más transformacione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- se supone medio homogene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591000" y="4952880"/>
            <a:ext cx="55530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Mineralogía y cambio de fase en el m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735440" y="1309680"/>
            <a:ext cx="4408560" cy="5548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0880" y="1371600"/>
            <a:ext cx="42674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Con este análisis, surgen preguntas y resultados interesant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Si la subducción no penetra la capa de 700 Km, ¿dónde se queda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¿Hay dos zonas de convección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¿coinciden todas las discontinuidades con cambios químico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¿existe algún cambio químico despues de los 700 Km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Modelo de Ringwood</a:t>
            </a:r>
            <a:br>
              <a:rPr sz="4400"/>
            </a:b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¿la subducción llega después de los 700 Km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3070080" cy="5486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04920" y="990720"/>
            <a:ext cx="5257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Hay evidencias sísmicas hasta los 650 K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Ahora se puede calcular la composición media del manto con la profundidad( representada en la figura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Además se puede calcular la densidad de la subducción con la profundidad y la temperatura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4496040" cy="2044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09480" y="4857840"/>
            <a:ext cx="4496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0880" y="304920"/>
            <a:ext cx="388620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Ringwood propone que la subducción se queda en la discontinuidad de 650 Km. Por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Slab es más densa por ser más fría lo que hace que caiga, pero con el tiempo, se hace más liviana al calentarse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Por lo tanto en principio, se hunde, pero parte pasa a formar el manto y otra se queda en la discontinuidad, hasta los 100 Km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Al fundirse, ya ayudado por la convección, es una forma en que se forman las plumas y hot-spots, deben formarse en una discontinuidad, ya sea la de los 650 Km o núcleo-mant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3209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0" y="3352680"/>
            <a:ext cx="4572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Este material puede evidenciarse en la diferencia en composición del manto superior oceánico y continent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Este material no penetra directamente la litósfera sino que se funde y metasomatiza químicamente , lo que genera diferencias en la composición de ella.Este fenómeno se muestra a continuación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973760" y="0"/>
            <a:ext cx="4170240" cy="3505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4572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48006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952880" y="3627360"/>
            <a:ext cx="41911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Aún hay muchas preguntas sin respuesta sobre la composición de la Tierra, ya que todas son teorías y no podemos acceder físicamente a ella, excepto en casos aislados. Nuestro interés es el Manto, su mineralogía y funcionamiento,  su  influencia en la corteza y aspectos en las placas tectónic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Modelo de la diferenciación del m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800600" cy="3657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04920" y="1371600"/>
            <a:ext cx="38862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l manto sufre procesos de diferenciación en el tiempo, mientras que la corteza es permanente y no reciclada por el manto( salvo subducció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Pirolita se funde para formar corteza oceánic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n subducción la corteza oceánica se deshidrata, se funde y provee al manto magmas andesític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Magmas andesíticos se fraccionan produciendo magmas más siliceos, los cuales son de baja densidad e indestructib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4800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Convección del m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5257800" cy="44956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8600" y="1295280"/>
            <a:ext cx="3505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Existe discusión si la convección se realiza solamente en el manto superior o si existe participación del manto inferior en este proces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¿Slab penetra en el manto inferio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3352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28600" y="1143000"/>
            <a:ext cx="342900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Los análisis de corteza oceánica en subducción demuestran que existen ambos fenómen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Arcos de islas en el pacífico oeste, pueden ser producidas por una subducción al sur del Jap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Mariana Arc pudo penetrar al manto inferi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Naturaleza del manto inf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5029200" cy="2643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28600" y="160020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Generalmente se conoce la convección del manto superior, pero el manto inferior participa mucho más de lo que se creía, la interacción corteza-manto superior-manto inferior es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4114800"/>
            <a:ext cx="82296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Subducción de la corteza, una parte se funde y somatiza con el manto superior, y otra pasa a formar parte del manto inferior, incluso en casos excepcionales puede llegar al núcleo externo, formando superplum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Con la convección y plumas, hot-spot, el manto superior provee de material para formación de litósfer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La interacción entre manto superior e inferior, más las superplumas , cambian la composición del manto inferior y cortez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onclus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066680"/>
            <a:ext cx="868680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Times New Roman"/>
              </a:rPr>
              <a:t>Nota: son mis respuestas personales, no directamente del au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Times New Roman"/>
              </a:rPr>
              <a:t>Volviendo a las preguntas hechas inicialment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La Litósfera tiene distinta composición que la Astenósfera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sí, porque la astenósfera cambia su composición debido a metasomatismo en el mant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 Moho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es un cambio de fase composic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El manto subcontinental es distinto al manto oceánico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Sí,  porque la subducción de corteza oceánica afecta el manto subcontinent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l manto en profundidad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Corresponde a diferenciación en el tiempo del manto, cuando los minerales son estables, no hay más cambios composicionales, sin discontinuidade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0880" y="304920"/>
            <a:ext cx="8458200" cy="55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Qué pasa en la zona de transición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hay varias zonas, pero estas corresponden a cambios químicos debidos a presion y temperatura característicos para los elemen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La convección se realiza en todo el manto o hay 2 capas de convección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aún no hay certeza, pero si se cree que el manto inferior participa en parte en este proces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Penetra la subducción en el manto inferior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´R: Sí, cuando la subducción es tipo Mariana(alto ángul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Qué son las plumas, superpluma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Plumas: fusión y ascenso de material en la discontinuidad de 650 Km. ; Superplumas: ascenso de material desde el límite nícleo-mant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 la zona de baja velocidad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corresponde más a distinta viscosidad que distinta composició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057400" y="35812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981080" y="358128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724280" y="35812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4724280" y="144360"/>
            <a:ext cx="4419720" cy="4122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8600" y="0"/>
            <a:ext cx="4343400" cy="75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Las preguntas que deben hacerse son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La Litósfera tiene distinta composición que la Astenósfera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 Moho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El manto subcontinental es distinto al manto oceánico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l manto en profundidad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Qué pasa en la zona de transición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La convección se realiza en todo el manto o hay 2 capas de convección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Penetra la subducción en el manto inferior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Qué son las plumas, superpluma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 la zona de baja velocidad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267080"/>
            <a:ext cx="4343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Hay que notar que la corteza está exagerada, el modelo podría suponer que la subducción llega al núcleo, al fundirse formar las superplumas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4724280" y="4943520"/>
            <a:ext cx="44197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113_45" descr=""/>
          <p:cNvPicPr/>
          <p:nvPr/>
        </p:nvPicPr>
        <p:blipFill>
          <a:blip r:embed="rId1"/>
          <a:stretch/>
        </p:blipFill>
        <p:spPr>
          <a:xfrm>
            <a:off x="1405080" y="2225520"/>
            <a:ext cx="6333840" cy="463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50840" y="27000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28880" y="1295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Times New Roman"/>
              </a:rPr>
              <a:t>Discontinuidades dadas por las velocidades de      ondas P y ondas 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4572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imes New Roman"/>
              </a:rPr>
              <a:t>Estructura interna de la Tierra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113_46" descr=""/>
          <p:cNvPicPr/>
          <p:nvPr/>
        </p:nvPicPr>
        <p:blipFill>
          <a:blip r:embed="rId1"/>
          <a:stretch/>
        </p:blipFill>
        <p:spPr>
          <a:xfrm>
            <a:off x="2076480" y="571680"/>
            <a:ext cx="4991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7621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orteza Continent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Conocemos algo de la corteza superior(podemos acceder a ella físicamente), pero existe una incertesa de la corteza inferi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¿es real la discontinuidad que las separa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Discontinuidad: 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la corteza inferior es más máfica, pero ¿cual es la causa?. Se postulan dos ideas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- “Underplating”, intrusión de magmas máfic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- Extracción del silice en la parte inferior de la cortez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Existen numerosos lugares en donde la actividad tectónica nos ha permitido examinar la corteza inferior, como por ejemplo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-Corteza Precámbrica: Kapuskasing y Pikwitonei en Canadá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-Corteza  del Fanerozoico: Calabria en Italia e Ivrea en Los Alp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Lo cual ha arrojado los siguientes resultados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0" y="289080"/>
            <a:ext cx="4343400" cy="3139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572000" y="3489480"/>
            <a:ext cx="4343400" cy="3368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380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609480"/>
            <a:ext cx="40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Con estudios de campo y geofísicos, se presentan niveles en la corteza en la zona de Kapuskasing (Canadá), en Lewisian se presentan resultados similares, ascenso de la corteza inferio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962520"/>
            <a:ext cx="457200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Se muestran rocas de baja velocidad P y otras de alta velocidad P, las últimas son producidas a mayor profundidad de la que las encontramos, por condiciones de presion-temperatura, la pregunta es: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¿Qué causa que las rocas de alta velocidad P sean exhumada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304920"/>
            <a:ext cx="8229600" cy="69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eaeaea"/>
                </a:solidFill>
                <a:uFillTx/>
                <a:latin typeface="Times New Roman"/>
              </a:rPr>
              <a:t>2.- El Moho y corteza infer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Velocidad de onda P (Km/s) en el manto bajo el moho:7.9-8.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La composición del manto bajo el moho es principalmente: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stos son acarreados por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Respuesta a las preguntas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Existe la discontinuidad y esta se debe a 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-granulite-facies son equilibradas a los 25-30 Km, composición me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-brechas volcánicas(gabro) son más máficas ,lo que da las irregularidad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-En la corteza inferior, los reflectores se deben más a la viscosidad que a la composición.Una corteza antigua, pero estos patrones son destruidos por procesos tectónic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7010280" cy="453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895480" y="3429000"/>
            <a:ext cx="4195800" cy="277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895480" y="3733920"/>
            <a:ext cx="4267440" cy="304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238880" y="320040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Ultramáf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máf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l Mo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723960"/>
            <a:ext cx="38098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Times New Roman"/>
              </a:rPr>
              <a:t>Transición de f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cambio en mineralogía pero no en composi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Serpentine 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 peridotita hidrat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(modelo aún discutido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Basalto o gabro + altas presiones       eclogit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     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sto puede explicar algunas cosas, pero estudios de Green and Ringwood concluyero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-Transformación de ambos fue gradu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-Las transformaciones de fase ocurren a presiones sobre los 10 Kb(25Km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No puede ser una transformación de fase sino que una transformación quím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3657600" cy="3773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19920" y="99072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48720" y="198108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381960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7:40:39Z</dcterms:created>
  <dc:creator>pammunoz</dc:creator>
  <dc:description/>
  <dc:language>en-US</dc:language>
  <cp:lastModifiedBy>pammunoz</cp:lastModifiedBy>
  <dcterms:modified xsi:type="dcterms:W3CDTF">2002-01-07T12:10:00Z</dcterms:modified>
  <cp:revision>12</cp:revision>
  <dc:subject/>
  <dc:title>Petrología Del Manto En Relación a Las Placas tectonicas</dc:title>
</cp:coreProperties>
</file>