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0E4-6BA4-4D6B-B19B-9CEF6036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165-6A31-44BA-89F1-90626F1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997-615D-4BED-BB8B-20A93F96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38E-AC20-4C02-96D1-E2A36AD9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A85C-990E-4D20-819A-1971B9393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D29B-509F-4676-973E-44CE98B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0372-734D-4D3C-AF2E-865BDE0F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F835-7A48-4605-9089-4C33F49D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30C0-7280-4C42-9C7A-1BFBAF66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0E48-2980-408B-BB1C-866CB124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82BE-F348-4529-BA33-821CB5B0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37C-E936-45D7-8203-1170D2FD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8C41-CD24-4BC7-8EF6-DE4FDA9A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1D25-E2A3-452A-B71A-24E216A6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BFD4-A255-4820-8206-49C59E18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D11E-3D0D-444D-8246-85E2DE59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59A7-5534-4C11-A0B4-396B0072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EBB-BFDC-4E0A-A50B-70AA3C80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0A5-E25B-4CD1-AAC2-491E80AE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116-EDDB-4CE9-A2E1-F3C39E21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FEB-D307-4AE5-80BD-6EC872A6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563E-20CC-427E-9501-C5D8D06E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910-FFE1-43BF-AE0B-A9DA713B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F79-707A-4F90-B480-D617B721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2C80-E4FC-4E13-BBC4-DEA3C339F9D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55AA-E3CE-401C-9BB4-05B997109DE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ffff99"/>
                </a:solidFill>
                <a:latin typeface="Arial"/>
              </a:rPr>
              <a:t>The Liquiñe Ofqui fault zone: a long-lived intra-arc fault system in southern Chile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José Cembrano, Francisco Hervé, Alain Lave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558000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nia Villaseñor J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minios estructurales discretos donde fallas frágiles (subverticales con estrias horizontales) se sobreponen a granitos del Mio-Pli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s set: NNE (indicadores dextrales) y N60ºE (indicadores sinest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160880" cy="4392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17236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60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036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300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Fallamiento frágil dextral de las rocas graniticas del Mio-Plioc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21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pósitos de cuenca y diques cenozoicos con rumbo NE y localización de volcanes recientes coinciden con la rama derecha del duplex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este marco es resultado de extensión NNW oblicuo a la zona de cizalle (NNE), entonces el strike-slip duplex es extensional al menos para el Cenozoico temprano (formación de la cuenca) y Cenozoico tardío (volcanism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del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FZ se inició en el Mesozoico a lo largo del arco magmático (Pankhurst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t 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1992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lonitas preoligocenicas de la parte norte de LOFZ evidencian movimiento sinest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oceno-Mioceno (48-26 Ma) la subducción fue casi recta y de alta v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OFZ fue reactivada como una zona de falla strike-slip dextral (régimen transtensional en el arco magmát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arrollo de cuencas a lo largo de dominios extensionales en la misma épo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oceno (26 Ma) reorganización de placas cierra las cuencas por complejos plutónic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 Ma., subducción recta-oblicua de placa oceánica jóven (acoplamient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transpresión dextral en el arco magmát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incidencia de LOFZ con cinturón Batolito norpatagónico (Mioceno), volcanismo cuaternario y cuencas del Cenozoico tempra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formación de strike-slip dextral durante Mioceno-Plioceno acompañado de emplazamiento de plutones sintectónic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atrones de rotación de bloques consistente con la geometria de LOFZ e indicadores cinemátic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ectonismo reciente en LOFZ es caracterizado por deformación dextral de strike-slip durante Plioceno y/o post-Plioceno y altas tasas de alzamiento durante el Hol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Zona de falla Liquiñe Ofqui: 1000 km de largo (39-48ºL.S) y set de lineamientos de intra-arc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strucciones cinemáticas a partir de los 49 Ma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subducción casi paralel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de 26 Ma, subducción ortogonal luego del rompimiento de Farall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videncia de tectonismo transtensional y transpresional documentadas en LOFZ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62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iscutir la geometría, geología, paleomagnetismo y cinemática de la zona de falla Liquiñe Ofqui (LOFZ) integrando toda la información disponib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poner un modelo tectónico a partir de las evidencias disponib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metr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0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res tipos de linea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os lineamientos rectos con tendencia N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tro lineamientos en échelon rectos con tendencia 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res lineamientos curvos con tendencia NNW concavos hacia el S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trike-slip duple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246560" y="1268280"/>
            <a:ext cx="489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eterogeneidad en naturaleza e intensidad de la deformación de las roc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edominan rocas plutónicas desde tonalitas a granodiorit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s metamorficas y volcano- sedimentarias en menor propor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Intrusivos son parte del Batolito Norpatagónico (NPB): cinturón de plutones de edad meso-cenozoica entre los 39 y 47º L.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PB de fabrica isotrópica con zonas de alto strain a lo largo de LOFZ: roca deformada dentro de roca sin deform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 de basamento con deformación: foliación con rumbo NNW y lineaciones de mxx subhorizontales en plutones del Neog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Formación Traiguén (Cenozoico) muy deformadas a lo largo del lineamiento recto sur de LOF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64120" cy="6453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132000" y="4292640"/>
            <a:ext cx="302436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2000" y="4221000"/>
            <a:ext cx="3095640" cy="144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3640" y="4005000"/>
            <a:ext cx="410508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203640" y="2997000"/>
            <a:ext cx="1728720" cy="115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trus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92360" y="907920"/>
            <a:ext cx="302436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63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xx volcánicas del Holoc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458136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93080" y="184464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77080" y="314172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5229360"/>
            <a:ext cx="504720" cy="57600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229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dicadores cine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ones de rotación de bloqu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ón en sentido antihorario al oeste de LOFZ y rotación en sentido horario dentro y al este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906800" y="1413000"/>
            <a:ext cx="4237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475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antihorar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laca subducta en forma oblicua pero su movimiento es impedi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cortamien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on antihoraria hacia el norte de bloques. Ensanchamiento de la pla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687840" cy="3046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4000" y="4797360"/>
            <a:ext cx="475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horaria: debido a subducción dex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ervé (1976). Foliación subvertical con tendencia NNE y un set conjugado de fallas de tendencia NNE dextral y otro ENE sinestral en milonita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movimiento dextral en la zona (Oligoceno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lutones del Plioceno intruyen roca metamorfica del Paleozoico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lacion entre esquistocidad NNW y bandas de corte N-S indican movimiento dextr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2:57:33Z</dcterms:created>
  <dc:creator>Tania</dc:creator>
  <dc:description/>
  <dc:language>en-US</dc:language>
  <cp:lastModifiedBy>Mario Pardo</cp:lastModifiedBy>
  <dcterms:modified xsi:type="dcterms:W3CDTF">2004-09-30T20:44:02Z</dcterms:modified>
  <cp:revision>18</cp:revision>
  <dc:subject/>
  <dc:title>The Liquiñe Ofqui fault zone: a long-lived intra-arc fault system in souther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