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A3A-16D2-4940-8C9F-6B10A2CA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8CB-0DF0-4059-BB10-04CD3993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72C-507C-4FDD-8C47-3F979316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F41-1E5B-4768-9B5F-4E414EDE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4EE4-1A83-458D-8D82-98C6C71F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7AD-9454-410D-AA64-C9020DEB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1C7F-504C-4B68-A25E-912F01A0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3D8C-24F1-4638-B346-3FC1FAEC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B351-9DE7-4182-8FF2-8B1F7076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76BD-7CCD-472C-9A61-6385DB4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A43A-B1B3-4BD1-B13F-0A9D039E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1BA-FDEE-48A2-928B-6DC2FB3F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C2A3-61FD-465C-8AF9-0B41857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EFFA-17A3-4234-8B8C-8B48A330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7217-37FF-4965-B3AF-BDD4F368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BBF-6E82-4414-8912-EF51CF94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FCD8-F5D0-40EE-B209-E0F7C8A9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F64-D45A-4459-BF1D-3CDC8A1F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76B-C46D-41BF-87FA-D645F90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459-CB39-4FCA-9E73-CB11FF03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E0A-E1B3-4D58-BDB2-F74B2AB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48F-5A0D-4BDC-A6A4-365A4A7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8AF-021F-43A7-8422-ED4D5BD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BFC-40D7-4753-BDA5-95EF194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960C-9D99-4172-A81F-B85DF4DE370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9FC6-834A-4F8A-9F49-4F1F284F223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ffff99"/>
                </a:solidFill>
                <a:latin typeface="Arial"/>
              </a:rPr>
              <a:t>The Liquiñe Ofqui fault zone: a long-lived intra-arc fault system in southern Chil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José Cembrano, Francisco Hervé, Alain Lave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nia Villaseñor J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minios estructurales discretos donde fallas frágiles (subverticales con estrias horizontales) se sobreponen a granitos del Mio-Pli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s set: NNE (indicadores dextrales) y N60ºE (indicadores sinest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160880" cy="4392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17236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60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036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300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Fallamiento frágil dextral de las rocas graniticas del Mio-Plioc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21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pósitos de cuenca y diques cenozoicos con rumbo NE y localización de volcanes recientes coinciden con la rama derecha del duplex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este marco es resultado de extensión NNW oblicuo a la zona de cizalle (NNE), entonces el strike-slip duplex es extensional al menos para el Cenozoico temprano (formación de la cuenca) y Cenozoico tardío (volcanism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del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FZ se inició en el Mesozoico a lo largo del arco magmático (Pankhurst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t 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1992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lonitas preoligocenicas de la parte norte de LOFZ evidencian movimiento sinest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oceno-Mioceno (48-26 Ma) la subducción fue casi recta y de alta v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OFZ fue reactivada como una zona de falla strike-slip dextral (régimen transtensional en el arco magmát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arrollo de cuencas a lo largo de dominios extensionales en la misma épo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oceno (26 Ma) reorganización de placas cierra las cuencas por complejos plutónic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 Ma., subducción recta-oblicua de placa oceánica jóven (acoplamient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transpresión dextral en el arco magmát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incidencia de LOFZ con cinturón Batolito norpatagónico (Mioceno), volcanismo cuaternario y cuencas del Cenozoico tempra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formación de strike-slip dextral durante Mioceno-Plioceno acompañado de emplazamiento de plutones sintectónic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trones de rotación de bloques consistente con la geometria de LOFZ e indicadores cinemátic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ctonismo reciente en LOFZ es caracterizado por deformación dextral de strike-slip durante Plioceno y/o post-Plioceno y altas tasas de alzamiento durante el Hol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Zona de falla Liquiñe Ofqui: 1000 km de largo (39-48ºL.S) y set de lineamientos de intra-arc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strucciones cinemáticas a partir de los 49 Ma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subducción casi paralel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de 26 Ma, subducción ortogonal luego del rompimiento de Farall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videncia de tectonismo transtensional y transpresional documentadas en LOFZ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62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iscutir la geometría, geología, paleomagnetismo y cinemática de la zona de falla Liquiñe Ofqui (LOFZ) integrando toda la información disponib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poner un modelo tectónico a partir de las evidencias disponib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metr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0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res tipos de linea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os lineamientos rectos con tendencia N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tro lineamientos en échelon rectos con tendencia 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res lineamientos curvos con tendencia NNW concavos hacia el S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trike-slip duple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246560" y="1268280"/>
            <a:ext cx="489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eterogeneidad en naturaleza e intensidad de la deformación de las roc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edominan rocas plutónicas desde tonalitas a granodiorit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s metamorficas y volcano- sedimentarias en menor propor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ntrusivos son parte del Batolito Norpatagónico (NPB): cinturón de plutones de edad meso-cenozoica entre los 39 y 47º L.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PB de fabrica isotrópica con zonas de alto strain a lo largo de LOFZ: roca deformada dentro de roca sin deform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 de basamento con deformación: foliación con rumbo NNW y lineaciones de mxx subhorizontales en plutones del Neog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Formación Traiguén (Cenozoico) muy deformadas a lo largo del lineamiento recto sur de LOF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64120" cy="6453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132000" y="4292640"/>
            <a:ext cx="302436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2000" y="4221000"/>
            <a:ext cx="3095640" cy="144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3640" y="4005000"/>
            <a:ext cx="410508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203640" y="2997000"/>
            <a:ext cx="1728720" cy="115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trus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92360" y="907920"/>
            <a:ext cx="302436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63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xx volcánicas del Holoc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458136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93080" y="184464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77080" y="314172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5229360"/>
            <a:ext cx="504720" cy="576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22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dicadores cine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ones de rotación de bloqu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ón en sentido antihorario al oeste de LOFZ y rotación en sentido horario dentro y al este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06800" y="1413000"/>
            <a:ext cx="423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475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antihorar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laca subducta en forma oblicua pero su movimiento es impedi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cortamien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on antihoraria hacia el norte de bloques. Ensanchamiento de la pla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87840" cy="3046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4000" y="4797360"/>
            <a:ext cx="475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horaria: debido a subducción dex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vé (1976). Foliación subvertical con tendencia NNE y un set conjugado de fallas de tendencia NNE dextral y otro ENE sinestral en milonita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movimiento dextral en la zona (Oligoceno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lutones del Plioceno intruyen roca metamorfica del Paleozoico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lacion entre esquistocidad NNW y bandas de corte N-S indican movimiento dextr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2:57:33Z</dcterms:created>
  <dc:creator>Tania</dc:creator>
  <dc:description/>
  <dc:language>en-US</dc:language>
  <cp:lastModifiedBy>Mario Pardo</cp:lastModifiedBy>
  <dcterms:modified xsi:type="dcterms:W3CDTF">2004-09-30T20:44:02Z</dcterms:modified>
  <cp:revision>18</cp:revision>
  <dc:subject/>
  <dc:title>The Liquiñe Ofqui fault zone: a long-lived intra-arc fault system in souther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