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B20-86E7-4986-802A-4969C9AD0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8E1C-B05C-4EFA-8CCE-84A686696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D5ED-758C-4602-9CFB-980E8FDF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186F-2A1F-449D-883C-6213484FC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FD3F5-D2C1-405A-B108-5EBC2EF2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00611-E34E-455F-9BE3-D5E422F2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AD19-EC61-4EF1-9066-0C59A5CC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182E-7E7D-4E2D-955B-DE69CA9CE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52BC2-69C2-4D72-8ED8-D7A3A4C0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A473-311C-4511-9D7D-F8D0006B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DC86-F36D-44DC-AB2B-C0597E023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87A3-33EB-430E-872C-0F215C4FF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9CD64-E1B9-4F74-914E-2D2E4584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381E0-DA54-4E78-82EC-5C5D906D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48E3-DDBA-49C7-9A80-0BE82452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9EBC-ABB0-4914-9877-5E21AB826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B8CD-C0E2-43B1-92F3-F01D46C9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4E19-0546-4101-8896-5C6CCFE2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ACD-C726-41AE-88F7-1B0F6EF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B84-98BB-4B9C-9FCA-C7B65C463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EF8C-BFF4-465C-BD62-2A2D6A18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08D-0CC1-427C-9233-8F747272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0529-EEF9-4AB5-803F-701EFE2E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B87-BED7-44CA-8655-EC8AAF40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E6FE0-6080-462C-9EC0-31374BD5326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a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a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a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a0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a0000"/>
                        </a:solidFill>
                        <a:ln w="9360">
                          <a:solidFill>
                            <a:srgbClr val="6a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a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a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a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a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a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a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a0000"/>
                    </a:gs>
                    <a:gs pos="100000">
                      <a:srgbClr val="80262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E28CC-AB3D-49F8-BB6F-3543FEFFCB90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6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9900"/>
              </a:buClr>
              <a:buSzPct val="6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700" spc="-1" strike="noStrike">
                <a:solidFill>
                  <a:srgbClr val="ffff99"/>
                </a:solidFill>
                <a:latin typeface="Arial"/>
              </a:rPr>
              <a:t>The Liquiñe Ofqui fault zone: a long-lived intra-arc fault system in southern Chile</a:t>
            </a:r>
            <a:endParaRPr b="0" lang="en-US" sz="47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332000" y="4220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Verdana"/>
              </a:rPr>
              <a:t>José Cembrano, Francisco Hervé, Alain Laven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5580000" y="58053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ania Villaseñor J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minios estructurales discretos donde fallas frágiles (subverticales con estrias horizontales) se sobreponen a granitos del Mio-Pli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os set: NNE (indicadores dextrales) y N60ºE (indicadores sinestrale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160880" cy="43923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817236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60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80360" y="1557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a0000"/>
                </a:solidFill>
                <a:latin typeface="Verdana"/>
              </a:rPr>
              <a:t>N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0" y="530064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Verdana"/>
              </a:rPr>
              <a:t>Fallamiento frágil dextral de las rocas graniticas del Mio-Plioce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210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pósitos de cuenca y diques cenozoicos con rumbo NE y localización de volcanes recientes coinciden con la rama derecha del duplex </a:t>
            </a:r>
            <a:r>
              <a:rPr b="0" lang="es-E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 si este marco es resultado de extensión NNW oblicuo a la zona de cizalle (NNE), entonces el strike-slip duplex es extensional al menos para el Cenozoico temprano (formación de la cuenca) y Cenozoico tardío (volcanism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odel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LOFZ se inició en el Mesozoico a lo largo del arco magmático (Pankhurst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</a:rPr>
              <a:t>et al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, 1992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lonitas preoligocenicas de la parte norte de LOFZ evidencian movimiento sinestral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oceno-Mioceno (48-26 Ma) la subducción fue casi recta y de alta v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LOFZ fue reactivada como una zona de falla strike-slip dextral (régimen transtensional en el arco magmático)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arrollo de cuencas a lo largo de dominios extensionales en la misma époc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Mioceno (26 Ma) reorganización de placas cierra las cuencas por complejos plutónico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 Ma., subducción recta-oblicua de placa oceánica jóven (acoplamiento)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transpresión dextral en el arco magmát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onclusione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oincidencia de LOFZ con cinturón Batolito norpatagónico (Mioceno), volcanismo cuaternario y cuencas del Cenozoico tempra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eformación de strike-slip dextral durante Mioceno-Plioceno acompañado de emplazamiento de plutones sintectónic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Patrones de rotación de bloques consistente con la geometria de LOFZ e indicadores cinemático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ectonismo reciente en LOFZ es caracterizado por deformación dextral de strike-slip durante Plioceno y/o post-Plioceno y altas tasas de alzamiento durante el Holocen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25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Zona de falla Liquiñe Ofqui: 1000 km de largo (39-48ºL.S) y set de lineamientos de intra-arco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econstrucciones cinemáticas a partir de los 49 Ma </a:t>
            </a:r>
            <a:r>
              <a:rPr b="0" lang="es-E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subducción casi paralel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esde 26 Ma, subducción ortogonal luego del rompimiento de Farallo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videncia de tectonismo transtensional y transpresional documentadas en LOFZ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16268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iscutir la geometría, geología, paleomagnetismo y cinemática de la zona de falla Liquiñe Ofqui (LOFZ) integrando toda la información disponibl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oponer un modelo tectónico a partir de las evidencias disponib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metr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4500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res tipos de lineamiento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Dos lineamientos rectos con tendencia N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Cuatro lineamientos en échelon rectos con tendencia N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Tres lineamientos curvos con tendencia NNW concavos hacia el SW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strike-slip duplex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4246560" y="1268280"/>
            <a:ext cx="48974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Heterogeneidad en naturaleza e intensidad de la deformación de las roc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redominan rocas plutónicas desde tonalitas a granodiorit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s metamorficas y volcano- sedimentarias en menor propor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Intrusivos son parte del Batolito Norpatagónico (NPB): cinturón de plutones de edad meso-cenozoica entre los 39 y 47º L.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NPB de fabrica isotrópica con zonas de alto strain a lo largo de LOFZ: roca deformada dentro de roca sin deformar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ca de basamento con deformación: foliación con rumbo NNW y lineaciones de mxx subhorizontales en plutones del Neogen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Formación Traiguén (Cenozoico) muy deformadas a lo largo del lineamiento recto sur de LOFZ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Geología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4356000" y="189000"/>
            <a:ext cx="4164120" cy="6453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132000" y="4292640"/>
            <a:ext cx="3024360" cy="100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132000" y="4221000"/>
            <a:ext cx="3095640" cy="144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3203640" y="4005000"/>
            <a:ext cx="4105080" cy="144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203640" y="2997000"/>
            <a:ext cx="1728720" cy="115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979640" y="393372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trusiv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492360" y="907920"/>
            <a:ext cx="3024360" cy="9367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763640" y="16286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xx volcánicas del Holoce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659640" y="458136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7093080" y="184464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877080" y="3141720"/>
            <a:ext cx="504720" cy="57636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95280" y="5229360"/>
            <a:ext cx="504720" cy="576000"/>
          </a:xfrm>
          <a:prstGeom prst="ellipse">
            <a:avLst/>
          </a:prstGeom>
          <a:noFill/>
          <a:ln w="2844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1640" y="5229360"/>
            <a:ext cx="23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Indicadores cinemátic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47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ones de rotación de bloques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Verdana"/>
              </a:rPr>
              <a:t>Patrón en sentido antihorario al oeste de LOFZ y rotación en sentido horario dentro y al este. 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4906800" y="1413000"/>
            <a:ext cx="4237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Paleomagnetismo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475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antihorari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laca subducta en forma oblicua pero su movimiento es impedid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cortamien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on antihoraria hacia el norte de bloques. Ensanchamiento de la placa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219640" y="1628640"/>
            <a:ext cx="3687840" cy="30466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324000" y="4797360"/>
            <a:ext cx="47527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Rotación horaria: debido a subducción dex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80000"/>
            </a:gs>
            <a:gs pos="100000">
              <a:srgbClr val="6a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Arial"/>
              </a:rPr>
              <a:t>Indicadores Cinemáticos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Hervé (1976). Foliación subvertical con tendencia NNE y un set conjugado de fallas de tendencia NNE dextral y otro ENE sinestral en milonita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 movimiento dextral en la zona (Oligoceno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Plutones del Plioceno intruyen roca metamorfica del Paleozoico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relacion entre esquistocidad NNW y bandas de corte N-S indican movimiento dextral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2:57:33Z</dcterms:created>
  <dc:creator>Tania</dc:creator>
  <dc:description/>
  <dc:language>en-US</dc:language>
  <cp:lastModifiedBy>Mario Pardo</cp:lastModifiedBy>
  <dcterms:modified xsi:type="dcterms:W3CDTF">2004-09-30T20:44:02Z</dcterms:modified>
  <cp:revision>18</cp:revision>
  <dc:subject/>
  <dc:title>The Liquiñe Ofqui fault zone: a long-lived intra-arc fault system in southern Chi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