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4B41-3229-4483-AC82-59F8E12ED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7511-DEFE-44BC-8E0F-FD5CCB49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CBBB-2C3E-48E5-B6F8-5ECF9FCF2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E817-870D-4F20-BF13-09D1A3B0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EA94-E3A2-43F3-930C-A4F0107FE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CF27-9D74-4448-BDB9-071B9088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EC84-4C69-4174-B49E-88111450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0BFC-433C-42A2-8B98-E41DD641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439A-70FF-4C24-9617-915D5100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7EA0-016F-4913-BE69-048DFFA6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B446-59EB-464A-B937-4FCC26B4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3937-730A-429F-85B6-88569A0C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AD1B-6F35-4D1C-A2C4-CB8BEA87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BD34-56BB-4C90-8105-9CE7D3F8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93D6-4668-4212-ADD4-ECBED5D3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6FE0-BCB6-4429-B754-B5D2AE35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3AD3-9584-44D1-B260-19046A1C8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B6EB-991E-4331-9C10-360DEF63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0E86-2152-45A1-BE4B-301D8375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82FA-C33F-471E-8936-0BA4F58D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419F-2B41-4B49-8C2E-12982DC9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E2A5-4A36-48AF-A600-6B790288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B73C-14C3-49B4-80D2-1F22E77D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BAC3-032F-4322-935A-47E0F2EE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a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a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a0000"/>
                        </a:solidFill>
                        <a:ln w="9360">
                          <a:solidFill>
                            <a:srgbClr val="6a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a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DA71-07C5-4DCC-BC66-6486B440D7A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a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a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a0000"/>
                        </a:solidFill>
                        <a:ln w="9360">
                          <a:solidFill>
                            <a:srgbClr val="6a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a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E753-BD58-4166-B1A4-5B95B47734D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700" spc="-1" strike="noStrike">
                <a:solidFill>
                  <a:srgbClr val="ffff99"/>
                </a:solidFill>
                <a:latin typeface="Arial"/>
              </a:rPr>
              <a:t>The Liquiñe Ofqui fault zone: a long-lived intra-arc fault system in southern Chile</a:t>
            </a:r>
            <a:endParaRPr b="0" lang="en-US" sz="47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3200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José Cembrano, Francisco Hervé, Alain Laven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/>
          <p:nvPr/>
        </p:nvSpPr>
        <p:spPr>
          <a:xfrm>
            <a:off x="5580000" y="5805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ania Villaseñor J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Indicadores Cinemático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ominios estructurales discretos donde fallas frágiles (subverticales con estrias horizontales) se sobreponen a granitos del Mio-Pliocen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os set: NNE (indicadores dextrales) y N60ºE (indicadores sinestrale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160880" cy="43923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8172360" y="2637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a0000"/>
                </a:solidFill>
                <a:latin typeface="Verdana"/>
              </a:rPr>
              <a:t>N60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80360" y="155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a0000"/>
                </a:solidFill>
                <a:latin typeface="Verdana"/>
              </a:rPr>
              <a:t>N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530064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Fallamiento frágil dextral de las rocas graniticas del Mio-Plioce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Indicadores Cinemático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210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epósitos de cuenca y diques cenozoicos con rumbo NE y localización de volcanes recientes coinciden con la rama derecha del duplex </a:t>
            </a:r>
            <a:r>
              <a:rPr b="0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si este marco es resultado de extensión NNW oblicuo a la zona de cizalle (NNE), entonces el strike-slip duplex es extensional al menos para el Cenozoico temprano (formación de la cuenca) y Cenozoico tardío (volcanismo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del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OFZ se inició en el Mesozoico a lo largo del arco magmático (Pankhurst 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et al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, 1992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Milonitas preoligocenicas de la parte norte de LOFZ evidencian movimiento sinestral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oceno-Mioceno (48-26 Ma) la subducción fue casi recta y de alta v </a:t>
            </a:r>
            <a:r>
              <a:rPr b="0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LOFZ fue reactivada como una zona de falla strike-slip dextral (régimen transtensional en el arco magmático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Desarrollo de cuencas a lo largo de dominios extensionales en la misma époc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Mioceno (26 Ma) reorganización de placas cierra las cuencas por complejos plutónico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20 Ma., subducción recta-oblicua de placa oceánica jóven (acoplamiento) </a:t>
            </a:r>
            <a:r>
              <a:rPr b="0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transpresión dextral en el arco magmátic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oincidencia de LOFZ con cinturón Batolito norpatagónico (Mioceno), volcanismo cuaternario y cuencas del Cenozoico tempran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eformación de strike-slip dextral durante Mioceno-Plioceno acompañado de emplazamiento de plutones sintectónic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atrones de rotación de bloques consistente con la geometria de LOFZ e indicadores cinemático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ectonismo reciente en LOFZ es caracterizado por deformación dextral de strike-slip durante Plioceno y/o post-Plioceno y altas tasas de alzamiento durante el Holocen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Zona de falla Liquiñe Ofqui: 1000 km de largo (39-48ºL.S) y set de lineamientos de intra-arco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econstrucciones cinemáticas a partir de los 49 Ma </a:t>
            </a:r>
            <a:r>
              <a:rPr b="0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subducción casi paralel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Desde 26 Ma, subducción ortogonal luego del rompimiento de Farall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videncia de tectonismo transtensional y transpresional documentadas en LOFZ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416268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Discutir la geometría, geología, paleomagnetismo y cinemática de la zona de falla Liquiñe Ofqui (LOFZ) integrando toda la información disponibl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roponer un modelo tectónico a partir de las evidencias disponibl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Geometrí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500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res tipos de lineamient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Dos lineamientos rectos con tendencia NN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Cuatro lineamientos en échelon rectos con tendencia N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Tres lineamientos curvos con tendencia NNW concavos hacia el SW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strike-slip duplex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4246560" y="1268280"/>
            <a:ext cx="4897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Geologí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Heterogeneidad en naturaleza e intensidad de la deformación de las roca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redominan rocas plutónicas desde tonalitas a granodiorita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ocas metamorficas y volcano- sedimentarias en menor propor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Intrusivos son parte del Batolito Norpatagónico (NPB): cinturón de plutones de edad meso-cenozoica entre los 39 y 47º L.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NPB de fabrica isotrópica con zonas de alto strain a lo largo de LOFZ: roca deformada dentro de roca sin deforma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oca de basamento con deformación: foliación con rumbo NNW y lineaciones de mxx subhorizontales en plutones del Neogen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Formación Traiguén (Cenozoico) muy deformadas a lo largo del lineamiento recto sur de LOFZ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Geologí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4356000" y="189000"/>
            <a:ext cx="4164120" cy="6453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3132000" y="4292640"/>
            <a:ext cx="3024360" cy="1008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132000" y="4221000"/>
            <a:ext cx="3095640" cy="144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203640" y="4005000"/>
            <a:ext cx="4105080" cy="144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3203640" y="2997000"/>
            <a:ext cx="1728720" cy="115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979640" y="3933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Intrus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3492360" y="907920"/>
            <a:ext cx="3024360" cy="936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763640" y="1628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Rxx volcánicas del Holoce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659640" y="4581360"/>
            <a:ext cx="504720" cy="576360"/>
          </a:xfrm>
          <a:prstGeom prst="ellipse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093080" y="1844640"/>
            <a:ext cx="504720" cy="576360"/>
          </a:xfrm>
          <a:prstGeom prst="ellipse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877080" y="3141720"/>
            <a:ext cx="504720" cy="576360"/>
          </a:xfrm>
          <a:prstGeom prst="ellipse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95280" y="5229360"/>
            <a:ext cx="504720" cy="576000"/>
          </a:xfrm>
          <a:prstGeom prst="ellipse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71640" y="522936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Indicadores cinemá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Paleomagnetism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Verdana"/>
              </a:rPr>
              <a:t>Patrones de rotación de bloqu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Verdana"/>
              </a:rPr>
              <a:t>Patrón en sentido antihorario al oeste de LOFZ y rotación en sentido horario dentro y al este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4906800" y="1413000"/>
            <a:ext cx="42372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Paleomagnetism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475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otación antihorari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laca subducta en forma oblicua pero su movimiento es impedid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Acortamiento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otacion antihoraria hacia el norte de bloques. Ensanchamiento de la placa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5219640" y="1628640"/>
            <a:ext cx="3687840" cy="30466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324000" y="4797360"/>
            <a:ext cx="4752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otación horaria: debido a subducción dext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Indicadores Cinemático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Hervé (1976). Foliación subvertical con tendencia NNE y un set conjugado de fallas de tendencia NNE dextral y otro ENE sinestral en milonitas </a:t>
            </a:r>
            <a:r>
              <a:rPr b="0" lang="es-E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movimiento dextral en la zona (Oligoceno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lutones del Plioceno intruyen roca metamorfica del Paleozoico</a:t>
            </a:r>
            <a:r>
              <a:rPr b="0" lang="es-E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relacion entre esquistocidad NNW y bandas de corte N-S indican movimiento dextra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2:57:33Z</dcterms:created>
  <dc:creator>Tania</dc:creator>
  <dc:description/>
  <dc:language>en-US</dc:language>
  <cp:lastModifiedBy>Mario Pardo</cp:lastModifiedBy>
  <dcterms:modified xsi:type="dcterms:W3CDTF">2004-09-30T20:44:02Z</dcterms:modified>
  <cp:revision>18</cp:revision>
  <dc:subject/>
  <dc:title>The Liquiñe Ofqui fault zone: a long-lived intra-arc fault system in southern Chi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