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95420-F015-499E-84C7-5E670C19C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DFC7C-AF50-418C-9331-A92A52556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5207E3-4FD2-4694-AF86-BD28B1352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A00A5-F273-4B27-9A43-8586755D7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6373A-95DA-458F-B67C-9F3FFC4E1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8ADB0-6736-47D2-9D0B-5CCB8F32D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145EC-1494-4EB2-93FA-39A0457A4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D8572-1673-4AC7-BA38-E99158BD0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66A90-7BCD-43A5-8FDF-D84899D64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135ED-95F1-4F4B-939D-DA6D2F3B5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524BA-D974-4D86-88F1-FBA577FD2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B2970-F67B-4A3F-A066-905BE5580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4BC66-0471-4EBE-A667-FC41F1CA6C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Magmatism as a probe to the Neogene shallowing of the Nazca plate beneth the modern Chilean flat-slab</a:t>
            </a:r>
            <a:endParaRPr b="0" lang="en-US" sz="4400" spc="-1" strike="noStrike">
              <a:solidFill>
                <a:srgbClr val="000000"/>
              </a:solidFill>
              <a:latin typeface="Times New Roman"/>
            </a:endParaRPr>
          </a:p>
        </p:txBody>
      </p:sp>
      <p:sp>
        <p:nvSpPr>
          <p:cNvPr id="42" name=""/>
          <p:cNvSpPr/>
          <p:nvPr/>
        </p:nvSpPr>
        <p:spPr>
          <a:xfrm>
            <a:off x="1295280" y="3505320"/>
            <a:ext cx="6934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zane Mahlburg Kay , Constantino Mpodozi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2001</a:t>
            </a:r>
            <a:endParaRPr b="0" lang="en-US" sz="2400" spc="-1" strike="noStrike">
              <a:solidFill>
                <a:srgbClr val="000000"/>
              </a:solidFill>
              <a:latin typeface="Times New Roman"/>
            </a:endParaRPr>
          </a:p>
        </p:txBody>
      </p:sp>
      <p:sp>
        <p:nvSpPr>
          <p:cNvPr id="43" name=""/>
          <p:cNvSpPr/>
          <p:nvPr/>
        </p:nvSpPr>
        <p:spPr>
          <a:xfrm>
            <a:off x="6324480" y="60199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odrigo Ba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160" y="609480"/>
            <a:ext cx="7848360" cy="472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tectónicos que controlan los patrones geoquímicos, temporalesy espaciales de las Rx magmáticas Neógenas en el flat-slab chilen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380880"/>
            <a:ext cx="9144000" cy="59148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a forma y condición termal de la cuña mantélica</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atrón de adelgazamiento y engrosamiento de la corteza y litosfera(más gruesa al norte)</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rosión de subducción en corteza del antearco</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igración este del arco magmátic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in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mposición,rigidez y estado de stress preexistente de la litosfera y corteza por la cual el magma erupcion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oles externos:</a:t>
            </a:r>
            <a:endParaRPr b="0" lang="en-US" sz="28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s en los parámetros de convergencia de las pla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09480" y="762120"/>
            <a:ext cx="78487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efecto del RJF es debatido. Para evaluar sus efectos se plotearon los principales centros magmáticos en los mapas temporales de Yañez que muestran la historia del ridge subducta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considera que afecta un ancho de ~310 Km, osea más de 150 Km a cada lado de su e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entos tectónicos y magmáticos antes de la llegada del RJF (antes de los 14 Ma)</a:t>
            </a:r>
            <a:endParaRPr b="0" lang="en-US" sz="3200" spc="-1" strike="noStrike">
              <a:solidFill>
                <a:srgbClr val="000000"/>
              </a:solidFill>
              <a:latin typeface="Times New Roman"/>
            </a:endParaRPr>
          </a:p>
        </p:txBody>
      </p:sp>
      <p:sp>
        <p:nvSpPr>
          <p:cNvPr id="62" name="PlaceHolder 2"/>
          <p:cNvSpPr>
            <a:spLocks noGrp="1"/>
          </p:cNvSpPr>
          <p:nvPr>
            <p:ph/>
          </p:nvPr>
        </p:nvSpPr>
        <p:spPr>
          <a:xfrm>
            <a:off x="837720" y="4038120"/>
            <a:ext cx="762012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stos eventos no se pueden relacionar con el ridge, por lo tanto se asocian a causas externas, como el cambio en las tazas y direccion de convergencia de las placas.</a:t>
            </a:r>
            <a:endParaRPr b="0" lang="en-US" sz="2800" spc="-1" strike="noStrike">
              <a:solidFill>
                <a:srgbClr val="000000"/>
              </a:solidFill>
              <a:latin typeface="Times New Roman"/>
            </a:endParaRPr>
          </a:p>
        </p:txBody>
      </p:sp>
      <p:pic>
        <p:nvPicPr>
          <p:cNvPr id="63" name="" descr=""/>
          <p:cNvPicPr/>
          <p:nvPr/>
        </p:nvPicPr>
        <p:blipFill>
          <a:blip r:embed="rId1"/>
          <a:stretch/>
        </p:blipFill>
        <p:spPr>
          <a:xfrm>
            <a:off x="1066680" y="1752480"/>
            <a:ext cx="6629400" cy="226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Transición tectónica extencional (27-20 Ma)a una compresional.</a:t>
            </a:r>
            <a:endParaRPr b="0"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teniente: inversión tectónica y alzamiento a los ~20-18 Ma, (Kurtz,97) y (Godoy,99)</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allamiento inverso de alto ángulo (30°S) a los 18 Ma, (Maksaev, 84)</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mienzo fallamiento inverso de alto ángulo en precordillera a los 18 Ma, (Jordan, 9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Fin extensión en trasarco, consistente con el fin del volcanismo tipo intraplaca al este de Teniente, el indio(maquinas) y de Maricunga(sergestro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46080"/>
            <a:ext cx="9601200" cy="6950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685800" y="609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xpansión al este del arco magmát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ducción mayor en el volcanismo de arco entre los 20-16 Ma y su casi vacío en el teniente y maricung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 a Mxx residuales de mayor presión(19-16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8" name="" descr=""/>
          <p:cNvPicPr/>
          <p:nvPr/>
        </p:nvPicPr>
        <p:blipFill>
          <a:blip r:embed="rId1"/>
          <a:stretch/>
        </p:blipFill>
        <p:spPr>
          <a:xfrm>
            <a:off x="1066680" y="1828800"/>
            <a:ext cx="6562800" cy="45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533520" y="457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Todas las anteriores Kay las utiliza para argumentar un comienzo de la somerización del flat-slab a los 18 M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pero cual es la fuerza gatillado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ambios en la taza de convergenc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organización de las plac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5-20 Ma: v=12-15 cm/año, convergencia perpendicula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0 Ma v= 18 cm/año, convergencia – oblicu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Pardo-Casas y Molnar, 87)</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20-15 Ma v=12 cm/año, conv: 3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5-10 Ma conv: 15°</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Somoza, 98)</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as diferencias se deben a interpretaciones del registro magnético marin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gmatismo y subduccion del RJF</a:t>
            </a:r>
            <a:br>
              <a:rPr sz="3200"/>
            </a:br>
            <a:r>
              <a:rPr b="0" lang="es-MX" sz="3200" spc="-1" strike="noStrike">
                <a:solidFill>
                  <a:srgbClr val="000000"/>
                </a:solidFill>
                <a:latin typeface="Times New Roman"/>
              </a:rPr>
              <a:t>(post 15 Ma)</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braso nores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 los 14 Ma pasa po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Maricunga cuando h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 </a:t>
            </a:r>
            <a:r>
              <a:rPr b="0" lang="es-MX" sz="3200" spc="-1" strike="noStrike">
                <a:solidFill>
                  <a:srgbClr val="000000"/>
                </a:solidFill>
                <a:latin typeface="Times New Roman"/>
              </a:rPr>
              <a:t>un cambio de caden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rtovolcánica 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omplejos de ignimbritas daciticas aisladas (copiapó 11Ma) aumenta La/Ta y Sm/Yb</a:t>
            </a:r>
            <a:endParaRPr b="0" lang="en-US" sz="3200" spc="-1" strike="noStrike">
              <a:solidFill>
                <a:srgbClr val="000000"/>
              </a:solidFill>
              <a:latin typeface="Times New Roman"/>
            </a:endParaRPr>
          </a:p>
        </p:txBody>
      </p:sp>
      <p:pic>
        <p:nvPicPr>
          <p:cNvPr id="74" name="" descr=""/>
          <p:cNvPicPr/>
          <p:nvPr/>
        </p:nvPicPr>
        <p:blipFill>
          <a:blip r:embed="rId1"/>
          <a:stretch/>
        </p:blipFill>
        <p:spPr>
          <a:xfrm>
            <a:off x="4724280" y="1600200"/>
            <a:ext cx="4753080" cy="3389400"/>
          </a:xfrm>
          <a:prstGeom prst="rect">
            <a:avLst/>
          </a:prstGeom>
          <a:ln w="0">
            <a:noFill/>
          </a:ln>
        </p:spPr>
      </p:pic>
      <p:pic>
        <p:nvPicPr>
          <p:cNvPr id="75" name="" descr=""/>
          <p:cNvPicPr/>
          <p:nvPr/>
        </p:nvPicPr>
        <p:blipFill>
          <a:blip r:embed="rId2"/>
          <a:stretch/>
        </p:blipFill>
        <p:spPr>
          <a:xfrm>
            <a:off x="304920" y="609480"/>
            <a:ext cx="4343400" cy="3132360"/>
          </a:xfrm>
          <a:prstGeom prst="rect">
            <a:avLst/>
          </a:prstGeom>
          <a:ln w="0">
            <a:noFill/>
          </a:ln>
        </p:spPr>
      </p:pic>
      <p:pic>
        <p:nvPicPr>
          <p:cNvPr id="76" name="" descr=""/>
          <p:cNvPicPr/>
          <p:nvPr/>
        </p:nvPicPr>
        <p:blipFill>
          <a:blip r:embed="rId3"/>
          <a:stretch/>
        </p:blipFill>
        <p:spPr>
          <a:xfrm>
            <a:off x="4191120" y="3463920"/>
            <a:ext cx="4276440" cy="30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Objetivo </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sar magmatismo como herramienta para descifrar la evolución tectónica Neogena y las causas de la subducción somera en el flat-slab chileno moderno. </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380880"/>
            <a:ext cx="815328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12-10 Ma ridge llega a el indio</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ambio de andesitas cerro las tortolas(17-14 Ma) a dacitas formación Tambo(12.7-10 Ma)</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umenta Sm/Yb y La/Ta</a:t>
            </a:r>
            <a:endParaRPr b="0" lang="en-US" sz="2800" spc="-1" strike="noStrike">
              <a:solidFill>
                <a:srgbClr val="000000"/>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 descr=""/>
          <p:cNvPicPr/>
          <p:nvPr/>
        </p:nvPicPr>
        <p:blipFill>
          <a:blip r:embed="rId1"/>
          <a:stretch/>
        </p:blipFill>
        <p:spPr>
          <a:xfrm>
            <a:off x="1219320" y="914400"/>
            <a:ext cx="4071960" cy="2784600"/>
          </a:xfrm>
          <a:prstGeom prst="rect">
            <a:avLst/>
          </a:prstGeom>
          <a:ln w="0">
            <a:noFill/>
          </a:ln>
        </p:spPr>
      </p:pic>
      <p:pic>
        <p:nvPicPr>
          <p:cNvPr id="79" name="" descr=""/>
          <p:cNvPicPr/>
          <p:nvPr/>
        </p:nvPicPr>
        <p:blipFill>
          <a:blip r:embed="rId2"/>
          <a:stretch/>
        </p:blipFill>
        <p:spPr>
          <a:xfrm>
            <a:off x="5181480" y="838080"/>
            <a:ext cx="3962520" cy="2773440"/>
          </a:xfrm>
          <a:prstGeom prst="rect">
            <a:avLst/>
          </a:prstGeom>
          <a:ln w="0">
            <a:noFill/>
          </a:ln>
        </p:spPr>
      </p:pic>
      <p:pic>
        <p:nvPicPr>
          <p:cNvPr id="80" name="" descr=""/>
          <p:cNvPicPr/>
          <p:nvPr/>
        </p:nvPicPr>
        <p:blipFill>
          <a:blip r:embed="rId3"/>
          <a:stretch/>
        </p:blipFill>
        <p:spPr>
          <a:xfrm>
            <a:off x="5791320" y="4498920"/>
            <a:ext cx="3352680" cy="2359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ero no todo se le puede adjudicar al ridge...</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ventos paralelos ocurren al sur de la zona afectada por el rid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eniente:cambio de lavas maqui chico(14.5-12 Ma) a swell bajo (10 Ma), aumenta La/Ta y Sm/Yb.</a:t>
            </a:r>
            <a:endParaRPr b="0" lang="en-US" sz="3200" spc="-1" strike="noStrike">
              <a:solidFill>
                <a:srgbClr val="000000"/>
              </a:solidFill>
              <a:latin typeface="Times New Roman"/>
            </a:endParaRPr>
          </a:p>
        </p:txBody>
      </p:sp>
      <p:pic>
        <p:nvPicPr>
          <p:cNvPr id="83" name="" descr=""/>
          <p:cNvPicPr/>
          <p:nvPr/>
        </p:nvPicPr>
        <p:blipFill>
          <a:blip r:embed="rId1"/>
          <a:stretch/>
        </p:blipFill>
        <p:spPr>
          <a:xfrm>
            <a:off x="0" y="0"/>
            <a:ext cx="4876920" cy="3306600"/>
          </a:xfrm>
          <a:prstGeom prst="rect">
            <a:avLst/>
          </a:prstGeom>
          <a:ln w="0">
            <a:noFill/>
          </a:ln>
        </p:spPr>
      </p:pic>
      <p:pic>
        <p:nvPicPr>
          <p:cNvPr id="84" name="" descr=""/>
          <p:cNvPicPr/>
          <p:nvPr/>
        </p:nvPicPr>
        <p:blipFill>
          <a:blip r:embed="rId2"/>
          <a:stretch/>
        </p:blipFill>
        <p:spPr>
          <a:xfrm>
            <a:off x="4191120" y="3351240"/>
            <a:ext cx="4952880" cy="3506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ralelos tectónico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cortamiento en trasar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Deformación en precordille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grosamiento cortez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o se debe al regimen compresional general que se extiende más allá que el efecto del ridge, por tanto en la zona norte el ridge se superimpone y aumenta los efec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rribo del segmento E-W</a:t>
            </a:r>
            <a:endParaRPr b="0" lang="en-US" sz="3200" spc="-1" strike="noStrike">
              <a:solidFill>
                <a:srgbClr val="000000"/>
              </a:solidFill>
              <a:latin typeface="Times New Roman"/>
            </a:endParaRPr>
          </a:p>
        </p:txBody>
      </p:sp>
      <p:sp>
        <p:nvSpPr>
          <p:cNvPr id="88" name="PlaceHolder 2"/>
          <p:cNvSpPr>
            <a:spLocks noGrp="1"/>
          </p:cNvSpPr>
          <p:nvPr>
            <p:ph/>
          </p:nvPr>
        </p:nvSpPr>
        <p:spPr>
          <a:xfrm>
            <a:off x="457200" y="4038120"/>
            <a:ext cx="7772400" cy="2210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fecto comienza a los 9-8 Ma, fin volcanismo andecitico en el arc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maricunga:ultimos eventos; centro Copiapó(7Ma) y Jotabeche(5Ma)</a:t>
            </a:r>
            <a:endParaRPr b="0" lang="en-US" sz="3200" spc="-1" strike="noStrike">
              <a:solidFill>
                <a:srgbClr val="000000"/>
              </a:solidFill>
              <a:latin typeface="Times New Roman"/>
            </a:endParaRPr>
          </a:p>
        </p:txBody>
      </p:sp>
      <p:pic>
        <p:nvPicPr>
          <p:cNvPr id="89" name="" descr=""/>
          <p:cNvPicPr/>
          <p:nvPr/>
        </p:nvPicPr>
        <p:blipFill>
          <a:blip r:embed="rId1"/>
          <a:stretch/>
        </p:blipFill>
        <p:spPr>
          <a:xfrm>
            <a:off x="1066680" y="1523880"/>
            <a:ext cx="6782040" cy="235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68580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Quimica inusual Jotabeche y dos hermanos se interpreta como un periodo de erosión por subducción en antearco</a:t>
            </a:r>
            <a:endParaRPr b="0" lang="en-US" sz="2400" spc="-1" strike="noStrike">
              <a:solidFill>
                <a:srgbClr val="000000"/>
              </a:solidFill>
              <a:latin typeface="Times New Roman"/>
            </a:endParaRPr>
          </a:p>
        </p:txBody>
      </p:sp>
      <p:pic>
        <p:nvPicPr>
          <p:cNvPr id="91" name="" descr=""/>
          <p:cNvPicPr/>
          <p:nvPr/>
        </p:nvPicPr>
        <p:blipFill>
          <a:blip r:embed="rId1"/>
          <a:stretch/>
        </p:blipFill>
        <p:spPr>
          <a:xfrm>
            <a:off x="4343400" y="1905120"/>
            <a:ext cx="3809880" cy="2570040"/>
          </a:xfrm>
          <a:prstGeom prst="rect">
            <a:avLst/>
          </a:prstGeom>
          <a:ln w="0">
            <a:noFill/>
          </a:ln>
        </p:spPr>
      </p:pic>
      <p:pic>
        <p:nvPicPr>
          <p:cNvPr id="92" name="" descr=""/>
          <p:cNvPicPr/>
          <p:nvPr/>
        </p:nvPicPr>
        <p:blipFill>
          <a:blip r:embed="rId2"/>
          <a:stretch/>
        </p:blipFill>
        <p:spPr>
          <a:xfrm>
            <a:off x="0" y="1752480"/>
            <a:ext cx="4038480" cy="2865600"/>
          </a:xfrm>
          <a:prstGeom prst="rect">
            <a:avLst/>
          </a:prstGeom>
          <a:ln w="0">
            <a:noFill/>
          </a:ln>
        </p:spPr>
      </p:pic>
      <p:sp>
        <p:nvSpPr>
          <p:cNvPr id="93" name=""/>
          <p:cNvSpPr/>
          <p:nvPr/>
        </p:nvSpPr>
        <p:spPr>
          <a:xfrm>
            <a:off x="457200" y="4800600"/>
            <a:ext cx="8077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l momento en que se someriza la placa y el arco migr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 los 2Ma finaliza volcanism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990720" y="7621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región intermedia volcanismo finaliza a los 8 MA y en teniente con el complejo plutónico joven 6.6-5.5 Ma</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990720" y="1905120"/>
            <a:ext cx="6933960" cy="245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idge y trasarco.</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olcanismo en trasarco se expande a los 8-5 Ma, cuando el codo del ridge pasa por debajo de esa zona, pero pocho y san luis están muy al sur, una opción es que el ridge haya estado más al sur lo que calzaría con el levantamiento de las sierras pampeanas y san luis estaría en la ultima zona de influencia de la subducción somera(geoq indica magma formado a 200km profundida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dakitas del flat-slab por fusión de corteza engrosada o por corteza removida tectónicamente</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Gutscher (2000) propuso que las rocas del flat-slab de 10-4 Ma se podían atribuir a fusión de corteza oceanica, lo cual es enigmático en una zona de subducción somera ya que debiera producir una estructura termal más fría en el manto, Gutscher se “arregló” un modelo asumiendo 1200°C a 60 km de prof. Bastante al este del arco volcánico, con esto es suficiente para tener f.p en en la c.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85800" y="533520"/>
            <a:ext cx="78487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ro estas asunciones no son justificables, además no todas las Rx que el interpretó como “slab.melting” tiene signatura geoquimica de adakitas, muchas son lavas maficas y basálticas y su distribución no es consistente con los modelos de slab-mel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adakitas en la cordillera ppal se explican mejor por magmas mantelicos contaminados por las facies de eclogita de la base de la corteza continental engros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282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lusiones </a:t>
            </a:r>
            <a:endParaRPr b="0" lang="en-US" sz="4400" spc="-1" strike="noStrike">
              <a:solidFill>
                <a:srgbClr val="000000"/>
              </a:solidFill>
              <a:latin typeface="Times New Roman"/>
            </a:endParaRPr>
          </a:p>
        </p:txBody>
      </p:sp>
      <p:sp>
        <p:nvSpPr>
          <p:cNvPr id="102"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V olcanismo Oligoceno tardío y Mioceno temprano en la zona se caracteriza por magmas asociados a cuencas de intra-arco y ocurrencias esporadicas en el trasarco. La tectónica es extensional y se superimpone a una corteza más gruesa en el norte que en el sur.</a:t>
            </a: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Deformación en ultima etapa del mioceno tempreno(precordillera), signo inicial de la somerización no se relaciona con el RJF, sino al comienzo de un regimen compresional debido al reajuste  entre placas, otras consecuencias son; migración al este del arco,vacios volcanicos y signaturas quimicas inusuales por aporte de corteza erosionada por subducción.</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Antecedentes</a:t>
            </a:r>
            <a:endParaRPr b="0" lang="en-US" sz="4400" spc="-1" strike="noStrike">
              <a:solidFill>
                <a:srgbClr val="000000"/>
              </a:solidFill>
              <a:latin typeface="Times New Roman"/>
            </a:endParaRPr>
          </a:p>
        </p:txBody>
      </p:sp>
      <p:sp>
        <p:nvSpPr>
          <p:cNvPr id="47" name="PlaceHolder 2"/>
          <p:cNvSpPr>
            <a:spLocks noGrp="1"/>
          </p:cNvSpPr>
          <p:nvPr>
            <p:ph/>
          </p:nvPr>
        </p:nvSpPr>
        <p:spPr>
          <a:xfrm>
            <a:off x="456840" y="1447560"/>
            <a:ext cx="845820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sta subducción somera no se relaciona c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extremas de convergenc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placa oceanica muy jove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 de convergencia: 8.7 cm/añ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dad corteza que subducta en flat-slab: Eoce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fectos del RJF comienzan a los ~12 Ma; como transición de estratovolcanes andeciticos a domos daciticos, incremento en volcanismo de trasarco y finalmente fin del volcanismo andesítico a los 8 Ma.</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migración del arco a los 7 -4 Ma y el fin del volcanismo dacitico a los 5 Ma se relacionan con un reordenamiento de las placas, así como en el mioceno temprano, los cambios en convergencia son los gatilladores más importantes, y el RJF pronuncia aún más estos efectos.</a:t>
            </a:r>
            <a:endParaRPr b="0" lang="en-US" sz="2800" spc="-1" strike="noStrike">
              <a:solidFill>
                <a:srgbClr val="000000"/>
              </a:solidFill>
              <a:latin typeface="Times New Roman"/>
            </a:endParaRPr>
          </a:p>
          <a:p>
            <a:pPr marL="603360" indent="-603360">
              <a:lnSpc>
                <a:spcPct val="90000"/>
              </a:lnSpc>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Magmatismo de trasarco en en mioceno tardío a plioceno es causa de la subducción somer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33520" y="914400"/>
            <a:ext cx="7238880" cy="4786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os magmas neogenos en el flat-slab se formaron como fusión de manto contaminado por corteza  en la cuña mantélica hidratada. Los magmas con signatura de adakitas se desarrollaron como fusión de manto contaminado con coteza inferior engrosada en facies de eclogitas a granulitas, o por material de anterco removido por el proceso de subducción. No hay pruebas que apoyen la generación de magmas por fusión de corteza oceanica en este cas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on plana es favorecida por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tazas rapidas (no extremas) de convergencia y corteza de edad intermedi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Subducción de corteza engrosada; montes submaribos o plateau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En este caso en particular, la subducción somera es gatillada por la subducción del Ridge de Juan Fernandez(JFR)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ntonces que aspectos de la historia magmática y tectónica del flat-slab moderno pueden ser atribuidos a la subducción del RJF y cuales deben ser explicados por otras causa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57200"/>
            <a:ext cx="838224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responder a esto se analizan espacial, temporal y quimicamente las principales unidades magmáticas del flat-slab moderno (27-34°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omerización implica disminución del volumen de la cuña mantélica productora de mag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380880" y="2895480"/>
            <a:ext cx="2648160" cy="3353040"/>
          </a:xfrm>
          <a:prstGeom prst="rect">
            <a:avLst/>
          </a:prstGeom>
          <a:ln w="0">
            <a:noFill/>
          </a:ln>
        </p:spPr>
      </p:pic>
      <p:pic>
        <p:nvPicPr>
          <p:cNvPr id="52" name="" descr=""/>
          <p:cNvPicPr/>
          <p:nvPr/>
        </p:nvPicPr>
        <p:blipFill>
          <a:blip r:embed="rId2"/>
          <a:stretch/>
        </p:blipFill>
        <p:spPr>
          <a:xfrm>
            <a:off x="3124080" y="3124080"/>
            <a:ext cx="5257800" cy="310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cvz" descr=""/>
          <p:cNvPicPr/>
          <p:nvPr/>
        </p:nvPicPr>
        <p:blipFill>
          <a:blip r:embed="rId1"/>
          <a:stretch/>
        </p:blipFill>
        <p:spPr>
          <a:xfrm>
            <a:off x="457200" y="609480"/>
            <a:ext cx="8020080" cy="515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Herramientas geoquímicas</a:t>
            </a:r>
            <a:endParaRPr b="0" lang="en-US" sz="4400" spc="-1" strike="noStrike">
              <a:solidFill>
                <a:srgbClr val="000000"/>
              </a:solidFill>
              <a:latin typeface="Times New Roman"/>
            </a:endParaRPr>
          </a:p>
        </p:txBody>
      </p:sp>
      <p:sp>
        <p:nvSpPr>
          <p:cNvPr id="55" name=""/>
          <p:cNvSpPr/>
          <p:nvPr/>
        </p:nvSpPr>
        <p:spPr>
          <a:xfrm>
            <a:off x="1219320" y="198108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143000" y="1828800"/>
            <a:ext cx="6934320" cy="4403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iagrama K</a:t>
            </a:r>
            <a:r>
              <a:rPr b="0" lang="es-MX" sz="2400" spc="-1" strike="noStrike" baseline="-25000">
                <a:solidFill>
                  <a:srgbClr val="000000"/>
                </a:solidFill>
                <a:latin typeface="Times New Roman"/>
              </a:rPr>
              <a:t>2</a:t>
            </a:r>
            <a:r>
              <a:rPr b="0" lang="es-MX" sz="2400" spc="-1" strike="noStrike">
                <a:solidFill>
                  <a:srgbClr val="000000"/>
                </a:solidFill>
                <a:latin typeface="Times New Roman"/>
              </a:rPr>
              <a:t>O vs SiO</a:t>
            </a:r>
            <a:r>
              <a:rPr b="0" lang="es-MX" sz="2400" spc="-1" strike="noStrike" baseline="-25000">
                <a:solidFill>
                  <a:srgbClr val="000000"/>
                </a:solidFill>
                <a:latin typeface="Times New Roman"/>
              </a:rPr>
              <a:t>2</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m vs Sm/Yb (Mxx resid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Ba/ta vs La/Ta (La/Ta &gt;25 fuente arco mantél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plotean las unidades en 4 gráfic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Zona Teniente (35-34°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Aconcagua(33.5-32.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Indio/flat-slab(32.5-28.5°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aricunga(26-28°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Unidades magmáticas de la región presentan características químicas de las  adakitas, que son esencialmente cualquier magma andecítico a dacítico con un patrón de REE empinado (pobre en REE pesadas) osea equilibrado con granate como mineral residual. Han sido interpretadas como fusión parcial de la corteza oceánica subductante, pero esta no es la mejor interpretación en este caso e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8T03:32:01Z</dcterms:created>
  <dc:creator>Rodrigo</dc:creator>
  <dc:description/>
  <dc:language>en-US</dc:language>
  <cp:lastModifiedBy>Rodrigo</cp:lastModifiedBy>
  <dcterms:modified xsi:type="dcterms:W3CDTF">2004-08-19T19:01:52Z</dcterms:modified>
  <cp:revision>9</cp:revision>
  <dc:subject/>
  <dc:title>magmatism as a probe...</dc:title>
</cp:coreProperties>
</file>