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  <a:ea typeface="HG Mincho Light J"/>
              </a:rPr>
              <a:t>Structural evolution of the Andes in a transitional zone between flat and normal subduction (33º30’–33º45’), Angentina and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334120" y="5791320"/>
            <a:ext cx="35812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Javier Ortúzar Lath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88240" cy="50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istoria de deformación y cuantificación de acortamiento mínimo a través de F.P. Y C. Fueron calculados usando un balance de restauración en una sección longitud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formación en un pl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ología y geometría para establecer espe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nservación del área del basamento y envol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servación del largo de la línea antes y después del acort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ortamiento tot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PC: 47 Km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57% del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iel suave: 24 Km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7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iel gruesa: 19 Km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4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uenca acomoda solo 3.5 Km de acort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100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76000"/>
              </a:lnSpc>
              <a:spcBef>
                <a:spcPts val="488"/>
              </a:spcBef>
              <a:buClr>
                <a:srgbClr val="000000"/>
              </a:buClr>
              <a:buSzPct val="62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fecto de las estructuras pre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3172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0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bservaciones sugieren que la evolución de F&amp;TB y resultados estructurales  estaban predeterminados por condiciones tempran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3172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0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os proveen información de estructuras influenciadas por reactivación de fallas extensionales en el bas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3172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0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versiones estructurales (colapsos de grabe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3172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0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allas consideradas por reactiv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SzPct val="65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preserv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SzPct val="65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colapso de graben, antité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SzPct val="65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colapso de graben, sinté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SzPct val="65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GB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colapso de graben, sinté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SzPct val="65000"/>
              <a:buFont typeface="Times New Roman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GB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inferida, controlaría abruptos cambios de rumbos en la zona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0" algn="just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 algn="just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62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iempos de de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imera indicación de tectonismo hoy alzamiento: Mioceno temprano y med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lzamiento de la cordillera frontal comienza a los 8.5 Ma, y continua hasta los 6 Ma, demostrado por la estratigrafía, cambios en paleocorrientes y presencia de depósitos en diferentes sect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formación en F&amp;TB continua. Gran evento de deformación antes del Plioceno temprano (acotado por lavas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 algn="just">
              <a:lnSpc>
                <a:spcPct val="76000"/>
              </a:lnSpc>
              <a:spcBef>
                <a:spcPts val="488"/>
              </a:spcBef>
              <a:buClr>
                <a:srgbClr val="000000"/>
              </a:buClr>
              <a:buSzPct val="62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volución Estruc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&amp;TB: diferentes periodos de generación. Compresión comienza alrededor de los 17 Ma, hasta los 4 Ma. Proponen 3 etapas compresiva durante el orógeno and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70000"/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versión tectónica de fallas normales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8 % del acortamiento actual, alzamiento asociado se concentra en colapsos de cre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70000"/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5 Ma cambio en la proveniencia de estratos sinorogénicos (volcanoclástico a clastos Mesozoicos)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55% de acortamiento 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1040" indent="-37944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70000"/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orrimiento hacia el E genera el alzamiento de la C. F. Entre los 8.5 y 6 Ma. Propagación hacia el antepaís, deformación de la cuenca de antepaís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8240" indent="0" algn="just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 algn="just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62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aración con la deformación en el segmento de subducción pl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&amp;TB CP: La ramada (30º y 32º30’S), Aconcagua (32º30’ y 34ºS) y Malargüe (34º y 36º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a Ramada y Malargüa F&amp;TB es de piel gruesa, formado por inversiones tectónicas del sistema de rift mesozoico. El sector N de Aconcagua F&amp;TB esta localizado sobre subducción plana y es de piel fina. El sector S (en zona de transición)  tiene piel fina y gruesa, influenciado por estructuras extensionales preexistentes (Tr – J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10640" cy="62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29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deformación es resultado de la interacción entre la geometría del bloque subductado y estructuras de extensión preexistentes. El desarrollo de este segmento en la zona de transición difiere de los segmentos encontrados al N y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&amp;TB de Aconcagua puede ser dividida en dos sectores: sector norte de piel fina (32º30’ y 33º30’S), y un sector de piel fina y gruesa entre los 3º30’ y 33º45’S. La deformación en este sector fue el resultado de corrimiento del basamento, propagándose a la cobertura sedimentaria, generando una tectónica de estilo piel fina en la otr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álisis de tipo de subducción permite concluir que hay una buena correlación entre las variaciones del manteo de la zona Wadati-Benioff y la zona de acortamiento de antepaís. Sin embargo, los estilos estructurales de los diferentes segmentos están controlados primeramente por procesos geológicos previos y asociaciones heterogéneas de la cort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ambiagi, L.B., Ramos, V.A. 2001. Structural evolution of the Andes in a transitional zone between flat and normal subduction (33º30’ – 33º45’), Angentina and Chile. Journal of South American Earth Sciences 15, pp. 101 – 1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ores, E.M., Twiss, R.J. 1995. Tectonics. W.H. Freeman and Company New Y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Observaciones prelimin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1295280"/>
            <a:ext cx="243828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Subducción tipo and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Faja plegada y corr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ectónica de piel fina y piel gruesa (Thin-skinned and thick-skinn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264440" cy="26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000" y="1028880"/>
            <a:ext cx="63468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es de Chile y Argentina son un cinturón orogénico lineal en el margen de convergencia entre las plazas de Nazca y Sudameric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 reconocen segmentos de subducción normal y subhorizo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Área de estudio representa una zona de transición entre los 2 tipos de subducción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vestigar la relación entre la geometría de la zona de subducción y la evolución estructural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valuar el rol de las estructuras pre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85800" y="152280"/>
            <a:ext cx="7772400" cy="609840"/>
            <a:chOff x="685800" y="152280"/>
            <a:chExt cx="7772400" cy="609840"/>
          </a:xfrm>
        </p:grpSpPr>
        <p:sp>
          <p:nvSpPr>
            <p:cNvPr id="51" name=""/>
            <p:cNvSpPr/>
            <p:nvPr/>
          </p:nvSpPr>
          <p:spPr>
            <a:xfrm>
              <a:off x="685800" y="152280"/>
              <a:ext cx="7772400" cy="6098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178560"/>
              <a:ext cx="77724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omic Sans MS"/>
                  <a:ea typeface="HG Mincho Light J"/>
                </a:rPr>
                <a:t>Marco Tectónic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7280" y="1179360"/>
            <a:ext cx="802944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ja plegada y corrida del Aconcagua, con vergencia E, y edad Neógena. Basamento de la cordillera fr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asarco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marcado por la inversión Triásica de fallas extensionales en la cuenca de Cu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ferencia en el modelo de F&amp;TB (N es piel fina, medio transición, y sur piel gruesa, relacionado con el rift Mesozo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stribución de sismicidad entre las 2 placas sugiere que el limite de las placas esta caracterizado por alternancias de subducción plana y nor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mbios de gran escala en el orógeno parecen estar relacionados con lo anterior (e.g. Volcanismo y distribución de los cintur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zona de transición aparentemente ocurre como una pequeña flexura en la subducción pl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Estratigraf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samento pre-jurasico, sobre este en disconformidad rxs. Volcánicas y sedimentarias Cenozoicas y Mesozoicas deform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 reconocen distinguen las siguientes características en las rocas constituy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it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elaciones de conta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veniencia (Ambiente como régimen tect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eología part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 serie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ocas Pre-jurasicas: Basamento metamórfico, e intrusivo, comportamiento rígido en F.&amp;T.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xs. Jurasicas a Paleocenas: fragmentación de Gondwana, Rifting, subsidencia termal, intercalaciones marinas continentales, post Rifting (plataforma estable), reorganización tectónica (respuesta al régimen extencional). Variaciones eustát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uenca Neógena ante-país y depósitos volcánicos Cenozoicos: sedimentos sinorogénicos relacionados con F.&amp;T.B. Evidencia de alzamiento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corrimiento de la f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6840" y="318960"/>
            <a:ext cx="8410320" cy="62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  <a:ea typeface="HG Mincho Light J"/>
              </a:rPr>
              <a:t>Estructu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7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. &amp; T.B.: geometría total de bajo ángulo, puede ser dividida en 4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ector E, comprende sector de piel fina que se desarrolla en laminas plegadas y corridas, durante el Jr sup. Y el K sup. Caracterizado por la exposición de estratos neóge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ector central, comprende una serie de laminas de piel fina imbricadas, plegadas y corridas (abanico imbricado de fallas). Muchas fallas de bajo ángulo y vergencia E (30º a 80º), como resultado de una rotación durante la migración E del frente de fa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Al W. Serie de inversiones en esta zona. Evidencias de terreno muestran que la falla Piuquenes utilizo un sinclinal preexistente. Datos de superficie documentan además la interacción entre piel gruesa y fina. Restauración estructural demuestra la importancia de fallas preexis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V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iel delgada, fallas inversas se vergencia E, con tendencia N. Cambios abruptos en el espesor de los estratos sugiere la existencia de fallas extensionales preexistentes. Acortamiento míni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