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CF84-60D1-45D6-9EBB-7AF3CCF77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ED4E-7897-4E37-9677-C0AAAF550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F9CB-8D4F-426F-B263-97EB5EA00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B9A6-7A70-4B03-985C-95485AE08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C57F-9722-45D7-B8A6-101DD2E1E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DAFB-BF5C-49AC-84EA-6AF46167F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5466-CF26-48AE-9068-AAEC35414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578B-59E3-4231-AE9D-1EA933872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5077-15B5-4570-B5DF-F1EF98722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2FFD-E858-48C8-87DD-A1CA8C3C2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EFE2-0142-4ED6-93A6-10B46437B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E813-4442-4235-917C-83FE89448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C85D4-1415-4A06-B1AB-B07D940062B4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perso.wanadoo.es/jethrotull/grecia/arboles/a/atlante.htm" TargetMode="External"/><Relationship Id="rId3" Type="http://schemas.openxmlformats.org/officeDocument/2006/relationships/hyperlink" Target="http://perso.wanadoo.es/jethrotull/grecia/arboles/p/pleione.htm" TargetMode="Externa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152280"/>
            <a:ext cx="8458200" cy="64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ff00"/>
                </a:solidFill>
                <a:uFillTx/>
                <a:latin typeface="Times New Roman"/>
              </a:rPr>
              <a:t>Origen de los Plane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Una teoría sobre el origen de los planetas debe explicar las propiedades “gruesas” del sistema sol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Esto 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Planetas terrestres internos y planetas gigantes extern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Debe ser compatible con la composición química de estos objetos, como también de los más pequeños (meteoritos, asteroides y cometa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 u="sng">
                <a:solidFill>
                  <a:srgbClr val="ffff00"/>
                </a:solidFill>
                <a:uFillTx/>
                <a:latin typeface="Times New Roman"/>
              </a:rPr>
              <a:t>Algunas condiciones de borde para una teoría del orígen del Sistema So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El Sol (y en consecuencia el sistema solar) está compuesto de H y He que se mantienen como gases, excepto por la reacción de algunos hidrógenos con elementos más pesados al interior de los planet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Ley de Titus-Bo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2700360" y="1989000"/>
                <a:ext cx="3816360" cy="113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826920" y="3213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Versión Moderna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3059280" y="4076640"/>
                <a:ext cx="3168360" cy="117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8" name=""/>
          <p:cNvSpPr/>
          <p:nvPr/>
        </p:nvSpPr>
        <p:spPr>
          <a:xfrm>
            <a:off x="1403280" y="5305320"/>
            <a:ext cx="7201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371600"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 = 1.56 (planetas terrestr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371600"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 = 1.82 (planetas gigant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371600"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 = 1.73 (Todos excepto Plut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835280" y="0"/>
            <a:ext cx="6276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La Tier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Times New Roman"/>
              </a:rPr>
              <a:t>único planeta con abundante agua en su superficie y con una atmósfera rica en oxíge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Times New Roman"/>
              </a:rPr>
              <a:t>Parece ser el único planeta con extensas áreas ricas en rocas ácida o silicatadas (granito) las que representan la característica esencial en las zonas continent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Times New Roman"/>
              </a:rPr>
              <a:t>Es el único planeta con una distribución binomial de elevaciones de su superficie (reflejo de una división entre áreas continentales v/s oceánic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Times New Roman"/>
              </a:rPr>
              <a:t>La Tierra es el único planeta de los planetas terrestres que presenta un campo magnético intenso (100.000 a 600.000 nT). Se observa un campo magnético de similares características en los planetas gigant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Times New Roman"/>
              </a:rPr>
              <a:t>Tiene una Luna con características prop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), 2), y 3) están conectados </a:t>
            </a:r>
            <a:r>
              <a:rPr b="0" lang="es-ES_trad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0" y="3716280"/>
            <a:ext cx="914400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lantas </a:t>
            </a:r>
            <a:r>
              <a:rPr b="0" lang="es-ES_trad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s-ES_trad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Volcanismo ácido </a:t>
            </a:r>
            <a:r>
              <a:rPr b="0" lang="es-ES_trad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rx ácidas </a:t>
            </a:r>
            <a:r>
              <a:rPr b="0" lang="es-ES_trad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&lt; densidad </a:t>
            </a:r>
            <a:r>
              <a:rPr b="0" lang="es-ES_trad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contin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6315120" y="2492280"/>
                <a:ext cx="78912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1908000" y="3716280"/>
                <a:ext cx="57636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179280" y="3716280"/>
                <a:ext cx="4003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7" name=""/>
          <p:cNvSpPr/>
          <p:nvPr/>
        </p:nvSpPr>
        <p:spPr>
          <a:xfrm>
            <a:off x="2771640" y="4076640"/>
            <a:ext cx="2087640" cy="1513080"/>
          </a:xfrm>
          <a:prstGeom prst="upArrowCallout">
            <a:avLst>
              <a:gd name="adj1" fmla="val 34496"/>
              <a:gd name="adj2" fmla="val 34493"/>
              <a:gd name="adj3" fmla="val 16667"/>
              <a:gd name="adj4" fmla="val 6666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411280" y="4149720"/>
            <a:ext cx="2735280" cy="865080"/>
          </a:xfrm>
          <a:prstGeom prst="upArrowCallout">
            <a:avLst>
              <a:gd name="adj1" fmla="val 79054"/>
              <a:gd name="adj2" fmla="val 79047"/>
              <a:gd name="adj3" fmla="val 16667"/>
              <a:gd name="adj4" fmla="val 66660"/>
            </a:avLst>
          </a:prstGeom>
          <a:noFill/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535120" y="4673520"/>
            <a:ext cx="2324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371600">
              <a:spcBef>
                <a:spcPts val="1500"/>
              </a:spcBef>
              <a:buClr>
                <a:srgbClr val="ffff00"/>
              </a:buClr>
              <a:buFont typeface="Times New Roman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38960" y="4508640"/>
            <a:ext cx="402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371600"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onvección en el ma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80880" y="380880"/>
            <a:ext cx="822960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Históricamente 2 Teorías han sido propuestas para explicar el origen de los planet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(i)</a:t>
            </a: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Los planetas acrecionaron a partir de una nebulosa </a:t>
            </a: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gaseosa al mismo tiempo que el S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(ii)</a:t>
            </a: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El material fue “desgarrado” del Sol por una </a:t>
            </a: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colisión o el paso cercano de un objeto masiv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932360" y="0"/>
            <a:ext cx="2592360" cy="68580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1258920" y="0"/>
            <a:ext cx="2687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80880" y="304920"/>
            <a:ext cx="8458200" cy="59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Teorías del tipo (ii) son por lo general descartadas (muy baja probabilidad de existencia de objetos rasantes en el lugar adecuado y en el momento preciso), además porque se observa nubes de gas que están evolucionando hacia estrellas parecidas al S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Nubes gigantes y obscuras de gas y polvo se debieron colectar cerca del plano de la galaxi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La temperatura es de aproximadamente de 10</a:t>
            </a:r>
            <a:r>
              <a:rPr b="0" lang="es-MX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°K (lejos de estrellas brillantes), o suficientemente baja para que se formen los componentes sólidos (hielo/roca) y así formar granos de polvo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l colapso gravitacional de una nube puede ser gatillada por la </a:t>
            </a:r>
            <a:r>
              <a:rPr b="0" lang="es-MX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cercanía de una supernova</a:t>
            </a:r>
            <a:r>
              <a:rPr b="0" lang="es-MX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y por </a:t>
            </a:r>
            <a:r>
              <a:rPr b="0" lang="es-MX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inestabilidades propias del gas en rot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ipicamente, muchas masas solares de gas y polvo colapsan simultáneamente hacia un cluster abierto de estrell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533520" y="45720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6858000" cy="50752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228600" y="533412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 u="sng">
                <a:solidFill>
                  <a:srgbClr val="ccccff"/>
                </a:solidFill>
                <a:uFillTx/>
                <a:latin typeface="Times New Roman"/>
              </a:rPr>
              <a:t>Las </a:t>
            </a:r>
            <a:r>
              <a:rPr b="0" lang="es-ES" sz="2400" spc="-1" strike="noStrike" u="sng">
                <a:solidFill>
                  <a:srgbClr val="ccccff"/>
                </a:solidFill>
                <a:uFillTx/>
                <a:latin typeface="Times New Roman"/>
              </a:rPr>
              <a:t>Pl</a:t>
            </a:r>
            <a:r>
              <a:rPr b="0" lang="es-MX" sz="2400" spc="-1" strike="noStrike" u="sng">
                <a:solidFill>
                  <a:srgbClr val="ccccff"/>
                </a:solidFill>
                <a:uFillTx/>
                <a:latin typeface="Times New Roman"/>
              </a:rPr>
              <a:t>éy</a:t>
            </a:r>
            <a:r>
              <a:rPr b="0" lang="es-ES" sz="2400" spc="-1" strike="noStrike" u="sng">
                <a:solidFill>
                  <a:srgbClr val="ccccff"/>
                </a:solidFill>
                <a:uFillTx/>
                <a:latin typeface="Times New Roman"/>
              </a:rPr>
              <a:t>ade</a:t>
            </a:r>
            <a:r>
              <a:rPr b="0" lang="es-MX" sz="2400" spc="-1" strike="noStrike" u="sng">
                <a:solidFill>
                  <a:srgbClr val="ccccff"/>
                </a:solidFill>
                <a:uFillTx/>
                <a:latin typeface="Times New Roman"/>
              </a:rPr>
              <a:t>s (o M45),</a:t>
            </a:r>
            <a:r>
              <a:rPr b="0" lang="es-MX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ccccff"/>
                </a:solidFill>
                <a:latin typeface="Times New Roman"/>
              </a:rPr>
              <a:t>puede ser visto a simple vista. Es uno de los más cercanos y brillosos “open clusters” o cúmulos abiertos. Contiene más de 3000 estrellas y está a unos 400 años-luz de distancia de nuestro sistema solar. Tiene solo 13 años-luz de anch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467480" y="457200"/>
            <a:ext cx="1676520" cy="45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00"/>
                </a:solidFill>
                <a:latin typeface="Verdana"/>
              </a:rPr>
              <a:t>Son las siete hijas de </a:t>
            </a:r>
            <a:r>
              <a:rPr b="0" lang="es-ES" sz="12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Atlante</a:t>
            </a:r>
            <a:r>
              <a:rPr b="0" lang="es-ES" sz="1200" spc="-1" strike="noStrike">
                <a:solidFill>
                  <a:srgbClr val="ffff00"/>
                </a:solidFill>
                <a:latin typeface="Verdana"/>
              </a:rPr>
              <a:t> y </a:t>
            </a:r>
            <a:r>
              <a:rPr b="0" lang="es-ES" sz="12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Pleíone</a:t>
            </a:r>
            <a:r>
              <a:rPr b="0" lang="es-ES" sz="1200" spc="-1" strike="noStrike">
                <a:solidFill>
                  <a:srgbClr val="ffff00"/>
                </a:solidFill>
                <a:latin typeface="Verdana"/>
              </a:rPr>
              <a:t>. Compañeras de Artemis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00"/>
                </a:solidFill>
                <a:latin typeface="Verdana"/>
              </a:rPr>
              <a:t>Los dioses las convirtieron en palomas y colocaron sus imágenes en el firmamento tras la muerte de Orió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00"/>
                </a:solidFill>
                <a:latin typeface="Verdana"/>
              </a:rPr>
              <a:t>Las pléyades era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00"/>
                </a:solidFill>
                <a:latin typeface="Verdana"/>
              </a:rPr>
              <a:t>Alcíone</a:t>
            </a:r>
            <a:r>
              <a:rPr b="0" lang="es-E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00"/>
                </a:solidFill>
                <a:latin typeface="Verdana"/>
              </a:rPr>
              <a:t>Celeno</a:t>
            </a:r>
            <a:r>
              <a:rPr b="0" lang="es-E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00"/>
                </a:solidFill>
                <a:latin typeface="Verdana"/>
              </a:rPr>
              <a:t>Electra</a:t>
            </a:r>
            <a:r>
              <a:rPr b="0" lang="es-E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00"/>
                </a:solidFill>
                <a:latin typeface="Verdana"/>
              </a:rPr>
              <a:t>Estérope</a:t>
            </a:r>
            <a:r>
              <a:rPr b="0" lang="es-E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00"/>
                </a:solidFill>
                <a:latin typeface="Verdana"/>
              </a:rPr>
              <a:t>Maya</a:t>
            </a:r>
            <a:r>
              <a:rPr b="0" lang="es-E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00"/>
                </a:solidFill>
                <a:latin typeface="Verdana"/>
              </a:rPr>
              <a:t>Mérope</a:t>
            </a:r>
            <a:r>
              <a:rPr b="0" lang="es-E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00"/>
                </a:solidFill>
                <a:latin typeface="Verdana"/>
              </a:rPr>
              <a:t>Taígete</a:t>
            </a:r>
            <a:r>
              <a:rPr b="0" lang="es-E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80880" y="304920"/>
            <a:ext cx="8458200" cy="61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Una vez gatillado el colapso de un objeto de tamaño del Sol a partir de su diámetro inicial (~ 1 año-luz) el proceso tomaría ~ 1Ma (incluso en ausencia de los efectos retardadores del campo magnético y de rotación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Los cúmulos abiertos (open clusters) de estrellas que se formaron al mismo tiempo que el Sol se dispersaron puesto que colapsaron. Uno de los clusters más recientes es Sirius y varias de las estrellas de la Osa mayor (Big Dipper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 u="sng">
                <a:solidFill>
                  <a:srgbClr val="ffff00"/>
                </a:solidFill>
                <a:uFillTx/>
                <a:latin typeface="Times New Roman"/>
              </a:rPr>
              <a:t>PROBLEMA: PRIMERA ETAPA DEL SISTEMA SO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La composición general de los planetas y cuerpos más pequeños del sistema solar puede entenderse considerando la formación de los planetas a partir de una nebulosa de composición sol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s-MX" sz="2400" spc="-1" strike="noStrike" u="sng">
                <a:solidFill>
                  <a:srgbClr val="ffff00"/>
                </a:solidFill>
                <a:uFillTx/>
                <a:latin typeface="Times New Roman"/>
              </a:rPr>
              <a:t>LA NEBULOSA SO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80880" y="380880"/>
            <a:ext cx="8305920" cy="61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Nos concentraremos sobre los aspectos mecánicos del polvo en la nebulosa solar inicial (lógico ya que nuestro énfasis es comprender el planeta Tierra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Las condiciones en las primeras etapas del sistema solar se acepta que son bastante bien delimitadas comparada con el proceso de acreción de los planetas que le sucedi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Las evidencias directas provienen por los granos en los meteoritos que han sobrevivido desde los tiempos de la nebulosa sol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Una condición de borde adicional es la masa y composición de los planetas que acretaron </a:t>
            </a:r>
            <a:r>
              <a:rPr b="0" lang="es-MX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 Masa mínima de la nebulosa solar, una vez que el Sol ya fue formado, igual a la necesaria para formar los planetas existentes más el gas y elementos volátiles que no acrecionaron con los planetas terrestres (aprox 0.01 masas solare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04920" y="304920"/>
            <a:ext cx="8610480" cy="64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Estos gases constituyen ~98% de la masa del sistema so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El resto está compuesto principalmente 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Times New Roman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es-MX" sz="24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O, CO</a:t>
            </a:r>
            <a:r>
              <a:rPr b="0" lang="es-MX" sz="24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, CH</a:t>
            </a:r>
            <a:r>
              <a:rPr b="0" lang="es-MX" sz="2400" spc="-1" strike="noStrike" baseline="-25000">
                <a:solidFill>
                  <a:srgbClr val="ffff00"/>
                </a:solidFill>
                <a:latin typeface="Times New Roman"/>
              </a:rPr>
              <a:t>4</a:t>
            </a: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 y H</a:t>
            </a:r>
            <a:r>
              <a:rPr b="0" lang="es-MX" sz="24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S, que pueden formar hielo en las regiones más frías del sistema solar </a:t>
            </a:r>
            <a:r>
              <a:rPr b="0" lang="es-MX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 15% de la masa total del sistema sol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Times New Roman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Silicatos y Hierro que forman parte de los planetas terrestres </a:t>
            </a:r>
            <a:r>
              <a:rPr b="0" lang="es-MX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 5% de la masa total del sistema sol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Hay 4 clases de Planet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Planetas Gigantes: Júpiter y Saturno, los cuales retienen una fracción sustancial de los elementos gaseosos del sistema sol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Planetas Gigantes de Hielo: Urano y Neptuno, compuestos principalmente de hielo con sólo 10% a 15% de ga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04920" y="380880"/>
            <a:ext cx="8458200" cy="618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La dinámica de una nebulosa solar de tamaño mínimo necesario para formar los planetas ha sido investigada con suficiente detalle los últimos 30 añ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Nuestro análisis parte con un Sol que ya ha sido esencialmente formado y la nebulosa contraída a un tamaño aproximado al diámetro del sistema solar actual. </a:t>
            </a:r>
            <a:r>
              <a:rPr b="0" lang="es-MX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 Veremos la dinámica de un gas orbitando que contiene algunos cuerpos sóli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828800" y="3962520"/>
            <a:ext cx="2666880" cy="2514600"/>
          </a:xfrm>
          <a:prstGeom prst="ellipse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8120" y="5105520"/>
            <a:ext cx="228600" cy="228600"/>
          </a:xfrm>
          <a:prstGeom prst="ellipse">
            <a:avLst/>
          </a:prstGeom>
          <a:solidFill>
            <a:srgbClr val="ff66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95480" y="4952880"/>
            <a:ext cx="609840" cy="609840"/>
          </a:xfrm>
          <a:custGeom>
            <a:avLst/>
            <a:gdLst/>
            <a:ahLst/>
            <a:rect l="l" t="t" r="r" b="b"/>
            <a:pathLst>
              <a:path w="352" h="352">
                <a:moveTo>
                  <a:pt x="0" y="288"/>
                </a:moveTo>
                <a:cubicBezTo>
                  <a:pt x="68" y="320"/>
                  <a:pt x="136" y="352"/>
                  <a:pt x="192" y="336"/>
                </a:cubicBezTo>
                <a:cubicBezTo>
                  <a:pt x="248" y="320"/>
                  <a:pt x="320" y="248"/>
                  <a:pt x="336" y="192"/>
                </a:cubicBezTo>
                <a:cubicBezTo>
                  <a:pt x="352" y="136"/>
                  <a:pt x="320" y="68"/>
                  <a:pt x="288" y="0"/>
                </a:cubicBezTo>
              </a:path>
            </a:pathLst>
          </a:custGeom>
          <a:noFill/>
          <a:ln w="19080">
            <a:solidFill>
              <a:srgbClr val="ff99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 flipV="1">
            <a:off x="2209680" y="4419720"/>
            <a:ext cx="990720" cy="83808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48120" y="47242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Times New Roman"/>
              </a:rPr>
              <a:t>S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438280" y="434340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6ff33"/>
                </a:solidFill>
                <a:latin typeface="Times New Roman"/>
              </a:rPr>
              <a:t>r</a:t>
            </a:r>
            <a:r>
              <a:rPr b="0" lang="es-MX" sz="1800" spc="-1" strike="noStrike" baseline="-25000">
                <a:solidFill>
                  <a:srgbClr val="66ff33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rot="38400">
            <a:off x="4419720" y="502884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172200" y="4495680"/>
            <a:ext cx="990720" cy="9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5866920" y="4495680"/>
            <a:ext cx="304920" cy="22860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866920" y="5486400"/>
            <a:ext cx="304920" cy="22860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867280" y="4724280"/>
            <a:ext cx="0" cy="99072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67280" y="5715000"/>
            <a:ext cx="1067040" cy="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6857640" y="5486400"/>
            <a:ext cx="304920" cy="22860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495680" y="4648320"/>
            <a:ext cx="1524240" cy="38088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495680" y="5257800"/>
            <a:ext cx="1371600" cy="4572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848720" y="4800600"/>
            <a:ext cx="914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ffff00"/>
                </a:solidFill>
                <a:latin typeface="Times New Roman"/>
              </a:rPr>
              <a:t>P</a:t>
            </a:r>
            <a:r>
              <a:rPr b="0" i="1" lang="es-MX" sz="2000" spc="-1" strike="noStrike" baseline="-25000">
                <a:solidFill>
                  <a:srgbClr val="ffff00"/>
                </a:solidFill>
                <a:latin typeface="Times New Roman"/>
              </a:rPr>
              <a:t>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105520" y="4952880"/>
            <a:ext cx="914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ffff00"/>
                </a:solidFill>
                <a:latin typeface="Times New Roman"/>
              </a:rPr>
              <a:t>P</a:t>
            </a:r>
            <a:r>
              <a:rPr b="0" i="1" lang="es-MX" sz="2000" spc="-1" strike="noStrike" baseline="-25000">
                <a:solidFill>
                  <a:srgbClr val="ffff00"/>
                </a:solidFill>
                <a:latin typeface="Times New Roman"/>
              </a:rPr>
              <a:t>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638680" y="4876920"/>
            <a:ext cx="381240" cy="0"/>
          </a:xfrm>
          <a:prstGeom prst="line">
            <a:avLst/>
          </a:prstGeom>
          <a:ln w="381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638680" y="5105520"/>
            <a:ext cx="381240" cy="0"/>
          </a:xfrm>
          <a:prstGeom prst="line">
            <a:avLst/>
          </a:prstGeom>
          <a:ln w="381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638680" y="5410080"/>
            <a:ext cx="381240" cy="0"/>
          </a:xfrm>
          <a:prstGeom prst="line">
            <a:avLst/>
          </a:prstGeom>
          <a:ln w="381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 flipV="1">
            <a:off x="7315560" y="4714560"/>
            <a:ext cx="380160" cy="19440"/>
          </a:xfrm>
          <a:prstGeom prst="line">
            <a:avLst/>
          </a:prstGeom>
          <a:ln w="381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7315200" y="5027400"/>
            <a:ext cx="380880" cy="5040"/>
          </a:xfrm>
          <a:prstGeom prst="line">
            <a:avLst/>
          </a:prstGeom>
          <a:ln w="381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 flipV="1">
            <a:off x="7315560" y="5400360"/>
            <a:ext cx="380160" cy="19440"/>
          </a:xfrm>
          <a:prstGeom prst="line">
            <a:avLst/>
          </a:prstGeom>
          <a:ln w="381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04920" y="3429000"/>
            <a:ext cx="14475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Nebulosa aplanada orbitando en torno al Sol (eclíptica actual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04920" y="152280"/>
            <a:ext cx="8534160" cy="67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La velocidad angular del gas es menor que la de las partículas sólidas debido a que la presión del gas resiste la caída del gas hacia el Sol (similarmente como la presión de la atmósfera terrestre evita su colapso hacia la superficie del planeta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La diferencia de velocidad orbital entre el sólido y el gas se obtiene asumiendo que, para un rango pequeño de distancia desde el Sol, la presión del gas a lo largo del plano de la Eclíptica varía aproximadamente como una ley de potenci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Las fuerzas sobre el pequeño volúmen de cubo orbitando de lados </a:t>
            </a:r>
            <a:r>
              <a:rPr b="0" i="1" lang="es-MX" sz="2400" spc="-1" strike="noStrike">
                <a:solidFill>
                  <a:srgbClr val="ffff00"/>
                </a:solidFill>
                <a:latin typeface="Times New Roman"/>
              </a:rPr>
              <a:t>dr, dx </a:t>
            </a: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y</a:t>
            </a:r>
            <a:r>
              <a:rPr b="0" i="1" lang="es-MX" sz="2400" spc="-1" strike="noStrike">
                <a:solidFill>
                  <a:srgbClr val="ffff00"/>
                </a:solidFill>
                <a:latin typeface="Times New Roman"/>
              </a:rPr>
              <a:t> dz, </a:t>
            </a: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responden a un balance de fuerzas entre gravedad y centrífuga en la dirección rad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3200400" y="3505320"/>
                <a:ext cx="2451240" cy="75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f>
                      <m:fPr>
                        <m:type m:val="lin"/>
                      </m:fPr>
                      <m:num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ν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ν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2209680" y="5853240"/>
                <a:ext cx="5639040" cy="94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r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z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ρ</m:t>
                    </m:r>
                    <m:d>
                      <m:dPr>
                        <m:begChr m:val="["/>
                        <m:endChr m:val="]"/>
                      </m:dPr>
                      <m:e>
                        <m:sSubSup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GM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num>
                          <m:den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3</m:t>
                                </m:r>
                              </m:sup>
                            </m:sSubSup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XT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T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z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04920" y="304920"/>
            <a:ext cx="8610480" cy="65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Así obtenem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Una relación en términos de </a:t>
            </a:r>
            <a:r>
              <a:rPr b="0" i="1" lang="es-MX" sz="2400" spc="-1" strike="noStrike">
                <a:solidFill>
                  <a:srgbClr val="ffff00"/>
                </a:solidFill>
                <a:latin typeface="Times New Roman"/>
              </a:rPr>
              <a:t>P</a:t>
            </a: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 es obtenida usando la Ley de gases idea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ffff00"/>
                </a:solidFill>
                <a:latin typeface="Times New Roman"/>
              </a:rPr>
              <a:t>V </a:t>
            </a: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es el volúmen del gas, </a:t>
            </a:r>
            <a:r>
              <a:rPr b="0" i="1" lang="es-MX" sz="2400" spc="-1" strike="noStrike">
                <a:solidFill>
                  <a:srgbClr val="ffff00"/>
                </a:solidFill>
                <a:latin typeface="Times New Roman"/>
              </a:rPr>
              <a:t>n </a:t>
            </a: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el número de moles, </a:t>
            </a:r>
            <a:r>
              <a:rPr b="0" i="1" lang="es-MX" sz="2400" spc="-1" strike="noStrike">
                <a:solidFill>
                  <a:srgbClr val="ffff00"/>
                </a:solidFill>
                <a:latin typeface="Times New Roman"/>
              </a:rPr>
              <a:t>R</a:t>
            </a: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 la constante universal de los gases (8314 J kmole</a:t>
            </a:r>
            <a:r>
              <a:rPr b="0" lang="es-MX" sz="2400" spc="-1" strike="noStrike" baseline="30000">
                <a:solidFill>
                  <a:srgbClr val="ffff00"/>
                </a:solidFill>
                <a:latin typeface="Times New Roman"/>
              </a:rPr>
              <a:t>-1</a:t>
            </a: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), y </a:t>
            </a:r>
            <a:r>
              <a:rPr b="0" i="1" lang="es-MX" sz="2400" spc="-1" strike="noStrike">
                <a:solidFill>
                  <a:srgbClr val="ffff00"/>
                </a:solidFill>
                <a:latin typeface="Times New Roman"/>
              </a:rPr>
              <a:t>T</a:t>
            </a: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 la temperatura absoluta. El volúmen se relaciona con la densidad p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2514600" y="990720"/>
                <a:ext cx="3746520" cy="97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ρ</m:t>
                    </m:r>
                    <m:d>
                      <m:dPr>
                        <m:begChr m:val="["/>
                        <m:endChr m:val="]"/>
                      </m:dPr>
                      <m:e>
                        <m:sSubSup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GM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num>
                          <m:den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3</m:t>
                                </m:r>
                              </m:sup>
                            </m:sSubSup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νP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3276720" y="3276720"/>
                <a:ext cx="19047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V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R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762120" y="5562720"/>
                <a:ext cx="190476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=</m:t>
                    </m:r>
                    <m:r>
                      <m:t xml:space="preserve">m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3" name=""/>
          <p:cNvSpPr/>
          <p:nvPr/>
        </p:nvSpPr>
        <p:spPr>
          <a:xfrm>
            <a:off x="3352680" y="5410080"/>
            <a:ext cx="510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ffff00"/>
                </a:solidFill>
                <a:latin typeface="Times New Roman"/>
              </a:rPr>
              <a:t>m</a:t>
            </a: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 es el peso molecular medio (2 kg kmlole</a:t>
            </a:r>
            <a:r>
              <a:rPr b="0" lang="es-MX" sz="2400" spc="-1" strike="noStrike" baseline="30000">
                <a:solidFill>
                  <a:srgbClr val="ffff00"/>
                </a:solidFill>
                <a:latin typeface="Times New Roman"/>
              </a:rPr>
              <a:t>-1</a:t>
            </a: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 en la nebulosa sol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04920" y="304920"/>
            <a:ext cx="8686800" cy="65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Sustituyendo </a:t>
            </a:r>
            <a:r>
              <a:rPr b="0" lang="es-MX" sz="2400" spc="-1" strike="noStrike">
                <a:solidFill>
                  <a:srgbClr val="ffff00"/>
                </a:solidFill>
                <a:latin typeface="Symbol"/>
                <a:ea typeface="Symbol"/>
              </a:rPr>
              <a:t></a:t>
            </a: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 obtenem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Resolviendo para la velocidad angular del volumen de g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2971800" y="914400"/>
                <a:ext cx="2895480" cy="100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sSubSup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GM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num>
                          <m:den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3</m:t>
                                </m:r>
                              </m:sup>
                            </m:sSubSup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ν</m:t>
                        </m:r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num>
                      <m:den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2209680" y="2590920"/>
                <a:ext cx="4267440" cy="113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GM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num>
                              <m:den>
                                <m:sSubSup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ν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Tr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mGM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 rot="16200000">
            <a:off x="3504960" y="350460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rot="16200000">
            <a:off x="5181480" y="3200040"/>
            <a:ext cx="152280" cy="1676160"/>
          </a:xfrm>
          <a:custGeom>
            <a:avLst/>
            <a:gdLst>
              <a:gd name="textAreaLeft" fmla="*/ 97200 w 152280"/>
              <a:gd name="textAreaRight" fmla="*/ 152640 w 152280"/>
              <a:gd name="textAreaTop" fmla="*/ 43560 h 1676160"/>
              <a:gd name="textAreaBottom" fmla="*/ 1632600 h 1676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62120" y="5181480"/>
            <a:ext cx="2514600" cy="954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66ff33"/>
                </a:solidFill>
                <a:latin typeface="Verdana"/>
              </a:rPr>
              <a:t>Velocidad angular de un planeta sólido en ausencia de gas (</a:t>
            </a:r>
            <a:r>
              <a:rPr b="0" i="1" lang="es-MX" sz="1800" spc="-1" strike="noStrike">
                <a:solidFill>
                  <a:srgbClr val="66ff33"/>
                </a:solidFill>
                <a:latin typeface="Symbol"/>
                <a:ea typeface="Symbol"/>
              </a:rPr>
              <a:t></a:t>
            </a:r>
            <a:r>
              <a:rPr b="0" i="1" lang="es-MX" sz="1800" spc="-1" strike="noStrike" baseline="-25000">
                <a:solidFill>
                  <a:srgbClr val="66ff33"/>
                </a:solidFill>
                <a:latin typeface="Verdana"/>
              </a:rPr>
              <a:t>P</a:t>
            </a:r>
            <a:r>
              <a:rPr b="0" i="1" lang="es-MX" sz="1800" spc="-1" strike="noStrike">
                <a:solidFill>
                  <a:srgbClr val="66ff33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2057040" y="4038480"/>
            <a:ext cx="1523880" cy="1143000"/>
          </a:xfrm>
          <a:prstGeom prst="line">
            <a:avLst/>
          </a:prstGeom>
          <a:ln w="19080">
            <a:solidFill>
              <a:srgbClr val="00f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029200" y="5181480"/>
            <a:ext cx="3352680" cy="916920"/>
          </a:xfrm>
          <a:prstGeom prst="rect">
            <a:avLst/>
          </a:prstGeom>
          <a:solidFill>
            <a:srgbClr val="333399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66ff33"/>
                </a:solidFill>
                <a:latin typeface="Verdana"/>
              </a:rPr>
              <a:t>Para presiones realistas en la nebulosa solar este término es &lt;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257800" y="4114800"/>
            <a:ext cx="1447920" cy="1066680"/>
          </a:xfrm>
          <a:prstGeom prst="line">
            <a:avLst/>
          </a:prstGeom>
          <a:ln w="19080">
            <a:solidFill>
              <a:srgbClr val="00f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04920" y="304920"/>
            <a:ext cx="8610480" cy="65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Aplicando un desarrollo em serie de Taylor tenem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2655720" y="1171440"/>
                <a:ext cx="3221280" cy="10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ν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RTr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GM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5" name=""/>
          <p:cNvSpPr/>
          <p:nvPr/>
        </p:nvSpPr>
        <p:spPr>
          <a:xfrm rot="5400000">
            <a:off x="5066640" y="1942920"/>
            <a:ext cx="152640" cy="1143000"/>
          </a:xfrm>
          <a:custGeom>
            <a:avLst/>
            <a:gdLst>
              <a:gd name="textAreaLeft" fmla="*/ 0 w 152640"/>
              <a:gd name="textAreaRight" fmla="*/ 55080 w 15264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870360" y="3622680"/>
            <a:ext cx="1768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724280" y="3352680"/>
            <a:ext cx="4191120" cy="119124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6ff33"/>
                </a:solidFill>
                <a:latin typeface="Times New Roman"/>
              </a:rPr>
              <a:t>Perturbación relativa de la tasa de rotación del gas respecto a la de las partículas sólid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181480" y="2590920"/>
            <a:ext cx="1600200" cy="76176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143000" y="4419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0880" y="3657600"/>
            <a:ext cx="335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La perturbación de la tasa de rotación es expresada com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1066680" y="5181480"/>
                <a:ext cx="7391520" cy="12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Ω</m:t>
                    </m:r>
                    <m:r>
                      <m:t xml:space="preserve">≡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ν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RTr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GM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ν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num>
                          <m:den>
                            <m:r>
                              <m:t xml:space="preserve">2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r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04920" y="152280"/>
            <a:ext cx="8610480" cy="68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La perturbación relativa en cosmología se expresa comúnmente en términos de la velocidad isotermal del sonido </a:t>
            </a:r>
            <a:r>
              <a:rPr b="0" i="1" lang="es-MX" sz="24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i="1" lang="es-MX" sz="2400" spc="-1" strike="noStrike" baseline="-25000">
                <a:solidFill>
                  <a:srgbClr val="ffff00"/>
                </a:solidFill>
                <a:latin typeface="Times New Roman"/>
              </a:rPr>
              <a:t>T</a:t>
            </a:r>
            <a:r>
              <a:rPr b="0" i="1" lang="es-MX" sz="24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r>
              <a:rPr b="0" i="1" lang="es-MX" sz="2400" spc="-1" strike="noStrike">
                <a:solidFill>
                  <a:srgbClr val="ffff00"/>
                </a:solidFill>
                <a:latin typeface="Times New Roman"/>
              </a:rPr>
              <a:t> = K</a:t>
            </a:r>
            <a:r>
              <a:rPr b="0" i="1" lang="es-MX" sz="2400" spc="-1" strike="noStrike" baseline="-25000">
                <a:solidFill>
                  <a:srgbClr val="ffff00"/>
                </a:solidFill>
                <a:latin typeface="Times New Roman"/>
              </a:rPr>
              <a:t>T</a:t>
            </a:r>
            <a:r>
              <a:rPr b="0" i="1" lang="es-MX" sz="2400" spc="-1" strike="noStrike">
                <a:solidFill>
                  <a:srgbClr val="ffff00"/>
                </a:solidFill>
                <a:latin typeface="Times New Roman"/>
              </a:rPr>
              <a:t>/</a:t>
            </a:r>
            <a:r>
              <a:rPr b="0" i="1" lang="es-MX" sz="2400" spc="-1" strike="noStrike">
                <a:solidFill>
                  <a:srgbClr val="ffff00"/>
                </a:solidFill>
                <a:latin typeface="Symbol"/>
                <a:ea typeface="Symbol"/>
              </a:rPr>
              <a:t></a:t>
            </a: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donde el módulo volumétrico isotermal 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Para la Tierra, r</a:t>
            </a:r>
            <a:r>
              <a:rPr b="0" lang="es-MX" sz="2400" spc="-1" strike="noStrike" baseline="-25000">
                <a:solidFill>
                  <a:srgbClr val="ffff00"/>
                </a:solidFill>
                <a:latin typeface="Times New Roman"/>
              </a:rPr>
              <a:t>S</a:t>
            </a: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 = 150x10</a:t>
            </a:r>
            <a:r>
              <a:rPr b="0" lang="es-MX" sz="2400" spc="-1" strike="noStrike" baseline="30000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 km y </a:t>
            </a:r>
            <a:r>
              <a:rPr b="0" lang="es-MX" sz="24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s-MX" sz="2400" spc="-1" strike="noStrike" baseline="-25000">
                <a:solidFill>
                  <a:srgbClr val="ffff00"/>
                </a:solidFill>
                <a:latin typeface="Times New Roman"/>
              </a:rPr>
              <a:t>P</a:t>
            </a: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=2x10</a:t>
            </a:r>
            <a:r>
              <a:rPr b="0" lang="es-MX" sz="2400" spc="-1" strike="noStrike" baseline="30000">
                <a:solidFill>
                  <a:srgbClr val="ffff00"/>
                </a:solidFill>
                <a:latin typeface="Times New Roman"/>
              </a:rPr>
              <a:t>-7</a:t>
            </a: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 s</a:t>
            </a:r>
            <a:r>
              <a:rPr b="0" lang="es-MX" sz="2400" spc="-1" strike="noStrike" baseline="30000">
                <a:solidFill>
                  <a:srgbClr val="ffff00"/>
                </a:solidFill>
                <a:latin typeface="Times New Roman"/>
              </a:rPr>
              <a:t>-1</a:t>
            </a: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El factor </a:t>
            </a:r>
            <a:r>
              <a:rPr b="0" lang="es-MX" sz="2400" spc="-1" strike="noStrike">
                <a:solidFill>
                  <a:srgbClr val="ffff00"/>
                </a:solidFill>
                <a:latin typeface="Symbol"/>
                <a:ea typeface="Symbol"/>
              </a:rPr>
              <a:t></a:t>
            </a: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/2 es ~1 y asumiendo que T~1000</a:t>
            </a:r>
            <a:r>
              <a:rPr b="0" lang="es-MX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°K </a:t>
            </a:r>
            <a:r>
              <a:rPr b="0" lang="es-MX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s-MX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la perturbación en rotación es 2x10</a:t>
            </a:r>
            <a:r>
              <a:rPr b="0" lang="es-MX" sz="24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-9</a:t>
            </a:r>
            <a:r>
              <a:rPr b="0" lang="es-MX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s</a:t>
            </a:r>
            <a:r>
              <a:rPr b="0" lang="es-MX" sz="24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-1</a:t>
            </a:r>
            <a:r>
              <a:rPr b="0" lang="es-MX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o bien el 1% de la tasa de rot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733920" y="1295280"/>
                <a:ext cx="2330280" cy="112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</m:t>
                        </m:r>
                        <m:r>
                          <m:t xml:space="preserve">Ω</m:t>
                        </m:r>
                      </m:num>
                      <m:den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sSubSup>
                              <m:e>
                                <m:r>
                                  <m:t xml:space="preserve">νc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2</m:t>
                            </m:r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sSubSup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2960640" y="3395520"/>
                <a:ext cx="3421080" cy="103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≡</m:t>
                    </m:r>
                    <m:r>
                      <m:t xml:space="preserve">−</m:t>
                    </m:r>
                    <m:r>
                      <m:t xml:space="preserve">V</m:t>
                    </m:r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P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V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ρ</m:t>
                        </m:r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04920" y="304920"/>
            <a:ext cx="8839080" cy="688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Las partículas sólidas orbitando en torno al Sol tienen velocidades angulares suavemente mayores que la del gas que las rodea </a:t>
            </a:r>
            <a:r>
              <a:rPr b="0" lang="es-MX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 las partículas experimentan una fuerza de “arrastre” o drag for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El efecto de la drag force es </a:t>
            </a:r>
            <a:r>
              <a:rPr b="0" lang="es-MX" sz="2400" spc="-1" strike="noStrike" u="sng">
                <a:solidFill>
                  <a:srgbClr val="ffff00"/>
                </a:solidFill>
                <a:uFillTx/>
                <a:latin typeface="Times New Roman"/>
              </a:rPr>
              <a:t>menos</a:t>
            </a: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 pronunciado sobre cuerpos en órbita circular y/o más cerca del plano de la eclípt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Los cuerpos en órbitas elípticas se mueven mucho más rápido que el gas cuando están cerca del Sol y mucho más lento que el gas cuando están más lejos del Sol. </a:t>
            </a:r>
            <a:r>
              <a:rPr b="0" lang="es-MX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 al pasar el tiempo los procesos tienden a perturbar las órbitas y a hacerlas circula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Se estima que la presión del gas a la posición que tiene actualmente la Tierra debió haber sido del orden de 10</a:t>
            </a:r>
            <a:r>
              <a:rPr b="0" lang="es-MX" sz="2400" spc="-1" strike="noStrike" baseline="30000">
                <a:solidFill>
                  <a:srgbClr val="ffff00"/>
                </a:solidFill>
                <a:latin typeface="Times New Roman"/>
              </a:rPr>
              <a:t>-3</a:t>
            </a: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 atm o 10</a:t>
            </a:r>
            <a:r>
              <a:rPr b="0" lang="es-MX" sz="2400" spc="-1" strike="noStrike" baseline="30000">
                <a:solidFill>
                  <a:srgbClr val="ffff00"/>
                </a:solidFill>
                <a:latin typeface="Times New Roman"/>
              </a:rPr>
              <a:t>2 </a:t>
            </a: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Pa. A esta presión el gas es suficientemente denso y ejerce un arrastre significativo incluso sobre objetos o cuerpos grandes. Los granos levemente más grandes tienden a orbitar esencialmente a la velocidad del gas y terminan por caer hacia el Sol debido a la perturbación del 1% entre su aceleración ( rotación con el gas) y la de gravedad a causa del S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304920" y="228600"/>
            <a:ext cx="8839080" cy="63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La diferencia de velocidad entre el gas y los objetos o cuerpos formados en la nebulosa solar hacen que el proceso sea ines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Aparece una tendencia, debido al intercambio de momento angular  dentro de la nebulosa solar entre gas y partículas, que hace que el material más cerca del Sol tienda a ir o “a caer” hacia el interior de la órbita y el material más alejado tienda a ir hacia el exterior de la órbita. </a:t>
            </a:r>
            <a:r>
              <a:rPr b="0" lang="es-MX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 inestabilidad que surge en todos los modelos propues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Los tiempos involucrados en esta “segregación” (cálculos obtenidos de modelos con gran aceptación por todos), idican que cuerpos densos y grandes toman más tiempo en “caer” que los menos densos y pequeños. Esto a causa del drag force. Así por ejemplo, para un cuerpo de 1 km de radio, a la distancia del Sol que corresponde a la Tierra, el tiempo involucrado en esta segregación es de 1000 años, asumiendo una densidad de 3000 kg m</a:t>
            </a:r>
            <a:r>
              <a:rPr b="0" lang="es-MX" sz="2400" spc="-1" strike="noStrike" baseline="30000">
                <a:solidFill>
                  <a:srgbClr val="ffff00"/>
                </a:solidFill>
                <a:latin typeface="Times New Roman"/>
              </a:rPr>
              <a:t>-3</a:t>
            </a: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,  una temperatura de 1000</a:t>
            </a:r>
            <a:r>
              <a:rPr b="0" lang="es-MX" sz="2400" spc="-1" strike="noStrike">
                <a:solidFill>
                  <a:srgbClr val="ffff00"/>
                </a:solidFill>
                <a:latin typeface="Symbol"/>
                <a:ea typeface="Symbol"/>
              </a:rPr>
              <a:t></a:t>
            </a: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K y una presión de 10</a:t>
            </a:r>
            <a:r>
              <a:rPr b="0" lang="es-MX" sz="24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 Pa. El tiempo para un cuerpo de 1000 km de radio es de 1 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04920" y="304920"/>
            <a:ext cx="8610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" y="0"/>
            <a:ext cx="8305920" cy="67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00"/>
                </a:solidFill>
                <a:latin typeface="Times New Roman"/>
              </a:rPr>
              <a:t>La diferencia de velocidad entre el gas y un cuerpo está relacionada a la perturbación de velocidad entre amb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00"/>
                </a:solidFill>
                <a:latin typeface="Times New Roman"/>
              </a:rPr>
              <a:t>En un tiempo dado, el cuerpo a través de un volumen correspondiente a un “tubo” de gas de sección igual al diámetro del cuerpo. La masa de gas en este volumen 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00"/>
                </a:solidFill>
                <a:latin typeface="Times New Roman"/>
              </a:rPr>
              <a:t>Donde r</a:t>
            </a:r>
            <a:r>
              <a:rPr b="0" lang="es-CL" sz="2400" spc="-1" strike="noStrike" baseline="-25000">
                <a:solidFill>
                  <a:srgbClr val="ffff00"/>
                </a:solidFill>
                <a:latin typeface="Times New Roman"/>
              </a:rPr>
              <a:t>b</a:t>
            </a:r>
            <a:r>
              <a:rPr b="0" lang="es-CL" sz="2400" spc="-1" strike="noStrike">
                <a:solidFill>
                  <a:srgbClr val="ffff00"/>
                </a:solidFill>
                <a:latin typeface="Times New Roman"/>
              </a:rPr>
              <a:t> es el radio del cuerpo y t el intervalo de tiemp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00"/>
                </a:solidFill>
                <a:latin typeface="Times New Roman"/>
              </a:rPr>
              <a:t>El tiempo característico para que un cuerpo disminuya su velocidad en una cantidad </a:t>
            </a:r>
            <a:r>
              <a:rPr b="0" lang="es-CL" sz="24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s-CL" sz="2400" spc="-1" strike="noStrike">
                <a:solidFill>
                  <a:srgbClr val="ffff00"/>
                </a:solidFill>
                <a:latin typeface="Times New Roman"/>
              </a:rPr>
              <a:t>v es el tiempo para que éste pase por una masa a través de una masa de gas igual a su mas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3200400" y="990720"/>
                <a:ext cx="19432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v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Δ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1676520" y="3505320"/>
                <a:ext cx="5181480" cy="11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π</m:t>
                    </m:r>
                    <m:r>
                      <m:t xml:space="preserve"> </m:t>
                    </m:r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Δvρt</m:t>
                    </m:r>
                    <m:r>
                      <m:t xml:space="preserve">=</m:t>
                    </m:r>
                    <m:r>
                      <m:t xml:space="preserve">π</m:t>
                    </m:r>
                    <m:r>
                      <m:t xml:space="preserve"> </m:t>
                    </m:r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Δv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den>
                    </m:f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57200" y="457200"/>
            <a:ext cx="8305920" cy="78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00"/>
                </a:solidFill>
                <a:latin typeface="Times New Roman"/>
              </a:rPr>
              <a:t>Así el tiempo característico 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00"/>
                </a:solidFill>
                <a:latin typeface="Times New Roman"/>
              </a:rPr>
              <a:t>Cuerpos grandes y densos toman más tiempo en “caer” que los pequeñ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00"/>
                </a:solidFill>
                <a:latin typeface="Times New Roman"/>
              </a:rPr>
              <a:t>El tiempo que tomaría un cuerpo en “caer” hacia el Sol dentro de esta nebulosa solar está dado p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2743200" y="914400"/>
                <a:ext cx="340992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sSubSup>
                          <m:e>
                            <m:r>
                              <m:t xml:space="preserve">πr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</m:sSubSup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sSubSup>
                      <m:e>
                        <m:r>
                          <m:t xml:space="preserve">πr</m:t>
                        </m:r>
                      </m:e>
                      <m:sub>
                        <m:r>
                          <m:t xml:space="preserve">b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Δv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den>
                    </m:f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3657600" y="2819520"/>
                <a:ext cx="203040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sSub>
                          <m:e>
                            <m:r>
                              <m:t xml:space="preserve">πr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Δv</m:t>
                        </m:r>
                        <m:r>
                          <m:rPr>
                            <m:lit/>
                            <m:nor/>
                          </m:rPr>
                          <m:t xml:space="preserve">mP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3352680" y="5502240"/>
                <a:ext cx="3124440" cy="102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v</m:t>
                        </m:r>
                      </m:num>
                      <m:den>
                        <m:r>
                          <m:t xml:space="preserve">Δv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r>
                          <m:t xml:space="preserve">3</m:t>
                        </m:r>
                        <m:r>
                          <m:t xml:space="preserve">Δ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m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52280" y="228600"/>
            <a:ext cx="8839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8763120" cy="68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ffff00"/>
                </a:solidFill>
                <a:latin typeface="Times New Roman"/>
              </a:rPr>
              <a:t>Planetas de Hielo: Los satélites más externos de Júpiter, los satélites mayores de otros planetas gigantes, Plutón y su satélite Char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ffff00"/>
                </a:solidFill>
                <a:latin typeface="Times New Roman"/>
              </a:rPr>
              <a:t>Planetas Terrestres: Mercurio, Venus, Tierra, Luna, Marte, Io y Europ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ffff00"/>
                </a:solidFill>
                <a:latin typeface="Times New Roman"/>
              </a:rPr>
              <a:t>Los Planetas Terrestres difieren unos c/r a otros en términos de composición, tamaño, distancia al Sol y en el caso de la Luna, Io y Europa, en relación a su estatus como satélites de otros planet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ffff00"/>
                </a:solidFill>
                <a:latin typeface="Times New Roman"/>
              </a:rPr>
              <a:t>Europa: Un satélite silicatado con una capa de hielo de 100 Km de espesor. Está entre los Planetas Terrestres y los Planetas de Hie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ffff00"/>
                </a:solidFill>
                <a:latin typeface="Times New Roman"/>
              </a:rPr>
              <a:t>Campo Magnético: Se ha observado en Mercurio (~100 a 400 nT según medidas del Mariner 10 en 1974 y 1975) y en la Tierra (~10.000 a 60.000 nT). Ambos campos magnéticos son pareci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ffff00"/>
                </a:solidFill>
                <a:latin typeface="Times New Roman"/>
              </a:rPr>
              <a:t>Flujo de Calor medido sólo en la Tierra y sólo en 2 lugares en la Lu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4920" y="304920"/>
            <a:ext cx="8686800" cy="618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ffff00"/>
                </a:solidFill>
                <a:latin typeface="Times New Roman"/>
              </a:rPr>
              <a:t>Sismicidad sólo observada en la Tierra y Lu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ffff00"/>
                </a:solidFill>
                <a:latin typeface="Times New Roman"/>
              </a:rPr>
              <a:t>Io es extremadamente activo y su superficie está cubierta por eyecciones volcánicas y de gases recie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00"/>
                </a:solidFill>
                <a:latin typeface="Times New Roman"/>
              </a:rPr>
              <a:t>La Tierra parece ser el único planeta con Tectónica de Placas activ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ffff00"/>
                </a:solidFill>
                <a:latin typeface="Times New Roman"/>
              </a:rPr>
              <a:t>Venus y Marte son activos pero menos que la Tier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ffff00"/>
                </a:solidFill>
                <a:latin typeface="Times New Roman"/>
              </a:rPr>
              <a:t>La Tierra, Venus, Marte, Titán y Plutón </a:t>
            </a:r>
            <a:r>
              <a:rPr b="0" lang="es-CL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s-CL" sz="2400" spc="-1" strike="noStrike">
                <a:solidFill>
                  <a:srgbClr val="ffff00"/>
                </a:solidFill>
                <a:latin typeface="Times New Roman"/>
              </a:rPr>
              <a:t> Tienen atmósfera importante </a:t>
            </a:r>
            <a:r>
              <a:rPr b="0" lang="es-CL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s-CL" sz="2400" spc="-1" strike="noStrike">
                <a:solidFill>
                  <a:srgbClr val="ffff00"/>
                </a:solidFill>
                <a:latin typeface="Times New Roman"/>
              </a:rPr>
              <a:t> en consecuencia Ciclos Sedimentari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ffff00"/>
                </a:solidFill>
                <a:latin typeface="Times New Roman"/>
              </a:rPr>
              <a:t>Tritón habría tenido una atmósfera importante en el pas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00"/>
                </a:solidFill>
                <a:latin typeface="Times New Roman"/>
              </a:rPr>
              <a:t>Mercurio y Luna son cuerpos tectónicamente inactivos y parece que desde hace mucho tiempo </a:t>
            </a:r>
            <a:r>
              <a:rPr b="0" lang="es-CL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s-CL" sz="2400" spc="-1" strike="noStrike">
                <a:solidFill>
                  <a:srgbClr val="ffff00"/>
                </a:solidFill>
                <a:latin typeface="Times New Roman"/>
              </a:rPr>
              <a:t> sus superficies aparecen con muchas evidencias de impactos de meteori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111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14400" y="0"/>
            <a:ext cx="7162920" cy="71596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990720" y="2286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00"/>
                </a:solidFill>
                <a:latin typeface="Times New Roman"/>
              </a:rPr>
              <a:t>Lu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080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33520" y="0"/>
            <a:ext cx="7781760" cy="68706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60958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00"/>
                </a:solidFill>
                <a:latin typeface="Times New Roman"/>
              </a:rPr>
              <a:t>Mercu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1206360"/>
            <a:ext cx="9144000" cy="44452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908000" y="260280"/>
            <a:ext cx="5761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371600"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lanetas del Sistema So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371600"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notar eje de rotac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885960"/>
            <a:ext cx="9144000" cy="50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2T22:22:56Z</dcterms:created>
  <dc:creator>Jaime Campos</dc:creator>
  <dc:description/>
  <dc:language>en-US</dc:language>
  <cp:lastModifiedBy>jaime</cp:lastModifiedBy>
  <dcterms:modified xsi:type="dcterms:W3CDTF">2004-08-06T16:05:36Z</dcterms:modified>
  <cp:revision>20</cp:revision>
  <dc:subject/>
  <dc:title>Presentación de PowerPoint</dc:title>
</cp:coreProperties>
</file>