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AE2-42FF-42EF-A166-739E582B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D49-CDFF-48FB-BC27-94296462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1AF-3E8C-4B17-9963-DB4B7962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322-347D-4FE2-B5F1-C4C318D3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B44-17F3-4C77-A4B1-F6B2325E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AA7-7D87-4F23-8002-A1AABF70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971-861C-43FB-9A3D-A3141666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8D0-9C9F-4F67-A13D-1EBB028D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BE9-3608-4890-BBC9-3F284644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120-4573-4281-B937-8CF45DAF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8AF-3E54-406C-B63D-C9642584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808-C325-403B-89B6-01E66A8E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35E1-453C-41E0-9103-BB4471AED1F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perso.wanadoo.es/jethrotull/grecia/arboles/a/atlante.htm" TargetMode="External"/><Relationship Id="rId3" Type="http://schemas.openxmlformats.org/officeDocument/2006/relationships/hyperlink" Target="http://perso.wanadoo.es/jethrotull/grecia/arboles/p/pleione.ht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52280"/>
            <a:ext cx="8458200" cy="64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00"/>
                </a:solidFill>
                <a:uFillTx/>
                <a:latin typeface="Times New Roman"/>
              </a:rPr>
              <a:t>Origen de los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na teoría sobre el origen de los planetas debe explicar las propiedades “gruesas” del sistema so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s terrestres internos y planetas gigantes extern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Debe ser compatible con la composición química de estos objetos, como también de los más pequeños (meteoritos, asteroides y comet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</a:rPr>
              <a:t>Algunas condiciones de borde para una teoría del orígen del Sistem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Sol (y en consecuencia el sistema solar) está compuesto de H y He que se mantienen como gases, excepto por la reacción de algunos hidrógenos con elementos más pesados al interior de los plan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y de Titus-B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700360" y="1989000"/>
                <a:ext cx="3816360" cy="11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826920" y="321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Versión Modern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59280" y="4076640"/>
                <a:ext cx="316836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1403280" y="5305320"/>
            <a:ext cx="720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1.56 (planetas terrest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1.82 (planetas giga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1.73 (Todos excepto Plut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627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único planeta con abundante agua en su superficie y con una atmósfera rica en oxíg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Parece ser el único planeta con extensas áreas ricas en rocas ácida o silicatadas (granito) las que representan la característica esencial en las zonas contin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Es el único planeta con una distribución binomial de elevaciones de su superficie (reflejo de una división entre áreas continentales v/s oceán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La Tierra es el único planeta de los planetas terrestres que presenta un campo magnético intenso (100.000 a 600.000 nT). Se observa un campo magnético de similares características en los planetas gig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Tiene una Luna con características prop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), 2), y 3) están conectados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3716280"/>
            <a:ext cx="9144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tas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Volcanismo ácido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rx ácidas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&lt; densidad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conti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315120" y="2492280"/>
                <a:ext cx="7891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908000" y="3716280"/>
                <a:ext cx="576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79280" y="3716280"/>
                <a:ext cx="4003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2771640" y="4076640"/>
            <a:ext cx="2087640" cy="1513080"/>
          </a:xfrm>
          <a:prstGeom prst="upArrowCallout">
            <a:avLst>
              <a:gd name="adj1" fmla="val 34496"/>
              <a:gd name="adj2" fmla="val 34493"/>
              <a:gd name="adj3" fmla="val 16667"/>
              <a:gd name="adj4" fmla="val 6666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149720"/>
            <a:ext cx="2735280" cy="865080"/>
          </a:xfrm>
          <a:prstGeom prst="upArrowCallout">
            <a:avLst>
              <a:gd name="adj1" fmla="val 79054"/>
              <a:gd name="adj2" fmla="val 79047"/>
              <a:gd name="adj3" fmla="val 16667"/>
              <a:gd name="adj4" fmla="val 66660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35120" y="4673520"/>
            <a:ext cx="23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>
              <a:spcBef>
                <a:spcPts val="1500"/>
              </a:spcBef>
              <a:buClr>
                <a:srgbClr val="ffff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38960" y="450864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7160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vección en el m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80880"/>
            <a:ext cx="82296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Históricamente 2 Teorías han sido propuestas para explicar el origen de los plane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(i)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s planetas acrecionaron a partir de una nebulosa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gaseosa al mismo tiempo que e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(ii)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material fue “desgarrado” del Sol por una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olisión o el paso cercano de un objeto mas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259236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268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304920"/>
            <a:ext cx="84582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eorías del tipo (ii) son por lo general descartadas (muy baja probabilidad de existencia de objetos rasantes en el lugar adecuado y en el momento preciso), además porque se observa nubes de gas que están evolucionando hacia estrellas parecidas a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ubes gigantes y obscuras de gas y polvo se debieron colectar cerca del plano de la galax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temperatura es de aproximadamente de 10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K (lejos de estrellas brillantes), o suficientemente baja para que se formen los componentes sólidos (hielo/roca) y así formar granos de polv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 colapso gravitacional de una nube puede ser gatillada por la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ercanía de una supernova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y por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inestabilidades propias del gas en ro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ipicamente, muchas masas solares de gas y polvo colapsan simultáneamente hacia un cluster abierto de estrel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572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858000" cy="5075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53341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</a:rPr>
              <a:t>Las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</a:rPr>
              <a:t>Pl</a:t>
            </a: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</a:rPr>
              <a:t>éy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</a:rPr>
              <a:t>ade</a:t>
            </a: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</a:rPr>
              <a:t>s (o M45),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ccccff"/>
                </a:solidFill>
                <a:latin typeface="Times New Roman"/>
              </a:rPr>
              <a:t>puede ser visto a simple vista. Es uno de los más cercanos y brillosos “open clusters” o cúmulos abiertos. Contiene más de 3000 estrellas y está a unos 400 años-luz de distancia de nuestro sistema solar. Tiene solo 13 años-luz de an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457200"/>
            <a:ext cx="16765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Son las siete hijas de </a:t>
            </a:r>
            <a:r>
              <a:rPr b="0" lang="es-ES" sz="1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Atlante</a:t>
            </a: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 y </a:t>
            </a:r>
            <a:r>
              <a:rPr b="0" lang="es-ES" sz="1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leíone</a:t>
            </a: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. Compañeras de Artemi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Los dioses las convirtieron en palomas y colocaron sus imágenes en el firmamento tras la muerte de Or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Las pléyades er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Alcíone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Celeno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Electra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Estérope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Maya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Mérope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Taígete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304920"/>
            <a:ext cx="845820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na vez gatillado el colapso de un objeto de tamaño del Sol a partir de su diámetro inicial (~ 1 año-luz) el proceso tomaría ~ 1Ma (incluso en ausencia de los efectos retardadores del campo magnético y de rot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s cúmulos abiertos (open clusters) de estrellas que se formaron al mismo tiempo que el Sol se dispersaron puesto que colapsaron. Uno de los clusters más recientes es Sirius y varias de las estrellas de la Osa mayor (Big Dipp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</a:rPr>
              <a:t>PROBLEMA: PRIMERA ETAPA DEL SISTEM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composición general de los planetas y cuerpos más pequeños del sistema solar puede entenderse considerando la formación de los planetas a partir de una nebulosa de composición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</a:rPr>
              <a:t>LA NEBULOS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380880"/>
            <a:ext cx="830592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os concentraremos sobre los aspectos mecánicos del polvo en la nebulosa solar inicial (lógico ya que nuestro énfasis es comprender el planeta Tierr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s condiciones en las primeras etapas del sistema solar se acepta que son bastante bien delimitadas comparada con el proceso de acreción de los planetas que le sucedi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s evidencias directas provienen por los granos en los meteoritos que han sobrevivido desde los tiempos de la nebulosa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na condición de borde adicional es la masa y composición de los planetas que acretaron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Masa mínima de la nebulosa solar, una vez que el Sol ya fue formado, igual a la necesaria para formar los planetas existentes más el gas y elementos volátiles que no acrecionaron con los planetas terrestres (aprox 0.01 masas sola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04920"/>
            <a:ext cx="861048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os gases constituyen ~98% de la masa del sistem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resto está compuesto principalmente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O, CO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, CH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y H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, que pueden formar hielo en las regiones más frías del sistema solar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15% de la masa total del sistema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ilicatos y Hierro que forman parte de los planetas terrestres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5% de la masa total del sistema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Hay 4 clases de Plane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s Gigantes: Júpiter y Saturno, los cuales retienen una fracción sustancial de los elementos gaseosos del sistema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s Gigantes de Hielo: Urano y Neptuno, compuestos principalmente de hielo con sólo 10% a 15% de 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380880"/>
            <a:ext cx="84582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dinámica de una nebulosa solar de tamaño mínimo necesario para formar los planetas ha sido investigada con suficiente detalle los últimos 30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uestro análisis parte con un Sol que ya ha sido esencialmente formado y la nebulosa contraída a un tamaño aproximado al diámetro del sistema solar actual.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Veremos la dinámica de un gas orbitando que contiene algunos cuerpos sól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3962520"/>
            <a:ext cx="2666880" cy="2514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105520"/>
            <a:ext cx="228600" cy="22860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4952880"/>
            <a:ext cx="609840" cy="609840"/>
          </a:xfrm>
          <a:custGeom>
            <a:avLst/>
            <a:gdLst/>
            <a:ahLst/>
            <a:rect l="l" t="t" r="r" b="b"/>
            <a:pathLst>
              <a:path w="352" h="352">
                <a:moveTo>
                  <a:pt x="0" y="288"/>
                </a:moveTo>
                <a:cubicBezTo>
                  <a:pt x="68" y="320"/>
                  <a:pt x="136" y="352"/>
                  <a:pt x="192" y="336"/>
                </a:cubicBezTo>
                <a:cubicBezTo>
                  <a:pt x="248" y="320"/>
                  <a:pt x="320" y="248"/>
                  <a:pt x="336" y="192"/>
                </a:cubicBezTo>
                <a:cubicBezTo>
                  <a:pt x="352" y="136"/>
                  <a:pt x="320" y="68"/>
                  <a:pt x="288" y="0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209680" y="4419720"/>
            <a:ext cx="990720" cy="838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3434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ff33"/>
                </a:solidFill>
                <a:latin typeface="Times New Roman"/>
              </a:rPr>
              <a:t>r</a:t>
            </a:r>
            <a:r>
              <a:rPr b="0" lang="es-MX" sz="1800" spc="-1" strike="noStrike" baseline="-25000">
                <a:solidFill>
                  <a:srgbClr val="66ff33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38400">
            <a:off x="4419720" y="502884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4495680"/>
            <a:ext cx="9907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866920" y="4495680"/>
            <a:ext cx="304920" cy="228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6920" y="5486400"/>
            <a:ext cx="304920" cy="228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4724280"/>
            <a:ext cx="0" cy="990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5715000"/>
            <a:ext cx="106704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857640" y="5486400"/>
            <a:ext cx="304920" cy="228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495680" y="4648320"/>
            <a:ext cx="152424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5257800"/>
            <a:ext cx="13716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48720" y="480060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es-MX" sz="2000" spc="-1" strike="noStrike" baseline="-25000">
                <a:solidFill>
                  <a:srgbClr val="ffff00"/>
                </a:solidFill>
                <a:latin typeface="Times New Roman"/>
              </a:rPr>
              <a:t>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495288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es-MX" sz="2000" spc="-1" strike="noStrike" baseline="-25000">
                <a:solidFill>
                  <a:srgbClr val="ffff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876920"/>
            <a:ext cx="38124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5105520"/>
            <a:ext cx="38124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5410080"/>
            <a:ext cx="38124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7315560" y="4714560"/>
            <a:ext cx="380160" cy="19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315200" y="5027400"/>
            <a:ext cx="380880" cy="50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315560" y="5400360"/>
            <a:ext cx="380160" cy="19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429000"/>
            <a:ext cx="1447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ebulosa aplanada orbitando en torno al Sol (eclíptica actu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52280"/>
            <a:ext cx="853416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velocidad angular del gas es menor que la de las partículas sólidas debido a que la presión del gas resiste la caída del gas hacia el Sol (similarmente como la presión de la atmósfera terrestre evita su colapso hacia la superficie del plane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diferencia de velocidad orbital entre el sólido y el gas se obtiene asumiendo que, para un rango pequeño de distancia desde el Sol, la presión del gas a lo largo del plano de la Eclíptica varía aproximadamente como una ley de 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s fuerzas sobre el pequeño volúmen de cubo orbitando de lados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dr, dx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 dz,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responden a un balance de fuerzas entre gravedad y centrífuga en la dirección rad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0400" y="3505320"/>
                <a:ext cx="245124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ν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ν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209680" y="5853240"/>
                <a:ext cx="563904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ρ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304920"/>
            <a:ext cx="861048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sí obten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na relación en términos de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es obtenida usando la Ley de gases id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 el volúmen del gas,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número de moles,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la constante universal de los gases (8314 J kmole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), y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la temperatura absoluta. El volúmen se relaciona con la densidad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14600" y="990720"/>
                <a:ext cx="374652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ρ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ν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276720" y="3276720"/>
                <a:ext cx="19047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62120" y="5562720"/>
                <a:ext cx="19047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3352680" y="54100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es el peso molecular medio (2 kg kmlole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en la nebulosa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304920"/>
            <a:ext cx="86868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ustituyendo </a:t>
            </a:r>
            <a:r>
              <a:rPr b="0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obten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Resolviendo para la velocidad angular del volumen de g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971800" y="914400"/>
                <a:ext cx="28954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209680" y="2590920"/>
                <a:ext cx="426744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ν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T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 rot="16200000">
            <a:off x="3504960" y="35046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5181480" y="320004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5181480"/>
            <a:ext cx="2514600" cy="954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66ff33"/>
                </a:solidFill>
                <a:latin typeface="Verdana"/>
              </a:rPr>
              <a:t>Velocidad angular de un planeta sólido en ausencia de gas (</a:t>
            </a:r>
            <a:r>
              <a:rPr b="0" i="1" lang="es-MX" sz="1800" spc="-1" strike="noStrike">
                <a:solidFill>
                  <a:srgbClr val="66ff33"/>
                </a:solidFill>
                <a:latin typeface="Symbol"/>
                <a:ea typeface="Symbol"/>
              </a:rPr>
              <a:t></a:t>
            </a:r>
            <a:r>
              <a:rPr b="0" i="1" lang="es-MX" sz="1800" spc="-1" strike="noStrike" baseline="-25000">
                <a:solidFill>
                  <a:srgbClr val="66ff33"/>
                </a:solidFill>
                <a:latin typeface="Verdana"/>
              </a:rPr>
              <a:t>P</a:t>
            </a:r>
            <a:r>
              <a:rPr b="0" i="1" lang="es-MX" sz="1800" spc="-1" strike="noStrike">
                <a:solidFill>
                  <a:srgbClr val="66ff33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057040" y="4038480"/>
            <a:ext cx="1523880" cy="1143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5181480"/>
            <a:ext cx="3352680" cy="916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66ff33"/>
                </a:solidFill>
                <a:latin typeface="Verdana"/>
              </a:rPr>
              <a:t>Para presiones realistas en la nebulosa solar este término es &lt;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4114800"/>
            <a:ext cx="1447920" cy="10666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304920"/>
            <a:ext cx="861048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plicando un desarrollo em serie de Taylor ten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655720" y="1171440"/>
                <a:ext cx="3221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ν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T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G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 rot="5400000">
            <a:off x="5066640" y="19429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70360" y="362268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3352680"/>
            <a:ext cx="4191120" cy="1191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ff33"/>
                </a:solidFill>
                <a:latin typeface="Times New Roman"/>
              </a:rPr>
              <a:t>Perturbación relativa de la tasa de rotación del gas respecto a la de las partículas sól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2590920"/>
            <a:ext cx="1600200" cy="7617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365760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perturbación de la tasa de rotación es expresad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6680" y="5181480"/>
                <a:ext cx="7391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Ω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ν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T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G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152280"/>
            <a:ext cx="8610480" cy="68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perturbación relativa en cosmología se expresa comúnmente en términos de la velocidad isotermal del sonido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MX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s-MX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MX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i="1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donde el módulo volumétrico isotermal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ara la Tierra, r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= 150x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km y </a:t>
            </a:r>
            <a:r>
              <a:rPr b="0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=2x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7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s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factor </a:t>
            </a:r>
            <a:r>
              <a:rPr b="0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/2 es ~1 y asumiendo que T~1000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K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a perturbación en rotación es 2x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9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o bien el 1% de la tasa de ro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733920" y="1295280"/>
                <a:ext cx="23302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ν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60640" y="3395520"/>
                <a:ext cx="34210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−</m:t>
                    </m:r>
                    <m:r>
                      <m:t xml:space="preserve">V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304920"/>
            <a:ext cx="8839080" cy="68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s partículas sólidas orbitando en torno al Sol tienen velocidades angulares suavemente mayores que la del gas que las rodea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las partículas experimentan una fuerza de “arrastre” o drag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efecto de la drag force es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</a:rPr>
              <a:t>menos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pronunciado sobre cuerpos en órbita circular y/o más cerca del plano de la eclíp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s cuerpos en órbitas elípticas se mueven mucho más rápido que el gas cuando están cerca del Sol y mucho más lento que el gas cuando están más lejos del Sol.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al pasar el tiempo los procesos tienden a perturbar las órbitas y a hacerlas circ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e estima que la presión del gas a la posición que tiene actualmente la Tierra debió haber sido del orden de 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atm o 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a. A esta presión el gas es suficientemente denso y ejerce un arrastre significativo incluso sobre objetos o cuerpos grandes. Los granos levemente más grandes tienden a orbitar esencialmente a la velocidad del gas y terminan por caer hacia el Sol debido a la perturbación del 1% entre su aceleración ( rotación con el gas) y la de gravedad a causa de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228600"/>
            <a:ext cx="883908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diferencia de velocidad entre el gas y los objetos o cuerpos formados en la nebulosa solar hacen que el proceso sea ine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parece una tendencia, debido al intercambio de momento angular  dentro de la nebulosa solar entre gas y partículas, que hace que el material más cerca del Sol tienda a ir o “a caer” hacia el interior de la órbita y el material más alejado tienda a ir hacia el exterior de la órbita.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inestabilidad que surge en todos los model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s tiempos involucrados en esta “segregación” (cálculos obtenidos de modelos con gran aceptación por todos), idican que cuerpos densos y grandes toman más tiempo en “caer” que los menos densos y pequeños. Esto a causa del drag force. Así por ejemplo, para un cuerpo de 1 km de radio, a la distancia del Sol que corresponde a la Tierra, el tiempo involucrado en esta segregación es de 1000 años, asumiendo una densidad de 3000 kg m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,  una temperatura de 1000</a:t>
            </a:r>
            <a:r>
              <a:rPr b="0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K y una presión de 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Pa. El tiempo para un cuerpo de 1000 km de radio es de 1 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3049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0"/>
            <a:ext cx="8305920" cy="67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a diferencia de velocidad entre el gas y un cuerpo está relacionada a la perturbación de velocidad entre amb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En un tiempo dado, el cuerpo a través de un volumen correspondiente a un “tubo” de gas de sección igual al diámetro del cuerpo. La masa de gas en este volumen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Donde r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es el radio del cuerpo y t el intervalo de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El tiempo característico para que un cuerpo disminuya su velocidad en una cantidad </a:t>
            </a:r>
            <a:r>
              <a:rPr b="0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v es el tiempo para que éste pase por una masa a través de una masa de gas igual a su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00400" y="990720"/>
                <a:ext cx="1943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Δ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676520" y="3505320"/>
                <a:ext cx="51814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Δvρt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Δ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457200"/>
            <a:ext cx="8305920" cy="78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Así el tiempo característic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Cuerpos grandes y densos toman más tiempo en “caer” que los peque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El tiempo que tomaría un cuerpo en “caer” hacia el Sol dentro de esta nebulosa solar está d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743200" y="914400"/>
                <a:ext cx="3409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Δ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657600" y="2819520"/>
                <a:ext cx="20304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Δv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352680" y="5502240"/>
                <a:ext cx="31244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t xml:space="preserve">Δ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8763120" cy="68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Planetas de Hielo: Los satélites más externos de Júpiter, los satélites mayores de otros planetas gigantes, Plutón y su satélite Cha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Planetas Terrestres: Mercurio, Venus, Tierra, Luna, Marte, Io y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os Planetas Terrestres difieren unos c/r a otros en términos de composición, tamaño, distancia al Sol y en el caso de la Luna, Io y Europa, en relación a su estatus como satélites de otros plan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Europa: Un satélite silicatado con una capa de hielo de 100 Km de espesor. Está entre los Planetas Terrestres y los Planetas de Hi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Campo Magnético: Se ha observado en Mercurio (~100 a 400 nT según medidas del Mariner 10 en 1974 y 1975) y en la Tierra (~10.000 a 60.000 nT). Ambos campos magnéticos son parec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Flujo de Calor medido sólo en la Tierra y sólo en 2 lugares en la L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04920"/>
            <a:ext cx="86868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Sismicidad sólo observada en la Tierra y L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Io es extremadamente activo y su superficie está cubierta por eyecciones volcánicas y de gases rec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a Tierra parece ser el único planeta con Tectónica de Placas a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Venus y Marte son activos pero menos qu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a Tierra, Venus, Marte, Titán y Plutón </a:t>
            </a:r>
            <a:r>
              <a:rPr b="0" lang="es-C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Tienen atmósfera importante </a:t>
            </a:r>
            <a:r>
              <a:rPr b="0" lang="es-C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en consecuencia Ciclos Sediment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Tritón habría tenido una atmósfera importante en el pas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Mercurio y Luna son cuerpos tectónicamente inactivos y parece que desde hace mucho tiempo </a:t>
            </a:r>
            <a:r>
              <a:rPr b="0" lang="es-C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sus superficies aparecen con muchas evidencias de impactos de meteor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162920" cy="7159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90720" y="228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78176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095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06360"/>
            <a:ext cx="9144000" cy="444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08000" y="260280"/>
            <a:ext cx="57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netas del Sistem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notar eje de ro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885960"/>
            <a:ext cx="914400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2T22:22:56Z</dcterms:created>
  <dc:creator>Jaime Campos</dc:creator>
  <dc:description/>
  <dc:language>en-US</dc:language>
  <cp:lastModifiedBy>jaime</cp:lastModifiedBy>
  <dcterms:modified xsi:type="dcterms:W3CDTF">2004-08-06T16:05:36Z</dcterms:modified>
  <cp:revision>20</cp:revision>
  <dc:subject/>
  <dc:title>Presentación de PowerPoint</dc:title>
</cp:coreProperties>
</file>