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9.png" ContentType="image/png"/>
  <Override PartName="/ppt/media/image13.jpeg" ContentType="image/jpeg"/>
  <Override PartName="/ppt/media/image23.png" ContentType="image/png"/>
  <Override PartName="/ppt/media/image7.png" ContentType="image/png"/>
  <Override PartName="/ppt/media/image1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png" ContentType="image/png"/>
  <Override PartName="/ppt/media/image28.jpeg" ContentType="image/jpeg"/>
  <Override PartName="/ppt/media/image15.png" ContentType="image/png"/>
  <Override PartName="/ppt/media/image26.jpeg" ContentType="image/jpeg"/>
  <Override PartName="/ppt/media/image24.png" ContentType="image/png"/>
  <Override PartName="/ppt/media/image18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E614-9501-46CA-AD6E-A5E62D251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B9E1-1992-40E5-8C82-9F76D238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A19A-020D-44E7-B1CB-901BA2C24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2473-DB23-4998-8A31-3B5223B3B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262C4-8D23-4D04-B626-51A4E4824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3FF45-D718-4DC8-A245-3420454C0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D7ECC-4661-40E8-849A-16E8C221A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5A54B-F575-49BA-B6AC-06B574255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FD7FA-7DB1-44E3-9C27-A453203BC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508E5-8A3D-4B2F-B302-68EA2E8FC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86A23-395A-455B-ABC2-55F86867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6DE1-4466-41FF-B0B2-59CD8AA44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BD84E-9CBB-49C1-A576-ADF7E44D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6F4A5-D40A-46D9-86A4-36F17CB5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E2869-E3E1-4156-9230-798D52040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8A93C-4557-4AB0-A053-AB9E356AA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7F985-6F08-461E-BD58-985430DF7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ACB0-7CF1-47A0-8170-BC0152DE7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E83B-A64F-4990-81D8-7252F4A33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F6AB-092B-41DD-99DD-77B09E753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1AA3-F50C-4DD2-B0FD-8E34A3908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3616-4398-460C-9940-B08C8621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3512-CD9C-47E5-8F81-A0966FEB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40D6-6E1C-45FA-9151-B7B38063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EDBBF-CC66-400B-85FB-9F0ED84A719B}" type="slidenum">
              <a:rPr b="0" lang="en-US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87163-1A5A-4539-9826-4932D398AC11}" type="slidenum">
              <a:rPr b="0" lang="en-US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848720" cy="1523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Ocean-Continent Collisions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191120" y="45720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hn Lou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ol 33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ring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Oceanic Trenches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42840" y="76212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ca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514600" y="1523880"/>
            <a:ext cx="512748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Oceanic Trenches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742840" y="76212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ca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1994040"/>
            <a:ext cx="9169560" cy="486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Oceanic Trenches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42840" y="76212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ca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913140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Oceanic Trenches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742840" y="76212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ca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480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Oceanic Trenches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742840" y="76212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ca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41200" y="1847880"/>
            <a:ext cx="8902800" cy="501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Oceanic Trenches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742840" y="76212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cos Pl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50840" y="1382760"/>
            <a:ext cx="8993160" cy="547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Oceanic Trenches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742840" y="76212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ntral American close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50840" y="1382760"/>
            <a:ext cx="8993160" cy="547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Oceanic Trenches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742840" y="76212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ta 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2619360"/>
            <a:ext cx="9207360" cy="4238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486400" y="0"/>
            <a:ext cx="3141720" cy="279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419112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Oceanic 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Trenches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240" y="17524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ta 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919680" y="0"/>
            <a:ext cx="5224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Oceanic Trenches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742840" y="76212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icaragua Subduction Wed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50840" y="1382760"/>
            <a:ext cx="8993160" cy="547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819160" y="5331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Purpose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Examples of How Mountain-Building Depends on Oceanic-Plate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pographic and bathymetric images derived from Eartha Global Explorer, Copyright 1998 by DeLorme Inc., Yarmouth, Maine. www.delorme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w Zealand example from work by Louie, Henrys, and Bannister of UNR and the Crown Institute for Geological and Nuclear Sciences, New Zealand. www.seismo.unr.edu/ftp/pub/louie/weber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Oceanic Trenches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361960" y="76212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ta Rica Subduction Wed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33520" y="1254240"/>
            <a:ext cx="8381880" cy="560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Oceanic Trenches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742840" y="76212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pan - Philippine S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50840" y="1382760"/>
            <a:ext cx="8993160" cy="547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Oceanic Trenches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742840" y="76212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pan - Philippine S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295280" y="1312920"/>
            <a:ext cx="7848720" cy="55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Oceanic Trenches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742840" y="76212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pan - Philippine S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2738520"/>
            <a:ext cx="9144000" cy="36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1972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Oceanic Trenches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pl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962520" y="127080"/>
            <a:ext cx="4635360" cy="673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Oceanic Trenches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240" y="76212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pan - Philippine S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4876920" cy="41245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635040"/>
            <a:ext cx="4267080" cy="622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Oceanic Trenches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742840" y="76212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pan - Philippine S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8007480" cy="49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ew Zealand and the Hikurangi Trough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742840" y="76212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stralia–Pacific Plate Bound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50840" y="1382760"/>
            <a:ext cx="8993160" cy="547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ceanic Plateau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742840" y="76212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tong-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50840" y="1382760"/>
            <a:ext cx="8993160" cy="547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ceanic Plateau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742840" y="76212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inety-East Rid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50840" y="1382760"/>
            <a:ext cx="8993160" cy="547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19160" y="6854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Topics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eanic Trenc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eanic Platea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xt Topic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tinental Collis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ew Zealand and the Hikurangi Trough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ceanic Plateau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742840" y="76212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rguell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50840" y="1382760"/>
            <a:ext cx="8993160" cy="547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Oceanic Trenches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742840" y="76212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1382760"/>
            <a:ext cx="8993160" cy="547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Oceanic Trenches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742840" y="76212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38240" y="1382760"/>
            <a:ext cx="9005760" cy="547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Oceanic Trenches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742840" y="76212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42040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Oceanic Trenches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742840" y="76212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520040" cy="558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Oceanic Trenches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742840" y="76212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8600" y="2514600"/>
            <a:ext cx="8915400" cy="336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Oceanic Trenches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742840" y="76212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ca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50840" y="1382760"/>
            <a:ext cx="8993160" cy="5475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5T02:08:19Z</dcterms:created>
  <dc:creator>John Louie</dc:creator>
  <dc:description/>
  <dc:language>en-US</dc:language>
  <cp:lastModifiedBy>John Louie</cp:lastModifiedBy>
  <cp:lastPrinted>2001-04-09T23:40:58Z</cp:lastPrinted>
  <dcterms:modified xsi:type="dcterms:W3CDTF">2001-04-09T23:42:10Z</dcterms:modified>
  <cp:revision>21</cp:revision>
  <dc:subject/>
  <dc:title>Ocean-Continent Collisions</dc:title>
</cp:coreProperties>
</file>