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E35-80BC-4C01-99C0-55FF03A6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73A-7C6E-40F0-8BA7-679C358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5C9-7BB1-4266-9E09-569BA162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154-4A36-4A1B-A749-3D62BDAD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705-11F4-4921-A50C-6416CB9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D70-762E-4E95-BA72-3B77233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0D8-A09D-46E9-BE1E-73875016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0EB-18E4-4CC1-8A74-C1BE962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4EC-CE59-494D-83FF-448743F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D24-8CDA-4F7A-A516-E14B3703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B0E-E669-4AE5-8B18-B54A58F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5E1-4652-4EF9-81F6-2C8D875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BF37-1DE9-4B90-AB55-9C7834F5D3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de transmis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 el transporte de energía y potencia entre puntos de la red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mple estándares de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 además otros servicios, distintos del transporte, llamados servicios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1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4008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2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848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219320"/>
            <a:ext cx="167616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048120"/>
            <a:ext cx="243828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00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219320"/>
            <a:ext cx="236196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4479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800600"/>
            <a:ext cx="23623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52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ción terc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21932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04812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recuencia *generación 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Flujos   interáre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800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 por despach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971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2971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 PRI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vidual por unidad genera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la frecuencia o velocidad y en el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 auto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iene error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ULACION DE FRECUENCIA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sistémica:  considera varias unidades, un área o un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 ser manual  o auto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más lenta que la primaria(T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10 s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bjetiv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)  recuperar reserva para regulacion primaria (seguimiento de carg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) llevar error permanente a 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. Secund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oma de carga de algunas un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requiere corregir la potencia en las unidades regulantes en un mon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=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Pi-Pi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0 centro de la banda de regulacio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i potencia actual e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sada en restablecer banda de regulación prim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distribuye según factores de particip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= Fj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   tal que  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j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in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jsma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CADA SUBSISTEMA  CONTROLE SU EQUILIBRIO GENERACION-DEMANDA                        ( REGULACION SECUNDARIA)          EN FORMA INDEPENDINTE DE LOS INTERCAMB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C: CONTROL AUTOMATICO DE GENER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NA PERMITE AGC DE CADA AREA O DE CAD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INTERAREA .EL SERVICIO AGC PUEDE SER INTEGRADO A NIVEL DE AREAS DISTINTAS: CASO DE EMPRESAS CON UNIDADES REPART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 enfoques princip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proporcionados por la red de transmi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servicios entregados por los participantes del sistema y administrados por el operador independiente del sistema (IS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TENSION A UNIDADES TERMICAS  DESENERGIZADAS, PERMITI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R LOS SERVICIO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ARTIDA DE LAS TURB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principal servici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energía a nudos donde producir es más caro o no es po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gene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intercambio entre áreas o sub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E EMER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TRANSFERENCIAS DE ENERGIA EN CASO DE FALLAS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Y UN AUMENTO SIGNIFICATIVO DE LA CONFI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MPLAZA LAS REGULACIONES DE TENSION Y FRECUENCIA SI FALLAN LAS UNIDADES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FALLAN UNIDADES O LINEAS, LA FRECUENCIA DISMINU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FLUJOS SE ADAPTAN DE MODO DE CONTROLAR LA FRECUENCIA EN FORMA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ASO DE INESTABILIDAD, LA INERCIA EQUIVALENTE SE VE AUMENTADA POR LA CONEX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PROPIETARIA DE LA RED REALIZA ACTIVIDADES CON VALOR ECONOMICO PARA OTROS PARTICIPANTES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IOS: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NDARIOS:VARIOS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DE 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PERMITE QUE SE DESARROLLEN LOS SERVICIOS NECESARIOS PARA OPERAR COM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ONECTA:                                       - CENTRALES-CONSUMOS                       -CENTRAL-CENTRAL                               -CONSUMO-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IOS PRINCIPALE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SISTEMA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T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ENER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IZACION DE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MBI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O DINA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S ONDA PORTADORA Y FIBRA O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O INFORM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MEDIDA Y TELE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CCI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DE PROTECCIONE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DORES Y TRANSFORMADORES DE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QUEO DE PROPAGACION DE FALLAS:  ESTABILIDA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IONES DE DISTANCIA, DE SOBRECARGA, DIFERENC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D ENTREGA O ABSORBE POTENCIA REACTIVA DE LAS CENTRALES Y DE LOS CONSU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INISTRA O ABSORBE POTENCIA RE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E POTENCIA REACTIVA POSITIVA O NEG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ON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 REGULACION SE TRANSMITA DE UN NUDO A OTRO:                                       REDUCE COSTOS DE REGULAR CON UNIDADES PRO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IERE LA CALIDAD DE FRECUENCIA A TODO 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EVENTUALMENTE PERJUDICAR A UNIDADES NO PERTURB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19:43Z</dcterms:created>
  <dc:creator>Depto. Ingeniería Eléctrica</dc:creator>
  <dc:description/>
  <dc:language>en-US</dc:language>
  <cp:lastModifiedBy>omoya</cp:lastModifiedBy>
  <dcterms:modified xsi:type="dcterms:W3CDTF">2003-11-18T13:03:07Z</dcterms:modified>
  <cp:revision>13</cp:revision>
  <dc:subject/>
  <dc:title>SERVICIOS DE RED</dc:title>
</cp:coreProperties>
</file>