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C409-A00A-4CF1-8FF4-095F1C8A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B138-910A-4CFA-9B79-DD9293F5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DFDE-D937-497C-964F-666C1FF3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8A37-E890-41B0-BE2C-E4BF26E8C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7B9E-159F-4C97-947D-20F31459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E857-4367-44B6-AA95-2B75996F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36A4-DA7C-4A5A-85FB-08C521B6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8248-097C-4E92-BF02-36EC5356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682B-5ED6-4E5E-B8CE-30DF65F7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1546-8C14-4D85-B997-E8A9FEE3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373E-CA4E-44CE-9141-0CF4506B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1D77-7462-44F6-9916-58D7542D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DBBE-89DE-4587-953C-9FD126592D9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 de transmis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aliza el transporte de energía y potencia entre puntos de la red princip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mple estándares de confi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orciona además otros servicios, distintos del transporte, llamados servicios de 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F1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40080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F1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40080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F2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6284880" cy="32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05120" y="1219320"/>
            <a:ext cx="1676160" cy="1572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3048120"/>
            <a:ext cx="2438280" cy="1371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32004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ción 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1219320"/>
            <a:ext cx="2361960" cy="1523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144792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ción prim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4800600"/>
            <a:ext cx="236232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4800600"/>
            <a:ext cx="236232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49528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ción terci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19720" y="1905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1219320"/>
            <a:ext cx="1905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cia 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3048120"/>
            <a:ext cx="2666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Frecuencia *generación á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Flujos   interárea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5334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48006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cia por despacho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2971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2971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2971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2971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2971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GULACION DE FRECUENCIA  PRIM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ndividual por unidad generad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asada en la frecuencia o velocidad y en el regul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 autom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iene error perman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GULACION DE FRECUENCIA SECUND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 sistémica:  considera varias unidades, un área o un en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uede ser manual  o automát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 más lenta que la primaria(T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10 se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bjetiv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)  recuperar reserva para regulacion primaria (seguimiento de carg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) llevar error permanente a c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g. Secund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oma de carga de algunas unida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requiere corregir la potencia en las unidades regulantes en un mont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=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(Pi-Pi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i0 centro de la banda de regulacion prim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i potencia actual en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asada en restablecer banda de regulación prim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distribuye según factores de particip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js= Fj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   tal que  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j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jsmin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js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jsmax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DE A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E QUE CADA SUBSISTEMA  CONTROLE SU EQUILIBRIO GENERACION-DEMANDA                        ( REGULACION SECUNDARIA)          EN FORMA INDEPENDINTE DE LOS INTERCAMBI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C: CONTROL AUTOMATICO DE GENERA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 INTERNA PERMITE AGC DE CADA AREA O DE CAD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 INTERAREA .EL SERVICIO AGC PUEDE SER INTEGRADO A NIVEL DE AREAS DISTINTAS: CASO DE EMPRESAS CON UNIDADES REPARTID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s enfoques principa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o servicios proporcionados por la red de transmi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o servicios entregados por los participantes del sistema y administrados por el operador independiente del sistema (IS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ERGIZACION DE UN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EGA TENSION A UNIDADES TERMICAS  DESENERGIZADAS, PERMIT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AR LOS SERVICIOS AUXILI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PARTIDA DE LAS TURB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el principal servicio de la 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ega energía a nudos donde producir es más caro o no es po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e intercambio entre gener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e intercambio entre áreas o subsist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OYO DE EMERG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E TRANSFERENCIAS DE ENERGIA EN CASO DE FALLAS DE UN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Y UN AUMENTO SIGNIFICATIVO DE LA CONFI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EMPLAZA LAS REGULACIONES DE TENSION Y FRECUENCIA SI FALLAN LAS UNIDADES A CAR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OYO DINA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FALLAN UNIDADES O LINEAS, LA FRECUENCIA DISMINUY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FLUJOS SE ADAPTAN DE MODO DE CONTROLAR LA FRECUENCIA EN FORMA REMO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CASO DE INESTABILIDAD, LA INERCIA EQUIVALENTE SE VE AUMENTADA POR LA CONEX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IOS DE R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RESA PROPIETARIA DE LA RED REALIZA ACTIVIDADES CON VALOR ECONOMICO PARA OTROS PARTICIPANTES DEL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I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IOS: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NDARIOS:VARIOS O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IOS DE 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RED PERMITE QUE SE DESARROLLEN LOS SERVICIOS NECESARIOS PARA OPERAR COMO SIST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CONECTA:                                       - CENTRALES-CONSUMOS                       -CENTRAL-CENTRAL                               -CONSUMO-CONSU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IOS PRINCIPALES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SISTEMA DE ENER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COMUNIC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PROT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 DE ENERG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CION DE T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CION DE FRECU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D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ERGIZACION DE UN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CAMBIOS DE ENER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OYO DINAM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UNIC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IOS ONDA PORTADORA Y FIBRA OP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O INFORM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EMEDIDA Y TELE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TECCION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ALDO DE PROTECCIONES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DORES Y TRANSFORMADORES DE CEN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QUEO DE PROPAGACION DE FALLAS:  ESTABILIDAD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IONES DE DISTANCIA, DE SOBRECARGA, DIFERENCIAL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ON DE T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RED ENTREGA O ABSORBE POTENCIA REACTIVA DE LAS CENTRALES Y DE LOS CONSUM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INISTRA O ABSORBE POTENCIA REA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TE POTENCIA REACTIVA POSITIVA O NEG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ON DE FRECU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E QUE LA REGULACION SE TRANSMITA DE UN NUDO A OTRO:                                       REDUCE COSTOS DE REGULAR CON UNIDADES PROP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IERE LA CALIDAD DE FRECUENCIA A TODO EL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EDE EVENTUALMENTE PERJUDICAR A UNIDADES NO PERTURB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1T14:19:43Z</dcterms:created>
  <dc:creator>Depto. Ingeniería Eléctrica</dc:creator>
  <dc:description/>
  <dc:language>en-US</dc:language>
  <cp:lastModifiedBy>omoya</cp:lastModifiedBy>
  <dcterms:modified xsi:type="dcterms:W3CDTF">2003-11-18T13:03:07Z</dcterms:modified>
  <cp:revision>13</cp:revision>
  <dc:subject/>
  <dc:title>SERVICIOS DE RED</dc:title>
</cp:coreProperties>
</file>