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807-C136-4026-A1C4-16072EEC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92A-330A-4A9B-9D3F-62B8EDB3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72C-03BC-45D8-90D9-97F9078A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134-52B3-4535-8464-52ACEBD2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79F-7A04-4CAD-9417-B59CB26A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C7F-59D1-443B-8B76-E80CDD7F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5F4-C19A-40F5-BDCB-6D960C9B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908-2545-4298-93D2-7193ADB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3C5-564B-4745-8346-B5F63E41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6E2-5EAC-43A5-B3CC-AE88592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8FD-C469-4F16-9D76-F93741FC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20F-5604-43D6-8EEC-2DD5324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1E4B-F53F-495A-9FB3-5CB1D9A081D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de transmis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 el transporte de energía y potencia entre puntos de la red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mple estándares de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 además otros servicios, distintos del transporte, llamados servicios de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2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848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219320"/>
            <a:ext cx="167616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048120"/>
            <a:ext cx="2438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00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219320"/>
            <a:ext cx="236196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52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terc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21932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048120"/>
            <a:ext cx="2666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recuencia *generación 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lujos   interáre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por despach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 PRI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vidual por unidad gener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la frecuencia o velocidad y en el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iene error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sistémica:  considera varias unidades, un área o un en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ser manual  o automá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más lenta que la primaria(T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10 s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  recuperar reserva para regulacion primaria (seguimiento de car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 llevar error permanente a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.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oma de carga de algunas un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quiere corregir la potencia en las unidades regulantes en un mo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Pi-Pi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0 centro de la banda de regulacio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 potencia actual e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restablecer banda de regulació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distribuye según factores de particip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= Fj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   tal que  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j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in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a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CADA SUBSISTEMA  CONTROLE SU EQUILIBRIO GENERACION-DEMANDA                        ( REGULACION SECUNDARIA)          EN FORMA INDEPENDINTE DE LOS INTERCAMB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C: CONTROL AUTOMATICO DE GENER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NA PERMITE AGC DE CADA AREA O DE CAD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AREA .EL SERVICIO AGC PUEDE SER INTEGRADO A NIVEL DE AREAS DISTINTAS: CASO DE EMPRESAS CON UNIDADES REPART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 enfoques princip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proporcionados por la red de transmi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entregados por los participantes del sistema y administrados por el operador independiente del sistema (IS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TENSION A UNIDADES TERMICAS  DESENERGIZADAS, PERMIT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R LOS 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RTIDA DE LAS TURB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principal servicio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energía a nudos donde producir es más caro o no es po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áreas o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E EMER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TRANSFERENCIAS DE ENERGIA EN CASO DE FALLAS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UN AUMENTO SIGNIFICATIVO DE LA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MPLAZA LAS REGULACIONES DE TENSION Y FRECUENCIA SI FALLAN LAS UNIDADES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FALLAN UNIDADES O LINEAS, LA FRECUENCIA DISMINU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FLUJOS SE ADAPTAN DE MODO DE CONTROLAR LA FRECUENCIA EN FORMA REM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SO DE INESTABILIDAD, LA INERCIA EQUIVALENTE SE VE AUMENTADA POR LA CO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PROPIETARIA DE LA RED REALIZA ACTIVIDADES CON VALOR ECONOMICO PARA OTROS PARTICIPANTES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IOS: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NDARIOS:VARIOS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PERMITE QUE SE DESARROLLEN LOS SERVICIOS NECESARIOS PARA OPERAR COMO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ECTA:                                       - CENTRALES-CONSUMOS                       -CENTRAL-CENTRAL                               -CONSUMO-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PRINCIPALE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SISTEMA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PROT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ENER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MBIO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ONDA PORTADORA Y FIBRA O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INFORM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DA Y TELE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CI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DE PROTECCION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DORES Y TRANSFORMADORES D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QUEO DE PROPAGACION DE FALLAS:  ESTABILIDA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IONES DE DISTANCIA, DE SOBRECARGA, DIFERENC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ENTREGA O ABSORBE POTENCIA REACTIVA DE LAS CENTRALES Y DE LOS CONSU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INISTRA O ABSORBE POTENCIA RE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E POTENCIA REACTIVA POSITIVA O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 REGULACION SE TRANSMITA DE UN NUDO A OTRO:                                       REDUCE COSTOS DE REGULAR CON UNIDADES PRO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IERE LA CALIDAD DE FRECUENCIA A TODO 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EVENTUALMENTE PERJUDICAR A UNIDADES NO PERTUR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19:43Z</dcterms:created>
  <dc:creator>Depto. Ingeniería Eléctrica</dc:creator>
  <dc:description/>
  <dc:language>en-US</dc:language>
  <cp:lastModifiedBy>omoya</cp:lastModifiedBy>
  <dcterms:modified xsi:type="dcterms:W3CDTF">2003-11-18T13:03:07Z</dcterms:modified>
  <cp:revision>13</cp:revision>
  <dc:subject/>
  <dc:title>SERVICIOS DE RED</dc:title>
</cp:coreProperties>
</file>