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C8D1-1926-4515-8471-B47E4E2D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D08-E065-45BA-9DB9-03AF32A5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9617-B996-4B58-B488-75ED03FB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A2E1-DDF1-4502-B434-17BCCCD4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38E9-98BC-46C8-8D7D-CE1BEA0C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C611-C748-42AD-937B-451FCDC5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AB53-8AD4-4EC9-8618-04F03E27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3071-09A9-41A4-B5E6-6F9AE053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95C7-3FE2-4843-BD2C-5B53632A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362A-1C1C-47BB-A028-CA93614C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7223-C188-48D4-80F2-AACB52F7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0553-601B-4F4E-850A-EB4670C0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D8AA-88F4-428B-96EE-D8448A219AD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 de transmis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aliza el transporte de energía y potencia entre puntos de la red princi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mple estándares de confi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orciona además otros servicios, distintos del transporte, llamados servicios de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F1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40080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F1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40080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F2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628488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05120" y="1219320"/>
            <a:ext cx="1676160" cy="1572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3048120"/>
            <a:ext cx="243828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32004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ción 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1219320"/>
            <a:ext cx="2361960" cy="1523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144792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ción prim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4800600"/>
            <a:ext cx="236232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4800600"/>
            <a:ext cx="236232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49528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ción terci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1905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1219320"/>
            <a:ext cx="1905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cia 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3048120"/>
            <a:ext cx="2666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Frecuencia *generación á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Flujos   interárea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5334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48006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cia por despacho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971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2971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2971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2971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2971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GULACION DE FRECUENCIA  PRIM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dividual por unidad generad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sada en la frecuencia o velocidad y en el regul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 auto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iene error perman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GULACION DE FRECUENCIA SECUND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sistémica:  considera varias unidades, un área o un en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ede ser manual  o automát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más lenta que la primaria(T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10 se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bjetiv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)  recuperar reserva para regulacion primaria (seguimiento de carg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) llevar error permanente a c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g. Secund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oma de carga de algunas unida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requiere corregir la potencia en las unidades regulantes en un mont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=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(Pi-Pi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i0 centro de la banda de regulacion prim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i potencia actual en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sada en restablecer banda de regulación prim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distribuye según factores de particip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js= Fj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   tal que  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j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jsmin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js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jsmax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DE 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QUE CADA SUBSISTEMA  CONTROLE SU EQUILIBRIO GENERACION-DEMANDA                        ( REGULACION SECUNDARIA)          EN FORMA INDEPENDINTE DE LOS INTERCAMB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C: CONTROL AUTOMATICO DE GENER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 INTERNA PERMITE AGC DE CADA AREA O DE CAD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 INTERAREA .EL SERVICIO AGC PUEDE SER INTEGRADO A NIVEL DE AREAS DISTINTAS: CASO DE EMPRESAS CON UNIDADES REPARTID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s enfoques principa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o servicios proporcionados por la red de transmi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o servicios entregados por los participantes del sistema y administrados por el operador independiente del sistema (IS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ERGIZACION DE UN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TENSION A UNIDADES TERMICAS  DESENERGIZADAS, PERMIT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AR LOS SERVICIOS AUX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ARTIDA DE LAS TURB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el principal servicio de la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energía a nudos donde producir es más caro o no es po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intercambio entre gener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intercambio entre áreas o subsis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OYO DE EMERG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TRANSFERENCIAS DE ENERGIA EN CASO DE FALLAS DE 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Y UN AUMENTO SIGNIFICATIVO DE LA CONFI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EMPLAZA LAS REGULACIONES DE TENSION Y FRECUENCIA SI FALLAN LAS UNIDADES A CA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OYO DINA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FALLAN UNIDADES O LINEAS, LA FRECUENCIA DISMINU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FLUJOS SE ADAPTAN DE MODO DE CONTROLAR LA FRECUENCIA EN FORMA REMO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CASO DE INESTABILIDAD, LA INERCIA EQUIVALENTE SE VE AUMENTADA POR LA CONEX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IOS DE R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RESA PROPIETARIA DE LA RED REALIZA ACTIVIDADES CON VALOR ECONOMICO PARA OTROS PARTICIPANTES DEL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I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IOS: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NDARIOS:VARIOS O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IOS DE 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ED PERMITE QUE SE DESARROLLEN LOS SERVICIOS NECESARIOS PARA OPERAR COMO SIST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CONECTA:                                       - CENTRALES-CONSUMOS                       -CENTRAL-CENTRAL                               -CONSUMO-CONSU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IOS PRINCIPALES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SISTEMA DE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COMUN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PROT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 DE ENER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CION DE T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CION DE FRECU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D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IZACION DE 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CAMBIOS DE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OYO DINAM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UNIC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IOS ONDA PORTADORA Y FIBRA OP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O INFORM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EMEDIDA Y TELE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ECCION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ALDO DE PROTECCIONES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DORES Y TRANSFORMADORES DE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QUEO DE PROPAGACION DE FALLAS:  ESTABILIDA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IONES DE DISTANCIA, DE SOBRECARGA, DIFERENCIAL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ON DE 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ED ENTREGA O ABSORBE POTENCIA REACTIVA DE LAS CENTRALES Y DE LOS CONSUM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INISTRA O ABSORBE POTENCIA REA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TE POTENCIA REACTIVA POSITIVA O NEG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ON DE FRECU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QUE LA REGULACION SE TRANSMITA DE UN NUDO A OTRO:                                       REDUCE COSTOS DE REGULAR CON UNIDADES PROP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IERE LA CALIDAD DE FRECUENCIA A TODO EL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DE EVENTUALMENTE PERJUDICAR A UNIDADES NO PERTURB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1T14:19:43Z</dcterms:created>
  <dc:creator>Depto. Ingeniería Eléctrica</dc:creator>
  <dc:description/>
  <dc:language>en-US</dc:language>
  <cp:lastModifiedBy>omoya</cp:lastModifiedBy>
  <dcterms:modified xsi:type="dcterms:W3CDTF">2003-11-18T13:03:07Z</dcterms:modified>
  <cp:revision>13</cp:revision>
  <dc:subject/>
  <dc:title>SERVICIOS DE RED</dc:title>
</cp:coreProperties>
</file>