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A2A35-58E8-4067-A222-0DBF549EF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AB3B4-55FF-45AE-B6C7-AE9FE327A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13F8A-D4B9-4DC5-B56F-0ED1617AF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1AAB8-3DFC-4BA8-A7CA-FCD2B9930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8DC3D-BF2A-4F79-890D-E33F08A0F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F384B-52A9-41F3-9CD3-CAFC2099B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F5A85-9747-4916-BCC8-F761B8499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872F1-4C5C-468A-8751-72A7DBCDD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1304B-480C-40DB-9B2F-95ABE73A7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BA8F3-EE4F-4153-9759-D1F22BA2D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105ED-D81C-4521-9DCA-4D80CCF17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13E5A-2747-4108-9E17-7FA2F95BE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102C5-7423-4DB0-AC2E-810EFD197938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d de transmisió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Realiza el transporte de energía y potencia entre puntos de la red princip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umple estándares de confiabilid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roporciona además otros servicios, distintos del transporte, llamados servicios de r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F1" descr=""/>
          <p:cNvPicPr/>
          <p:nvPr/>
        </p:nvPicPr>
        <p:blipFill>
          <a:blip r:embed="rId1"/>
          <a:stretch/>
        </p:blipFill>
        <p:spPr>
          <a:xfrm>
            <a:off x="1676520" y="1295280"/>
            <a:ext cx="6400800" cy="329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F1" descr=""/>
          <p:cNvPicPr/>
          <p:nvPr/>
        </p:nvPicPr>
        <p:blipFill>
          <a:blip r:embed="rId1"/>
          <a:stretch/>
        </p:blipFill>
        <p:spPr>
          <a:xfrm>
            <a:off x="1676520" y="1295280"/>
            <a:ext cx="6400800" cy="329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F2" descr=""/>
          <p:cNvPicPr/>
          <p:nvPr/>
        </p:nvPicPr>
        <p:blipFill>
          <a:blip r:embed="rId1"/>
          <a:stretch/>
        </p:blipFill>
        <p:spPr>
          <a:xfrm>
            <a:off x="1752480" y="1752480"/>
            <a:ext cx="6284880" cy="32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1905120" y="1219320"/>
            <a:ext cx="1676160" cy="15721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ulació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676520" y="3048120"/>
            <a:ext cx="2438280" cy="1371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752480" y="3200400"/>
            <a:ext cx="228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ulación secunda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1219320"/>
            <a:ext cx="2361960" cy="15238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752480" y="1447920"/>
            <a:ext cx="2210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ulación prima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666880" y="27432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3200" y="44197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752480" y="4800600"/>
            <a:ext cx="2362320" cy="114300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4800600"/>
            <a:ext cx="2362320" cy="11430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828800" y="4952880"/>
            <a:ext cx="2209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ulación tercia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419720" y="190512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0" y="3429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ár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5880" y="1219320"/>
            <a:ext cx="19051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ecu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tencia un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943600" y="3048120"/>
            <a:ext cx="266688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*Frecuencia *generación ár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*Flujos   interárea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19720" y="53341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ár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48520" y="4800600"/>
            <a:ext cx="2209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tencia por despacho económ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29718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29718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29718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257800" y="29718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781680" y="29718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REGULACION DE FRECUENCIA  PRIMAR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Individual por unidad generado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Basada en la frecuencia o velocidad y en el regulad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Es automát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Tiene error permane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848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REGULACION DE FRECUENCIA SECUNDAR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Es sistémica:  considera varias unidades, un área o un enla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Puede ser manual  o automátic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Es más lenta que la primaria(T </a:t>
            </a:r>
            <a:r>
              <a:rPr b="0" lang="es-ES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10 se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Objetivo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A)  recuperar reserva para regulacion primaria (seguimiento de carg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B) llevar error permanente a c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Reg. Secundar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Toma de carga de algunas unidad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Se requiere corregir la potencia en las unidades regulantes en un monto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P= </a:t>
            </a:r>
            <a:r>
              <a:rPr b="0" lang="es-E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(Pi-Pi0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Pi0 centro de la banda de regulacion primar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Pi potencia actual en 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Basada en restablecer banda de regulación primar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Se distribuye según factores de participació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Pjs= Fj </a:t>
            </a:r>
            <a:r>
              <a:rPr b="0" lang="es-ES" sz="3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P   tal que   </a:t>
            </a:r>
            <a:r>
              <a:rPr b="0" lang="es-E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Fj=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Pjsmin</a:t>
            </a:r>
            <a:r>
              <a:rPr b="0" lang="es-ES" sz="32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Pjs </a:t>
            </a:r>
            <a:r>
              <a:rPr b="0" lang="es-ES" sz="32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Pjsmax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ROL DE ARE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MITE QUE CADA SUBSISTEMA  CONTROLE SU EQUILIBRIO GENERACION-DEMANDA                        ( REGULACION SECUNDARIA)          EN FORMA INDEPENDINTE DE LOS INTERCAMBIO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GC: CONTROL AUTOMATICO DE GENERAC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D INTERNA PERMITE AGC DE CADA AREA O DE CADA EMPRE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D INTERAREA .EL SERVICIO AGC PUEDE SER INTEGRADO A NIVEL DE AREAS DISTINTAS: CASO DE EMPRESAS CON UNIDADES REPARTIDA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os enfoques principale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o servicios proporcionados por la red de transmisió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o servicios entregados por los participantes del sistema y administrados por el operador independiente del sistema (ISO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NERGIZACION DE UNIDA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TREGA TENSION A UNIDADES TERMICAS  DESENERGIZADAS, PERMITIEN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VAR LOS SERVICIOS AUXILIA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 PARTIDA DE LAS TURBIN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ANSPOR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 el principal servicio de la r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trega energía a nudos donde producir es más caro o no es posib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mite intercambio entre generado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mite intercambio entre áreas o subsistem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OYO DE EMERGENC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MITE TRANSFERENCIAS DE ENERGIA EN CASO DE FALLAS DE UNIDA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Y UN AUMENTO SIGNIFICATIVO DE LA CONFIABILID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EMPLAZA LAS REGULACIONES DE TENSION Y FRECUENCIA SI FALLAN LAS UNIDADES A CARG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OYO DINAMIC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UANDO FALLAN UNIDADES O LINEAS, LA FRECUENCIA DISMINUY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S FLUJOS SE ADAPTAN DE MODO DE CONTROLAR LA FRECUENCIA EN FORMA REMOT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 CASO DE INESTABILIDAD, LA INERCIA EQUIVALENTE SE VE AUMENTADA POR LA CONEX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RVICIOS DE RE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MPRESA PROPIETARIA DE LA RED REALIZA ACTIVIDADES CON VALOR ECONOMICO PARA OTROS PARTICIPANTES DEL SIST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IO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MARIOS:TRANSPOR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NDARIOS:VARIOS OTR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RVICIOS DE R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 RED PERMITE QUE SE DESARROLLEN LOS SERVICIOS NECESARIOS PARA OPERAR COMO SISTEM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RCONECTA:                                       - CENTRALES-CONSUMOS                       -CENTRAL-CENTRAL                               -CONSUMO-CONSUM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RVICIOS PRINCIPALES: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 SISTEMA DE ENERG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 COMUNICACI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 PROTECCI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STEMA DE ENERG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GULACION DE TEN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GULACION DE FRECUENC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ROL DE ARE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G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ERGIZACION DE UNIDA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RCAMBIOS DE ENERG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OYO DINAMI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UNICACIO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IOS ONDA PORTADORA Y FIBRA OPT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ESO INFORMAC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LEMEDIDA Y TELECONTR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TECCIONE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SPALDO DE PROTECCIONES 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ERADORES Y TRANSFORMADORES DE CENTR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LOQUEO DE PROPAGACION DE FALLAS:  ESTABILIDAD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TECIONES DE DISTANCIA, DE SOBRECARGA, DIFERENCIALES, ET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GULACION DE TEN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 RED ENTREGA O ABSORBE POTENCIA REACTIVA DE LAS CENTRALES Y DE LOS CONSUMO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MINISTRA O ABSORBE POTENCIA REACTI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MITE POTENCIA REACTIVA POSITIVA O NEGATI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7696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GULACION DE FRECUENC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MITE QUE LA REGULACION SE TRANSMITA DE UN NUDO A OTRO:                                       REDUCE COSTOS DE REGULAR CON UNIDADES PROPI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FIERE LA CALIDAD DE FRECUENCIA A TODO EL SIST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EDE EVENTUALMENTE PERJUDICAR A UNIDADES NO PERTURBAD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31T14:19:43Z</dcterms:created>
  <dc:creator>Depto. Ingeniería Eléctrica</dc:creator>
  <dc:description/>
  <dc:language>en-US</dc:language>
  <cp:lastModifiedBy>omoya</cp:lastModifiedBy>
  <dcterms:modified xsi:type="dcterms:W3CDTF">2003-11-18T13:03:07Z</dcterms:modified>
  <cp:revision>13</cp:revision>
  <dc:subject/>
  <dc:title>SERVICIOS DE RED</dc:title>
</cp:coreProperties>
</file>