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4F3E-9FA4-4771-B3C3-6F115C8E7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73E8-EE16-4928-BC21-F0F33E48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CF50-DFCC-4A67-A264-8517E1C0E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BC1A-14E6-4C8D-BB7F-BE73F7D2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D9E9-D61E-42B5-A27D-0462D631C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60CE-899A-46A1-93DD-717D0AFA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C92D-51F1-42DF-B2AC-5F2426E2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38D2-D177-4EC7-BA8A-B772B8A5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1F81-AE57-489E-955A-D085F28C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6D54-BAF8-43DE-AE01-D5B9D414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1A9E-6DDF-4197-8122-B6CD80C1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DEBE-BAB2-49CA-8BC2-49A1F3F3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0D5C-736B-4944-8F7F-86DA20E3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EC1D-4485-44D4-826E-E3ED7D3A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9B38-1D11-4AAB-BEE8-985A0F8A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376E-FB56-414E-82EC-03A9BA394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6DA5-B835-467C-B1E9-96605DE5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E163-400F-4CD1-9F83-06FF41C4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5ACE-507A-487D-84FC-55C2203D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5A27-2B45-4036-ADDF-8B03C5C4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4925-4684-4D68-8B53-9E7A7CFD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DACB-01E5-4750-A531-8D1A5B4F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9673-84C2-41DA-BB79-D1F96A5C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96EC-1A33-42BC-ABA7-3450B8C2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34B5-1F93-4E05-A427-847EB996CF7A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DBE5-0063-4518-81E6-ABBBFDFD0239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olmarti@dcc.uchile.cl" TargetMode="External"/><Relationship Id="rId2" Type="http://schemas.openxmlformats.org/officeDocument/2006/relationships/hyperlink" Target="mailto:mmohamed@dcc.uchile.cl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Historia de Internet e IPv6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SEMINARIO DE COMUNICACIONES AVANZADAS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– CC60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olando Martinez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18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rolmarti@dcc.uchile.cl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hamed Mohamed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1800" spc="-1" strike="noStrike" u="sng">
                <a:solidFill>
                  <a:srgbClr val="cc00cc"/>
                </a:solidFill>
                <a:uFillTx/>
                <a:latin typeface="Times New Roman"/>
                <a:hlinkClick r:id="rId2"/>
              </a:rPr>
              <a:t>mmohamed@dcc.uchile.cl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El nacimiento de ARPANE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La Agencia de Proyectos de Investigación Avanzada del Pentágono (ARPA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Super-Computadores, con el fin de desarrollar proyectos de investigación y desarrollo nacional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La red se propag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En el otoño de 1969 el primero de esos nodos fue instalado en UCL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En diciembre de ese año había cuatro nodos en la pequeña red, que se llamó ARPANET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En 1971 había quince nodos en ARPANET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En 1972, treinta y siete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Se perdió el enfoque!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ARPANET se habían convertido en una oficina de correos electrónica de alta velocidad subvencionada federalmen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La mayor parte del tráfico de ARPANET no era el proceso de datos a largas distanci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Lista de correos, "Amantes de la Ciencia Ficción" (SF- LOVERS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  <a:ea typeface="Courier New"/>
              </a:rPr>
              <a:t>NSFNE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Potentes super-computadores, enlaces más amplios, rápidos y actualizad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Agencias gubernamentales también se unieron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: NASA, 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National Institutes of Health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epartament of Energy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Los nodos de esta creciente red de redes se dividían en subdivisiones básic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  <a:ea typeface="Courier New"/>
              </a:rPr>
              <a:t>NSFNE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Nacen los dominios geográficos, y los otros dominios fueron agrupados en: 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gov, mil, edu, com, org y ne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La red ARPANET propiamente dicha expiró en 1989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Nadie se notó la desaparición de ARPANE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  <a:ea typeface="Courier New"/>
              </a:rPr>
              <a:t>El futuro de Interne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El número de computadores con conexión directa al TCP/IP se ha estado doblando anualmente desde 1988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Para enero de 1999 se estimaba que habían cerca de 43.2 millones de computadoras conectadas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Dominios registrados, había cerca de 8 millones a nivel glob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  <a:ea typeface="Courier New"/>
              </a:rPr>
              <a:t>El futuro de Interne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Asignación de números de IPv4 no es suficien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Siguiente generación de Internet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Redes 100 veces más rápida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Aplicaciones con gran consumo de banda anch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Limitaciones del protocolo actua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antidad de direccion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Número máximo de direcciones = 2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Times New Roman"/>
              </a:rPr>
              <a:t>32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= 4 mil 300 millon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Redes de clase A: 15 millones nodo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Redes de clase B: 64000 nodos (más popular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Redes de clase C: 250 nodos (muy chica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Limitaciones del protocolo actua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antidad de computadores conectados se duplica cada 12 mes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ispositivos personales de computación móviles están entrando al mercad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endrán un crecimiento aún mayor que los PC’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Limitaciones del protocolo actua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Rute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irecciones IPv4 no proveen suficiente flexibilidad para construir jerarquías que puedan ser agregadas eficientement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La entrega de direcciones sin-clase() extiende un poco la vida de IPv4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entualmente nos quedaremos sin númer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 pregunta no es si necesitamos una extensión, sino cuando la necesitam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ntenid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istoria de Interne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Qué es Internet 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ómo se inició Internet 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ases de Interne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Primero intent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El nacimiento de ARPANE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La red se propag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Se perdió el enfoque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NSFNE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El futuro de Interne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Pv6 Resume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Direcciones de 128 bi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s-ES_tradnl" sz="3200" spc="-1" strike="noStrike" baseline="30000">
                <a:solidFill>
                  <a:srgbClr val="ffffcc"/>
                </a:solidFill>
                <a:latin typeface="Times New Roman"/>
              </a:rPr>
              <a:t>128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= 3.4x10</a:t>
            </a:r>
            <a:r>
              <a:rPr b="0" lang="es-ES_tradnl" sz="3200" spc="-1" strike="noStrike" baseline="30000">
                <a:solidFill>
                  <a:srgbClr val="ffffcc"/>
                </a:solidFill>
                <a:latin typeface="Times New Roman"/>
              </a:rPr>
              <a:t>38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=&gt; 665x10</a:t>
            </a:r>
            <a:r>
              <a:rPr b="0" lang="es-ES_tradnl" sz="3200" spc="-1" strike="noStrike" baseline="30000">
                <a:solidFill>
                  <a:srgbClr val="ffffcc"/>
                </a:solidFill>
                <a:latin typeface="Times New Roman"/>
              </a:rPr>
              <a:t>21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direcciones por m</a:t>
            </a:r>
            <a:r>
              <a:rPr b="0" lang="es-ES_tradnl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de la superficie de la tierr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ermite múltiples interfaces por hos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ermite múltiples direcciones por interf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Pv6 Resume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ermite tener anycast, multicast y unicas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Formato del header es más simp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lgunos campos del header de IPv4 fueron removidos o hechos opcional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Q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uede dar prioridad a cierta clase de paquet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(El: real-tim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Pv6 Resume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Pv6 incluye definición de extensiones que dan soporte para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la autentificació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ntegridad de dato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onfidencialida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Pv6 direccionamiento y heade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Notació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FEDC:0000:0000:0000:3243:0000:0000:ABC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uede abreviarse una secuencia de cer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FEDC::3243:0000:0000:ABC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ueden escribirse los últimos 32 bits en formato decimal (IPv4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Pv6 direccionamiento y heade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27416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Pv6 direccionamiento y heade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ampo ToS (prior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0    Uncharacterized traffic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1    "Filler" traffic (e.g., netnews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2    Unattended data transfer (e.g., email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3    (Reserved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4    Attended bulk transfer (e.g., FTP, HTTP, NFS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5    (Reserved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6    Interactive traffic (e.g., telnet, X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7    Internet control traffic (e.g., routing protocols, SNMP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Pv6 direccionamiento y heade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00000" y="2209680"/>
            <a:ext cx="7417080" cy="42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Pv6 direccionamiento y heade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Header IPv6, tiene solo el doble del tamaño de IPv4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olo la version tiene el mismo significad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ayload length se reemplaza por Datagram lengt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ipo de protocolo, se reemplaza por Next head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ime to live se reemplaza por Hop Lim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Pv6 direccionamiento y heade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415280" cy="130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irecciones Unicast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imes New Roman"/>
              </a:rPr>
              <a:t>Provider Based Unicast Addres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55640" y="3645000"/>
            <a:ext cx="7129440" cy="9144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95280" y="522936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imilar para los otros tipos de direccion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Pv6 extension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26920" y="2209680"/>
            <a:ext cx="741708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Contenid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Pv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Limitaciones del protocolo actual (IPv4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Pv6 características principal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Pv6 direccionamiento y head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Pv6 extension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Pv6 Rut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Pv6 extension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Las extensiones que están actualmente definidas so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Routing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Extended Routing (like IPv4 loose source route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Fragmentatio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Fragmentación y armad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Authentic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Seguridad e integridad de dato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Pv6 extension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Encapsul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onfidencial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Hop-by-Hop Optio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Opciones especiales que requieren que haya un procesamiento especial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Destination Option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nformación adicional que debe ser analizada por el nodo destin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Pv6 Rute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Algoritmos de ruteo son idénticos a los de ipv4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pv6 incorpora 3 nuevos algoritm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Provider Selection (based on policy, performance, cost, etc.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Host Mobility (route to current location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Auto-Readdressing (route to new address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Qué es Internet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Podemos definir a Internet como una "red de redes“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Internet sirve de enlace entre redes más pequeñas y permite ampliar su cobertura al hacerlas parte de una "red global".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48320" y="2808360"/>
            <a:ext cx="380988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Cómo se inició Interne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Guerra fría y una posible guerra nuclea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La América posnuclear necesitaría una red de comando y control enlazada de ciudad a ciudad, estado a estado, base a base.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El centro de la red sería el primer lugar a derribar.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Bases de Interne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La RAND publicó una propuesta atrevida el año 1964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La red no tendrá autoridad centra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Diseñada desde el principio para operar incluso hecha pedazo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Todos los nodos en la red serían iguales entre sí, cada nodo con autoridad para crear, pasar y recibir mensaj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Bases de Interne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Los mensajes se dividirían en paquetes, cada paquete dirigido por separad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Cada paquete saldría de un nodo fuente específico y terminaría en un nodo destin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Cada paquete recorrería la red según unos principios particular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La ruta que tome cada paquete no tendría importanci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Bases de Interne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Solo contarían los resultados final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Ventaja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Si una parte de la red es destruida, el paquete llegará a su destino usando la parte sobreviviente de ell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Desventaja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Este sistema de envío tan arbitrario podría parecer “ineficiente”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Primeros Intento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Durante los 60, este intrigante concepto de red de conmutación de paquetes descentralizada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caminó sin rumbo entre el RAND, el MIT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y UCLA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Courier New"/>
              </a:rPr>
              <a:t>El Laboratorio Nacional de Física de Gran Bretaña preparó la primera red de prueba basada en estos principios en 1968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00:41:53Z</dcterms:created>
  <dc:creator>mmohamed</dc:creator>
  <dc:description/>
  <dc:language>en-US</dc:language>
  <cp:lastModifiedBy>Rolando Martínez</cp:lastModifiedBy>
  <dcterms:modified xsi:type="dcterms:W3CDTF">2004-11-12T13:23:08Z</dcterms:modified>
  <cp:revision>64</cp:revision>
  <dc:subject/>
  <dc:title>Historia de Internet e IPv6</dc:title>
</cp:coreProperties>
</file>