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F27-462F-46D4-B5C6-9C9AD06D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6B1-E28A-4FB3-8F9C-4900266D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AE22-6402-4D80-AF4D-8B9722D1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56AF-E340-490E-8975-4BBA0809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06DE-5C95-4910-BBC7-9053DB53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E685-89C3-4512-A6A3-5BF9C0DF0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C79-FFE6-45AF-8D3A-ECFAB45F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4D3-C487-4B41-B70E-97EA11F7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037-7830-42F6-945C-DD65052D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B223-EDC1-4CF0-8EC5-E878705D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7C5F-BFA3-4E11-B0C7-482EEC02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03D-2CDA-4D03-9526-A0121A05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FDD1-B39E-429C-860F-141B1BCFB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362320" y="51811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Nicolás Le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Alvaro N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867280" cy="1466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4952880"/>
            <a:ext cx="1233720" cy="15051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209680" y="3657600"/>
            <a:ext cx="5181480" cy="337320"/>
            <a:chOff x="2209680" y="3657600"/>
            <a:chExt cx="5181480" cy="337320"/>
          </a:xfrm>
        </p:grpSpPr>
        <p:sp>
          <p:nvSpPr>
            <p:cNvPr id="45" name=""/>
            <p:cNvSpPr/>
            <p:nvPr/>
          </p:nvSpPr>
          <p:spPr>
            <a:xfrm>
              <a:off x="2209680" y="3657600"/>
              <a:ext cx="5181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09680" y="3657600"/>
              <a:ext cx="518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verdana"/>
                </a:rPr>
                <a:t>Worldwide Interoperability for Microwave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5181480" cy="4083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squ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533520" y="1895400"/>
          <a:ext cx="8256600" cy="4962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895400"/>
                    <a:ext cx="8256600" cy="49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A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762120" y="2362320"/>
          <a:ext cx="8103960" cy="38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2362320"/>
                    <a:ext cx="8103960" cy="38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FD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vide espectro disponible en múltiples subportador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Distribuye los datos en un gran número de carri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spaciado entre frecuencias evita que los demoduladores vean frecuencias distintas a las suyas propias (Esparcimiento ortog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lta eficiencia de espectro, resilencia a la interface RF y menor distorsión multi-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800600"/>
            <a:ext cx="5486400" cy="15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B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asa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a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en el chip AGN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uncionando de manera experimental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n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la Universidad de Stanford y en los Laboratorios B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1371600" y="3549600"/>
          <a:ext cx="7391520" cy="321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49600"/>
                    <a:ext cx="739152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: Proceso mediante el cual una onda se hace capaz de transmitir un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sualmente, ésto se hace variando alguna propiedad de la onda para transmitir datos digitales (series de 0’s y 1’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opiedades modificables de las ondas de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mplitu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251460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amplitud : Amplitud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06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4520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250320" y="571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90720" y="2971800"/>
            <a:ext cx="6941880" cy="2838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8640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52680" y="3200400"/>
            <a:ext cx="0" cy="321624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F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recuencia : Frecuency Shift Ke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ás tolerante al ruido que ASK, porque éste generalmente influye en la amplitud de la señ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3048120"/>
            <a:ext cx="8574120" cy="25812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754640" y="533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6924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5400" y="537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odulación por fase : Phase Shift Ke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varía la fase del siguiente baudio en algún 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xiste Binary PSK (BPSK) y Quadrature PSK (QP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BPSK 0º equivale a un 0 y 180º equivale a u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B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5800" y="2895480"/>
            <a:ext cx="812628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rebuchet MS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IEEE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nstitute of Electrical and Electronics Engineers</a:t>
            </a: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Estándar 802.16: “Air Interface for fixed Broadband Wireless Access Systems”,  WirelessMAN (metropolitan area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295280" y="4419720"/>
            <a:ext cx="6705720" cy="19206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grega las fases 90º y 270º, con lo cual se pueden transmitir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4956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P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09480" y="2895480"/>
            <a:ext cx="809784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También se puede variar la amplitud y la fase en una misma codificación, originando Quadrature Amplitude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combinación de fase y amplitud indica cierto número de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295280" y="4114800"/>
            <a:ext cx="64407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s posible agregar nuevas fases y amplitudes para obtener más estados po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267080" y="3200400"/>
            <a:ext cx="4515120" cy="32194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85800" y="4038480"/>
            <a:ext cx="3505320" cy="1981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 ejemplo, se pueden usar 12 ángulos de fase y 2 amplitudes para obtener 16 estados (se pueden codificar 4 bits por baud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 - 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 acuerdo al número de estados posibles existen 8-QAM, 16-QAM, 64-Q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QPSK (modulando con 4 fases), y QAM con sus distintos números de es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QPSK se transmiten 2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8-QAM se transmiten 3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16-QAM se transmiten 4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on 64-QAM se transmiten 6 bits por b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Adaptativa</a:t>
            </a:r>
            <a:r>
              <a:rPr b="1" i="1" lang="es-CL" sz="3600" spc="-1" strike="noStrike">
                <a:solidFill>
                  <a:srgbClr val="ffffff"/>
                </a:solidFill>
                <a:latin typeface="Trebuchet MS"/>
              </a:rPr>
              <a:t> - </a:t>
            </a:r>
            <a:r>
              <a:rPr b="0" i="1" lang="es-CL" sz="3200" spc="-1" strike="noStrike">
                <a:solidFill>
                  <a:srgbClr val="ffffff"/>
                </a:solidFill>
                <a:latin typeface="verdana"/>
              </a:rPr>
              <a:t>16-Q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809784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¿Por qué no utilizar sólo las técnicas de modulación de mayor orden (cantidad de bits por baudio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orque necesitan mejor relación señal/ruido para soportar las interferencias y mantener una cantidad de errores razo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modulación adaptativa permite al sistema elegir la técnica de mayor orden que el canal de conexión perm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Modulación Adapt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lmente el canal será mejor mientras se esté más cerca de la estación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662940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33520" y="2514600"/>
            <a:ext cx="8153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utiliza los algoritmos de encriptación DES (data encryption standard) y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Variación del algoritmo LUCIFER de 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 de 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loques de 64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ifrador de Feis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como estándar federal en E.E.U.U. en 19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segurar que estándar ofrezcan interoperabilidad dentro de una amplia gama de productos de comunicación certificados (WiMAX Forum Certified™) entre todas las redes y proveedores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Acceso de última milla de banda an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exión inalámb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in línea directa de visión a la estación base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Non Line of S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Diferenciar calidad de servicio (M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33160" y="3962160"/>
            <a:ext cx="5257800" cy="243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ermu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nciones fi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16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Genera sub-llaves para cada 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809880" y="2362320"/>
            <a:ext cx="5029200" cy="349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629400" y="601992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533520" y="2438280"/>
            <a:ext cx="3200400" cy="4191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uede utilizarse como electronic codebook (ECB), cipher block chaining (CBC), cipher feedback (CFB), output feedback (OF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WiMax lo utiliza en modo CBC, donde a cada bloque se le aplica XOR con el anterior antes de encript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6553080"/>
            <a:ext cx="24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rebuchet MS"/>
              </a:rPr>
              <a:t>Fuente : Roberto Opazo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86200" y="2514600"/>
            <a:ext cx="52578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DES se extiende a Tripl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e comenzó a perder confianza en él por los ataques por fuerza bru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Fue reemplazado por AES (advanced encryption stand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el algoritmo Rijnda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goritmo de encriptación simétrica, de substitución-permu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reado por Joan Daemen y Vincent Rij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Utiliza bloques de 12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laves de 128, 192 ó 256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optado por el NIST (National Institute of Standards and Technology) en Noviembre 2001, reemplazando a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533160" y="2361960"/>
            <a:ext cx="4724280" cy="4343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Primero se efectúa Add Round Key (bloque    subll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uego vienen 9 rounds (si la llave es de 128 bits), 11 (192 bits) ó 13 (256 b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En cada round se efect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Byte Sub (reemplazar los valores del bloque según una S-Bo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Shift Row (ordenar de manera distinta los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Mix Column (cada columna del bloque se multiplica por una matriz fij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dd Round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1676520" y="3048120"/>
            <a:ext cx="142920" cy="142920"/>
            <a:chOff x="1676520" y="3048120"/>
            <a:chExt cx="142920" cy="142920"/>
          </a:xfrm>
        </p:grpSpPr>
        <p:sp>
          <p:nvSpPr>
            <p:cNvPr id="207" name=""/>
            <p:cNvSpPr/>
            <p:nvPr/>
          </p:nvSpPr>
          <p:spPr>
            <a:xfrm>
              <a:off x="1676520" y="3048120"/>
              <a:ext cx="142920" cy="142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7800" y="30481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76520" y="31197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867280" y="2057400"/>
            <a:ext cx="2210040" cy="4610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1600200" y="2959200"/>
            <a:ext cx="1904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Trebuchet MS"/>
              </a:rPr>
              <a:t>Encriptación - A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l final se efectúa un round adicional sin Mix Colu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Cada subllave se calcula mediante el Ke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La siguiente subllave es función de una parte de la llave anteri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Aplicando shift de un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la S-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Trebuchet MS"/>
              </a:rPr>
              <a:t>XOR con una columna de una matriz fija Rcon (round consta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xplosivo crecimiento para próximos 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1a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"/>
          <p:cNvGraphicFramePr/>
          <p:nvPr/>
        </p:nvGraphicFramePr>
        <p:xfrm>
          <a:off x="1447920" y="2971800"/>
          <a:ext cx="6172200" cy="371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971800"/>
                    <a:ext cx="6172200" cy="37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max no es una competencia a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W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-F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i sino un complemento y que tampoco será una competencia tan directa a la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 3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 (o eventualmente 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4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) -&gt; C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nvergencia de las tecnolog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i="1" lang="en-GB" sz="2000" spc="-1" strike="noStrike">
                <a:solidFill>
                  <a:srgbClr val="ffffff"/>
                </a:solidFill>
                <a:latin typeface="verdana"/>
              </a:rPr>
              <a:t>obrepasará a los servicios de cable de banda ancha y DSL porque ofrece velocidades similares pero a un menor coste para las oper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0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 a 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43600" cy="2904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Conexión Punto-Multip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5715000" cy="42336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lgunos estándares pertenecientes a la familia IEEE 802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a (WiMA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IEEE 802.16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apa PHY y Capa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PHY)Interfaz aire para 10-66 GHz (2-11 G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Opera en bandas licenciadas y no licenciadas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Tasa de transmisión de hasta 75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Extras: Red en Ma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394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para antenas inteligentes: Mejora eficacia espectral en redes inalámb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Orthogonal Frequency Division Multiplexing (OFDM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ultiple-Input Multiple-Output (M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Control de potencia de trans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(MAC)Topologías de 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Punto-multi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Mesh (malla): Comunicación de suscriptor-para-suscripto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Soporte a FDD (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frequency  division duplexing)</a:t>
            </a: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 y TDD </a:t>
            </a: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(time division duplex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Codificación y modulación adaptativas (QPSK, QAM)</a:t>
            </a:r>
            <a:r>
              <a:rPr b="0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Ajuste dinámico tamaño paqu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Trebuchet MS"/>
              </a:rPr>
              <a:t>Nuevas características en 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Medidas para privacidad y criptografía inh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Autenticación instrumentos (certificados x.509) usando DES en modo CBC </a:t>
            </a:r>
            <a:r>
              <a:rPr b="0" i="1" lang="es-ES" sz="1800" spc="-1" strike="noStrike">
                <a:solidFill>
                  <a:srgbClr val="ffffff"/>
                </a:solidFill>
                <a:latin typeface="Trebuchet MS"/>
              </a:rPr>
              <a:t>(cipher block ch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ffffff"/>
                </a:solidFill>
                <a:latin typeface="Trebuchet MS"/>
              </a:rPr>
              <a:t>Soporta algoritmos AES </a:t>
            </a:r>
            <a:r>
              <a:rPr b="0" i="1" lang="en-US" sz="1800" spc="-1" strike="noStrike">
                <a:solidFill>
                  <a:srgbClr val="ffffff"/>
                </a:solidFill>
                <a:latin typeface="Trebuchet MS"/>
              </a:rPr>
              <a:t>(Advanced Encryption Standa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Alcance de 50 kilómetros (NLOS)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Forum (www.wimaxforum.org/hom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Compa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280" y="2819520"/>
          <a:ext cx="8991720" cy="3570120"/>
        </p:xfrm>
        <a:graphic>
          <a:graphicData uri="http://schemas.openxmlformats.org/drawingml/2006/table">
            <a:tbl>
              <a:tblPr/>
              <a:tblGrid>
                <a:gridCol w="2438640"/>
                <a:gridCol w="2133360"/>
                <a:gridCol w="2171880"/>
                <a:gridCol w="224784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ará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6a (WiMA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1 (WLA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802.15 (Bluetooth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Banda Frecu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-11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.4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Var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an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50 [k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30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 [m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Tasa transfer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70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10-55 [M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K – 55M [bps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Usu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Mi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Doce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rebuchet MS"/>
              </a:rPr>
              <a:t>Desarroll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520" y="2514240"/>
            <a:ext cx="8153280" cy="3809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Fabricantes de chipsets WiMax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In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Fujit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Wavesat (de Canadá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equans Communications (ex-empleados Alcatel)</a:t>
            </a:r>
            <a:r>
              <a:rPr b="0" i="1" lang="en-US" sz="16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ffffff"/>
                </a:solidFill>
                <a:latin typeface="Trebuchet MS"/>
              </a:rPr>
              <a:t>Producción de equ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var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lcat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perto Networ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Air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ffffff"/>
                </a:solidFill>
                <a:latin typeface="Trebuchet MS"/>
              </a:rPr>
              <a:t>Sieme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rebuchet MS"/>
              </a:rPr>
              <a:t>Plan Intel para expansión WiM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600200" y="2286000"/>
          <a:ext cx="6095880" cy="4110120"/>
        </p:xfrm>
        <a:graphic>
          <a:graphicData uri="http://schemas.openxmlformats.org/drawingml/2006/table">
            <a:tbl>
              <a:tblPr/>
              <a:tblGrid>
                <a:gridCol w="762120"/>
                <a:gridCol w="533376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Propós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star presente en la mitad de los notebooks del mun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Crecer rápido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Existir en teléfonos celulares y empezar a implementar en note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Red de banda ancha para SOH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parecer en líneas privadas de empres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457200" y="1676520"/>
            <a:ext cx="8077320" cy="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277120" y="1371600"/>
            <a:ext cx="86688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4:49:10Z</dcterms:created>
  <dc:creator>Nicolas Leiva</dc:creator>
  <dc:description/>
  <dc:language>en-US</dc:language>
  <cp:lastModifiedBy>Nicolas Leiva</cp:lastModifiedBy>
  <dcterms:modified xsi:type="dcterms:W3CDTF">2004-10-29T03:38:22Z</dcterms:modified>
  <cp:revision>41</cp:revision>
  <dc:subject/>
  <dc:title>WiMAX</dc:title>
</cp:coreProperties>
</file>