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BC8-7AD9-44D3-A0CC-7B03D679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A31-7101-4797-B86B-906CBD47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5F2-1F84-4ED4-9073-7BAC71DE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7DC-924A-46A9-90F2-0C281884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EF09-79C9-420C-AAEB-227364BF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D0AD-A4CB-49EC-85AE-B9302F2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5B46-A08C-4954-8251-7AD9BBD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8667-1749-44C7-8E2D-C36BF52B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8149-2A98-4702-9417-1D0F6066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57F9-4E85-4603-90E4-3C513DCD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763B-6310-47D7-B490-CC12D705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EE1-D0A8-4DF2-A599-8A67EAA4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64E1-5198-4BE2-BE54-9F8D083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072F-75D4-48BB-B28E-D245129D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46E7-1B4C-4D92-BB51-397E697E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9FB6-7739-4391-BF4D-9E1B0401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B006-A477-43AF-A7FA-2211D78F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6B1-CD7C-4B0A-B698-7CC0197A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C78-0443-49A9-AA73-76E15895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88F-D499-4B4C-B668-A4CD20D5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182-76EC-4656-A340-D51D103E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61B-ECF1-4B2F-B14C-643BFAC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3A6-D95C-424E-A102-D7ECB96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349-540B-4564-BCD9-D83B5F8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97AA-7BCD-479D-B859-FD1A36A3E69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30E-033F-4490-B8BD-554DF9EC568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lmarti@dcc.uchile.cl" TargetMode="External"/><Relationship Id="rId2" Type="http://schemas.openxmlformats.org/officeDocument/2006/relationships/hyperlink" Target="mailto:mmohamed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ia de Internet e IPv6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MINARIO DE COMUNICACIONES AVANZADA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CC60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ando Martinez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rolmarti@dcc.uchile.cl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hamed Mohamed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mmohamed@dcc.uchile.cl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El nacimiento de ARPA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Agencia de Proyectos de Investigación Avanzada del Pentágono (ARPA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Super-Computadores, con el fin de desarrollar proyectos de investigación y desarrollo nacion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La red se propag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el otoño de 1969 el primero de esos nodos fue instalado en UC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diciembre de ese año había cuatro nodos en la pequeña red, que se llamó ARPANE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1971 había quince nodos en ARPANE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1972, treinta y siete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Se perdió el enfoque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ARPANET se habían convertido en una oficina de correos electrónica de alta velocidad subvencionada federal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mayor parte del tráfico de ARPANET no era el proceso de datos a largas distanc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ista de correos, "Amantes de la Ciencia Ficción" (SF- LOVER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NSF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otentes super-computadores, enlaces más amplios, rápidos y actualiza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Agencias gubernamentales también se unieron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: NASA,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ational Institutes of Health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partament of Energy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os nodos de esta creciente red de redes se dividían en subdivisiones bás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NSF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acen los dominios geográficos, y los otros dominios fueron agrupados en: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gov, mil, edu, com, org y n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red ARPANET propiamente dicha expiró en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adie se notó la desaparición de ARPAN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El futuro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número de computadores con conexión directa al TCP/IP se ha estado doblando anualmente desde 198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Para enero de 1999 se estimaba que habían cerca de 43.2 millones de computadoras conectadas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Dominios registrados, había cerca de 8 millones a nivel glob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El futuro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signación de números de IPv4 no es sufic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Siguiente generación de Interne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Redes 100 veces más rápi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ones con gran consumo de banda anch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tidad de direc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úmero máximo de direcciones = 2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Times New Roman"/>
              </a:rPr>
              <a:t>32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= 4 mil 300 mill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A: 15 millones nod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B: 64000 nodos (más popular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C: 250 nodos (muy chic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de computadores conectados se duplica cada 12 me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spositivos personales de computación móviles están entrando al mer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ndrán un crecimiento aún mayor que los PC’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ute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recciones IPv4 no proveen suficiente flexibilidad para construir jerarquías que puedan ser agregadas eficientem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entrega de direcciones sin-clase() extiende un poco la vida de IPv4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entualmente nos quedaremos sin núme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pregunta no es si necesitamos una extensión, sino cuando la necesitam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enid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storia de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é es Internet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ómo se inició Internet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s de Inter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imero inten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l nacimiento de ARPA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La red se propag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 perdió el enfoque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SF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futuro de Inter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recciones de 128 b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128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= 3.4x10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38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=&gt; 665x10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21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recciones por m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de la superficie de la tier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múltiples interfaces por ho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múltiples direcciones por interf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tener anycast, multicast y unica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ormato del header es más si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gunos campos del header de IPv4 fueron removidos o hechos opc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Q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dar prioridad a cierta clase de paque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El: real-tim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 incluye definición de extensiones que dan soporte para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autentific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gridad de da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fidencial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Notació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DC:0000:0000:0000:3243:0000:0000:ABC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abreviarse una secuencia de ce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EDC::3243:0000:0000:ABC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n escribirse los últimos 32 bits en formato decimal (IPv4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2741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po ToS (pri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0    Uncharacterized traff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1    "Filler" traffic (e.g., netnews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2    Unattended data transfer (e.g., emai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3    (Reserved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4    Attended bulk transfer (e.g., FTP, HTTP, NFS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5    (Reserved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6    Interactive traffic (e.g., telnet, X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7    Internet control traffic (e.g., routing protocols, SNM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2209680"/>
            <a:ext cx="741708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eader IPv6, tiene solo el doble del tamaño de IPv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olo la version tiene el mismo signifi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yload length se reemplaza por Datagram leng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ipo de protocolo, se reemplaza por Next head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ime to live se reemplaza por Hop Lim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415280" cy="13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recciones Unicas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Provider Based Unicast Addres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12944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522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milar para los otros tipos de direccio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209680"/>
            <a:ext cx="74170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tenid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imitaciones del protocolo actual (IPv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características princip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direccionamiento y hea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extensi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Rut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extensiones que están actualmente definidas s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Rout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xtended Routing (like IPv4 loose source route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Fragment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agmentación y arm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guridad e integridad de dat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fidencia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Hop-by-Hop Op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pciones especiales que requieren que haya un procesamiento especi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stination Optio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formación adicional que debe ser analizada por el nodo destin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ute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oritmos de ruteo son idénticos a los de ipv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 incorpora 3 nuevos algoritm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Provider Selection (based on policy, performance, cost, etc.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Host Mobility (route to current location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uto-Readdressing (route to new address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Qué es Interne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Podemos definir a Internet como una "red de redes“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Internet sirve de enlace entre redes más pequeñas y permite ampliar su cobertura al hacerlas parte de una "red global".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2808360"/>
            <a:ext cx="38098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ómo se inició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Guerra fría y una posible guerra nucle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América posnuclear necesitaría una red de comando y control enlazada de ciudad a ciudad, estado a estado, base a base.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centro de la red sería el primer lugar a derribar.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a RAND publicó una propuesta atrevida el año 1964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red no tendrá autoridad centr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Diseñada desde el principio para operar incluso hecha pedaz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Todos los nodos en la red serían iguales entre sí, cada nodo con autoridad para crear, pasar y recibir mensaj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os mensajes se dividirían en paquetes, cada paquete dirigido por separ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da paquete saldría de un nodo fuente específico y terminaría en un nodo destin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da paquete recorrería la red según unos principios particula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ruta que tome cada paquete no tendría importa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Solo contarían los resultados fi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Ventaj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Si una parte de la red es destruida, el paquete llegará a su destino usando la parte sobreviviente de ell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sventaj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ste sistema de envío tan arbitrario podría parecer “ineficiente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Primeros Inten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Durante los 60, este intrigante concepto de red de conmutación de paquetes descentralizada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minó sin rumbo entre el RAND, el MI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y UCLA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Laboratorio Nacional de Física de Gran Bretaña preparó la primera red de prueba basada en estos principios en 196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0:41:53Z</dcterms:created>
  <dc:creator>mmohamed</dc:creator>
  <dc:description/>
  <dc:language>en-US</dc:language>
  <cp:lastModifiedBy>Rolando Martínez</cp:lastModifiedBy>
  <dcterms:modified xsi:type="dcterms:W3CDTF">2004-11-12T13:23:08Z</dcterms:modified>
  <cp:revision>64</cp:revision>
  <dc:subject/>
  <dc:title>Historia de Internet e IPv6</dc:title>
</cp:coreProperties>
</file>