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6B6-094C-44F5-9BFE-A986C7DC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3DC-4399-4A08-B47B-673B5107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6A4-CB35-4217-82DE-DEC613D4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048-A3CA-495C-813E-08BBDEAB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3964-41DF-47BD-858D-F785FBD0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068D-4607-4B74-8811-000D2E63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5923-2F8C-4776-AE07-7072765F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6072-68AD-407F-AA74-ED643276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13BF-6079-4A44-B34E-4A000065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10BF-4F03-4A0E-8110-2F9BCF94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1728-AA33-4127-94CC-C074EFAC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405-F02C-425D-BA9C-587B8951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3064-ED92-48EC-971F-33526824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7B13-1A33-45D8-BF21-7F3D0135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541E-BB72-4F8F-9C10-D722B8DE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F809-A235-4210-8BF8-35AC5753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87A5-AFA8-4DDD-BC0A-5821B2BF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228-4EE5-45F2-8B7F-308C8B39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B3C-1A5E-4642-92BF-DC9B19F8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F07-53E0-46C2-9BC2-C6F24376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5F8-BC07-420A-B96C-F157A02B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428-98D4-43EE-964F-0B604713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AF2-602A-4C61-B3F8-3352A4F7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511-A5D1-499F-A685-7E4EB87A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C56D-887C-4ED9-96D8-7C424FD675C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B1B2-3E7A-4E50-9F65-CE28A26D974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olmarti@dcc.uchile.cl" TargetMode="External"/><Relationship Id="rId2" Type="http://schemas.openxmlformats.org/officeDocument/2006/relationships/hyperlink" Target="mailto:mmohamed@dcc.uchile.cl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istoria de Internet e IPv6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EMINARIO DE COMUNICACIONES AVANZADAS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– CC60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lando Martinez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rolmarti@dcc.uchile.cl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hamed Mohamed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mmohamed@dcc.uchile.cl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El nacimiento de ARPA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a Agencia de Proyectos de Investigación Avanzada del Pentágono (ARPA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Super-Computadores, con el fin de desarrollar proyectos de investigación y desarrollo naciona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La red se propag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n el otoño de 1969 el primero de esos nodos fue instalado en UCL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n diciembre de ese año había cuatro nodos en la pequeña red, que se llamó ARPANET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n 1971 había quince nodos en ARPANET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n 1972, treinta y siete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Se perdió el enfoque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ARPANET se habían convertido en una oficina de correos electrónica de alta velocidad subvencionada federalm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a mayor parte del tráfico de ARPANET no era el proceso de datos a largas distanci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ista de correos, "Amantes de la Ciencia Ficción" (SF- LOVERS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  <a:ea typeface="Courier New"/>
              </a:rPr>
              <a:t>NSF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otentes super-computadores, enlaces más amplios, rápidos y actualizad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Agencias gubernamentales también se unieron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: NASA, 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National Institutes of Health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partament of Energy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os nodos de esta creciente red de redes se dividían en subdivisiones bási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  <a:ea typeface="Courier New"/>
              </a:rPr>
              <a:t>NSF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Nacen los dominios geográficos, y los otros dominios fueron agrupados en: 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gov, mil, edu, com, org y n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a red ARPANET propiamente dicha expiró en 1989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Nadie se notó la desaparición de ARPAN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  <a:ea typeface="Courier New"/>
              </a:rPr>
              <a:t>El futuro de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l número de computadores con conexión directa al TCP/IP se ha estado doblando anualmente desde 1988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Para enero de 1999 se estimaba que habían cerca de 43.2 millones de computadoras conectadas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Dominios registrados, había cerca de 8 millones a nivel glob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  <a:ea typeface="Courier New"/>
              </a:rPr>
              <a:t>El futuro de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Asignación de números de IPv4 no es sufic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Siguiente generación de Interne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Redes 100 veces más rápid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Aplicaciones con gran consumo de banda anch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imitaciones del protocolo actu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ntidad de direc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úmero máximo de direcciones = 2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Times New Roman"/>
              </a:rPr>
              <a:t>32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= 4 mil 300 millo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edes de clase A: 15 millones nod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edes de clase B: 64000 nodos (más popular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edes de clase C: 250 nodos (muy chica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imitaciones del protocolo actu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ntidad de computadores conectados se duplica cada 12 mes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spositivos personales de computación móviles están entrando al mercad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endrán un crecimiento aún mayor que los PC’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imitaciones del protocolo actu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ute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recciones IPv4 no proveen suficiente flexibilidad para construir jerarquías que puedan ser agregadas eficientemen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entrega de direcciones sin-clase() extiende un poco la vida de IPv4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entualmente nos quedaremos sin númer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pregunta no es si necesitamos una extensión, sino cuando la necesitam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tenid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storia de Inter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é es Internet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ómo se inició Internet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es de Intern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Primero intent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l nacimiento de ARPAN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La red se propag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e perdió el enfoque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NSFN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l futuro de Intern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Resume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irecciones de 128 bi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s-ES_tradnl" sz="3200" spc="-1" strike="noStrike" baseline="30000">
                <a:solidFill>
                  <a:srgbClr val="ffffcc"/>
                </a:solidFill>
                <a:latin typeface="Times New Roman"/>
              </a:rPr>
              <a:t>128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= 3.4x10</a:t>
            </a:r>
            <a:r>
              <a:rPr b="0" lang="es-ES_tradnl" sz="3200" spc="-1" strike="noStrike" baseline="30000">
                <a:solidFill>
                  <a:srgbClr val="ffffcc"/>
                </a:solidFill>
                <a:latin typeface="Times New Roman"/>
              </a:rPr>
              <a:t>38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=&gt; 665x10</a:t>
            </a:r>
            <a:r>
              <a:rPr b="0" lang="es-ES_tradnl" sz="3200" spc="-1" strike="noStrike" baseline="30000">
                <a:solidFill>
                  <a:srgbClr val="ffffcc"/>
                </a:solidFill>
                <a:latin typeface="Times New Roman"/>
              </a:rPr>
              <a:t>21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irecciones por m</a:t>
            </a:r>
            <a:r>
              <a:rPr b="0" lang="es-ES_tradnl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de la superficie de la tier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mite múltiples interfaces por ho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mite múltiples direcciones por interf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Resume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mite tener anycast, multicast y unica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ormato del header es más si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lgunos campos del header de IPv4 fueron removidos o hechos opcion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Q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 dar prioridad a cierta clase de paquet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El: real-tim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Resume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Pv6 incluye definición de extensiones que dan soporte para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autentific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tegridad de dat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fidencialida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Notació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DC:0000:0000:0000:3243:0000:0000:ABC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 abreviarse una secuencia de cer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EDC::3243:0000:0000:ABC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n escribirse los últimos 32 bits en formato decimal (IPv4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2741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mpo ToS (prio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0    Uncharacterized traffic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1    "Filler" traffic (e.g., netnews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2    Unattended data transfer (e.g., email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3    (Reserved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4    Attended bulk transfer (e.g., FTP, HTTP, NFS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5    (Reserved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6    Interactive traffic (e.g., telnet, X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7    Internet control traffic (e.g., routing protocols, SNM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2209680"/>
            <a:ext cx="741708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Header IPv6, tiene solo el doble del tamaño de IPv4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olo la version tiene el mismo significad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yload length se reemplaza por Datagram lengt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ipo de protocolo, se reemplaza por Next head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ime to live se reemplaza por Hop Lim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415280" cy="13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recciones Unicast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Provider Based Unicast Addres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7129440" cy="914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5280" y="522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milar para los otros tipos de direccion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extens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2209680"/>
            <a:ext cx="74170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ontenid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Pv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imitaciones del protocolo actual (IPv4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Pv6 características princip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Pv6 direccionamiento y hea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Pv6 extensio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Pv6 Rut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extens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extensiones que están actualmente definidas s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Rout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xtended Routing (like IPv4 loose source route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Fragmenta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ragmentación y arma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Authent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eguridad e integridad de dat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extens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fidencial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Hop-by-Hop Op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Opciones especiales que requieren que haya un procesamiento especi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estination Option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formación adicional que debe ser analizada por el nodo destin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Rute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lgoritmos de ruteo son idénticos a los de ipv4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pv6 incorpora 3 nuevos algoritm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Provider Selection (based on policy, performance, cost, etc.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Host Mobility (route to current location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Auto-Readdressing (route to new address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Qué es Internet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Podemos definir a Internet como una "red de redes“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Internet sirve de enlace entre redes más pequeñas y permite ampliar su cobertura al hacerlas parte de una "red global".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2808360"/>
            <a:ext cx="38098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ómo se inició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Guerra fría y una posible guerra nucle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a América posnuclear necesitaría una red de comando y control enlazada de ciudad a ciudad, estado a estado, base a base.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l centro de la red sería el primer lugar a derribar.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Bases de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La RAND publicó una propuesta atrevida el año 1964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La red no tendrá autoridad centr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Diseñada desde el principio para operar incluso hecha pedaz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Todos los nodos en la red serían iguales entre sí, cada nodo con autoridad para crear, pasar y recibir mensaj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Bases de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os mensajes se dividirían en paquetes, cada paquete dirigido por separad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Cada paquete saldría de un nodo fuente específico y terminaría en un nodo destin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Cada paquete recorrería la red según unos principios particular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a ruta que tome cada paquete no tendría importanci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Bases de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Solo contarían los resultados fin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Ventaj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Si una parte de la red es destruida, el paquete llegará a su destino usando la parte sobreviviente de ell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esventaj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ste sistema de envío tan arbitrario podría parecer “ineficiente”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Primeros Intent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Durante los 60, este intrigante concepto de red de conmutación de paquetes descentralizada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caminó sin rumbo entre el RAND, el MIT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y UCLA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l Laboratorio Nacional de Física de Gran Bretaña preparó la primera red de prueba basada en estos principios en 1968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00:41:53Z</dcterms:created>
  <dc:creator>mmohamed</dc:creator>
  <dc:description/>
  <dc:language>en-US</dc:language>
  <cp:lastModifiedBy>Rolando Martínez</cp:lastModifiedBy>
  <dcterms:modified xsi:type="dcterms:W3CDTF">2004-11-12T13:23:08Z</dcterms:modified>
  <cp:revision>64</cp:revision>
  <dc:subject/>
  <dc:title>Historia de Internet e IPv6</dc:title>
</cp:coreProperties>
</file>