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CDB-7CF2-4AFA-9D2F-78BD0B0D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241-7913-4EE3-B827-789D152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D18-4470-49D3-8CA2-16902F88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4DC-A9FB-4A19-88B6-30B9C8C9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A06E-C249-4A4E-8981-77398677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E87-4013-41CF-9A4D-F881924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539D-79C3-41FD-90E3-341B14D3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ECEB-3779-4B24-9783-548545AA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34E-3A13-474F-9AC4-DCB0D5F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8AC-138D-440F-BA7D-E33A401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FF66-3304-466F-A83C-E1B77B3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A9F-7A37-4C69-AE31-21AA47A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C7C-E420-4577-94C9-D593609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439-CA46-4764-8E4C-9DD4841C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CD68-F4B8-45CF-8E9B-E3A3276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8E6-239F-47F4-AC72-C8E59467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E5B-71F1-46D9-B0D4-C9520E71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3B3-BBB6-4BF0-954A-1A3F131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588-649E-4876-8B43-B681D88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B9D-97E3-47F4-B168-E7AA66AC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3A4-2B45-4781-A365-EE8A596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FF7-38FB-45DB-8461-97747F9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A89-EFFD-4DCB-9347-603EA61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31F-CC40-42E6-9749-C2BCC72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96D-C107-4597-AFBB-B383F1DD80D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191-8279-4D0B-B0D9-838B5BCCB76F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Nanotubos de Carbono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abriel Bra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orge Valen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5/11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storia 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Buckyball (      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do comienza en 1985 con el descubrimiento de la Bucky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evo tipo de molécula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er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 1990 se teoriza que fulleranos tubulares deberian ser posi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3760" y="1986120"/>
            <a:ext cx="3510000" cy="34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71800" y="106668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65240" y="56386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ttp://www.slb.com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storia 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a historia de los nanotubo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realidad los nanotubos habían sido descubiertos 30 años antes por Francis B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finales de los 70’s Morinobu Endo volvio a observar estos tu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91 después del  descubrimiento de los fulleranos Sumio Iijima (NEC) observó MW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93 Sumio Iijima y Donald Bethune (IBM) observaron, de manera independiente, SW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9810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de Nanotubos de Carbon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porización por pulsos de láser (PL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carga de arco o arco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osición de vapor químico (CV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a presión (HiP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080" y="914400"/>
            <a:ext cx="8064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Vaporización por pulsos láser (PLV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93600" y="1828800"/>
            <a:ext cx="6855120" cy="246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9440" y="4495680"/>
            <a:ext cx="76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tivo de grafito con un .5% atómico de Ni y/o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~500 Torr Ar fluyendo por un tubo de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 un horno a ~1000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áser de pulsos de Nd:YAG 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odymium: Yttrium-Aluminum-Garnet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60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or pureza pero escasa producción (~0.4 gramos/ho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el grupo JSC de la NASA establecido en las instalacione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versidad Rice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960" y="833040"/>
            <a:ext cx="8151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Descarga de arco ó arco de carbon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7440" y="1973160"/>
            <a:ext cx="4496040" cy="173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3886200"/>
            <a:ext cx="820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 primer método disponible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 arco eléctrico vaporiza un ánodo de carbon que con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catalizadores (Ni y 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mósfera de 500 Torr de He, Corriente: 100 amp y 35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 cámara es enfriada usando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nanotubos se forman en las murallas interiores de la cá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un grupo en la Universidad de Monpel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0400" y="990720"/>
            <a:ext cx="782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Deposición de vapor químico (CVD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ea: precubrir el substrato con un catalizador y hacer crecer  nanotubos en ellos por medio de CV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o clave: depositar el catalizador en lugares predefin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ntaj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cimiento selec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odemos hacer crecer nanotubos en el lugar que que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el grupo Xie en China e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a hidrocarbonos como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2104920"/>
            <a:ext cx="3886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I: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asos del CVD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Se cubre el substrato por una(s) capa(s) metalica no catalitic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deposita el catalizador sobre el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deja entrar gas hidrocarbónico a la cá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VD crecimiento de nanotubos de carbon en el catalizad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833040"/>
            <a:ext cx="7907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V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PC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647800" y="4935600"/>
                <a:ext cx="32400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80640" y="4556160"/>
            <a:ext cx="7833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e nanotubos de paredes simples en fase gaseosa (1200C, 10 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+CO       C+               cataliz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hace pasar monóxido de carbono a altas presiones junto a pequeñas c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 catalizador a traves de un reactor calentado a altas temperaturas (800-1200º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mite producir grandes cantidades de SWNT (~450mg/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didas de purificación son inncesarias debido al uso de CO como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. Nikolaev et 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08360" y="4856040"/>
                <a:ext cx="72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CO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0" name=""/>
          <p:cNvGrpSpPr/>
          <p:nvPr/>
        </p:nvGrpSpPr>
        <p:grpSpPr>
          <a:xfrm>
            <a:off x="1600200" y="1903320"/>
            <a:ext cx="5411880" cy="2570400"/>
            <a:chOff x="1600200" y="1903320"/>
            <a:chExt cx="5411880" cy="25704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600200" y="1903320"/>
              <a:ext cx="5411880" cy="25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1600200" y="1903320"/>
              <a:ext cx="5411880" cy="257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00"/>
                </a:spcBef>
                <a:buClr>
                  <a:srgbClr val="660000"/>
                </a:buClr>
                <a:buSzPct val="70000"/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20000"/>
                </a:solidFill>
                <a:latin typeface="Times New Roman"/>
              </a:rPr>
              <a:t>Comparació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2058840"/>
          <a:ext cx="8534520" cy="4189320"/>
        </p:xfrm>
        <a:graphic>
          <a:graphicData uri="http://schemas.openxmlformats.org/drawingml/2006/table">
            <a:tbl>
              <a:tblPr/>
              <a:tblGrid>
                <a:gridCol w="1295280"/>
                <a:gridCol w="2133720"/>
                <a:gridCol w="251460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arga de 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cortos con diámetros ent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-1.4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largos con diámetros entre 0.6-4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s manojos de tubos (5-20 micrones) con diámetros individuales de 1 a 2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cortos con diámetro interno de  1-3 nm y externo de ~10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largos con diámetros entre 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40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hay mucho interés en esta tecnica debido a ser muy costosa, pero la sintesis de MWNT es posib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20000"/>
                </a:solidFill>
                <a:latin typeface="Times New Roman"/>
              </a:rPr>
              <a:t>Comparación (Cont.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828800"/>
          <a:ext cx="8229600" cy="483408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2057400"/>
                <a:gridCol w="205740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arga de 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oducir fácilmente SWNT, MWNTs. Los SWNT tienen pocos defectos estructurales; Puede producir MWNTs sin catalizador, no es demasiado costosa, la síntesis al aire libre es posi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ás fácil de escalar a producción industrial; tubos largos, proceso simple, el diámetro de los SWNT es controlable, alta pure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cipalmente SWNTs, con buen control del diámetro y pocos defectos. El producto de la reacción es bastante p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vent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tubos tienden a ser cortos con tamaños y direcciones aleatorias; a menudo necesita mucha purific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nanotubos típicamente son MWNTs y a menudo están llenos de defe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cnica costosa porque requiere láser caros y grandes cantidades de energía, pero está mejor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Nanotub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Aplicacio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 de efecto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ntas de S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ntallas basadas en emisión de partíc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ás aplicaciones po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Transistor de nanotub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 de Efe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jo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21948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36576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untas de SP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 puntas de los Scanning Probe Microscopes (SPM) usualmente son cables de metal pero pocas veces sobreviven un gol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s: alto aspect-ratio, punta bien definida, mucho mas res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24280" y="2336760"/>
            <a:ext cx="3810240" cy="28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18880" y="5396040"/>
            <a:ext cx="4215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anotube  was directly grown by CV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ntilever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. Hafner et al, Nature 398, 761 (1999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antallas basadas en emisión de partícula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047680"/>
            <a:ext cx="449604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ma ventaja de las propiedades de alta corriente y al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pect rat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til como fuente de electrones para la pantalla plana, bajo consumo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sung mo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 prototipo de una pantalla de 9” a color con una resol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576 X 242 pix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70760" y="1828800"/>
            <a:ext cx="1922400" cy="188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873760" y="35053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msung 4.5” full-color nanotube 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4294080"/>
            <a:ext cx="3333600" cy="1663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65640" y="5979960"/>
            <a:ext cx="3826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quema del funcionamientode la pantalla basada en nanotubo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563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ath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18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Más aplicaciones posib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sores de Nanotub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 conductividad 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trica de los  SWNT cambia d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camente cuando son expuestos a ciertas moléculas gase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macenamiento de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arato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z de almacenar una carga,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4400"/>
            </a:b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¿Qué es un nanotubo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6000" cy="85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4560" y="3622680"/>
            <a:ext cx="512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om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reglo Hexagonal, fuertes en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 ensamblamos estos patrones entre 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 unimos los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carb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1080" y="2133720"/>
            <a:ext cx="2048040" cy="914400"/>
            <a:chOff x="1981080" y="2133720"/>
            <a:chExt cx="2048040" cy="914400"/>
          </a:xfrm>
        </p:grpSpPr>
        <p:sp>
          <p:nvSpPr>
            <p:cNvPr id="105" name=""/>
            <p:cNvSpPr/>
            <p:nvPr/>
          </p:nvSpPr>
          <p:spPr>
            <a:xfrm>
              <a:off x="2971800" y="21337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2514600"/>
              <a:ext cx="762120" cy="38088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95680" y="2133360"/>
            <a:ext cx="3695760" cy="1523520"/>
            <a:chOff x="4495680" y="2133360"/>
            <a:chExt cx="3695760" cy="1523520"/>
          </a:xfrm>
        </p:grpSpPr>
        <p:grpSp>
          <p:nvGrpSpPr>
            <p:cNvPr id="108" name=""/>
            <p:cNvGrpSpPr/>
            <p:nvPr/>
          </p:nvGrpSpPr>
          <p:grpSpPr>
            <a:xfrm>
              <a:off x="5738760" y="2133360"/>
              <a:ext cx="2452680" cy="1523520"/>
              <a:chOff x="5738760" y="2133360"/>
              <a:chExt cx="2452680" cy="1523520"/>
            </a:xfrm>
          </p:grpSpPr>
          <p:sp>
            <p:nvSpPr>
              <p:cNvPr id="109" name=""/>
              <p:cNvSpPr/>
              <p:nvPr/>
            </p:nvSpPr>
            <p:spPr>
              <a:xfrm rot="10350000">
                <a:off x="7566840" y="2213280"/>
                <a:ext cx="585000" cy="641160"/>
              </a:xfrm>
              <a:custGeom>
                <a:avLst/>
                <a:gdLst>
                  <a:gd name="textAreaLeft" fmla="*/ 78120 w 585000"/>
                  <a:gd name="textAreaRight" fmla="*/ 506880 w 585000"/>
                  <a:gd name="textAreaTop" fmla="*/ 111960 h 641160"/>
                  <a:gd name="textAreaBottom" fmla="*/ 464760 h 64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0800000">
                <a:off x="5738760" y="2133360"/>
                <a:ext cx="438840" cy="801720"/>
              </a:xfrm>
              <a:custGeom>
                <a:avLst/>
                <a:gdLst>
                  <a:gd name="textAreaLeft" fmla="*/ 58680 w 438840"/>
                  <a:gd name="textAreaRight" fmla="*/ 380160 w 438840"/>
                  <a:gd name="textAreaTop" fmla="*/ 140040 h 801720"/>
                  <a:gd name="textAreaBottom" fmla="*/ 581400 h 80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43720" y="3175920"/>
                <a:ext cx="658080" cy="480960"/>
              </a:xfrm>
              <a:custGeom>
                <a:avLst/>
                <a:gdLst>
                  <a:gd name="textAreaLeft" fmla="*/ 115200 w 658080"/>
                  <a:gd name="textAreaRight" fmla="*/ 477360 w 658080"/>
                  <a:gd name="textAreaTop" fmla="*/ 64440 h 480960"/>
                  <a:gd name="textAreaBottom" fmla="*/ 416520 h 48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4480" y="2214000"/>
                <a:ext cx="1023840" cy="72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"/>
            <p:cNvSpPr/>
            <p:nvPr/>
          </p:nvSpPr>
          <p:spPr>
            <a:xfrm>
              <a:off x="4495680" y="2454480"/>
              <a:ext cx="804240" cy="480960"/>
            </a:xfrm>
            <a:custGeom>
              <a:avLst/>
              <a:gdLst>
                <a:gd name="textAreaLeft" fmla="*/ 125640 w 804240"/>
                <a:gd name="textAreaRight" fmla="*/ 703800 w 804240"/>
                <a:gd name="textAreaTop" fmla="*/ 120240 h 480960"/>
                <a:gd name="textAreaBottom" fmla="*/ 360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81680" y="3733920"/>
            <a:ext cx="739800" cy="2849400"/>
            <a:chOff x="6781680" y="3733920"/>
            <a:chExt cx="739800" cy="284940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739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5400000">
              <a:off x="6689160" y="3902040"/>
              <a:ext cx="822240" cy="485640"/>
            </a:xfrm>
            <a:custGeom>
              <a:avLst/>
              <a:gdLst>
                <a:gd name="textAreaLeft" fmla="*/ 128520 w 822240"/>
                <a:gd name="textAreaRight" fmla="*/ 719640 w 82224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18148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4400"/>
            </a:b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¿Qué es un nanotubo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63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5029200"/>
            <a:ext cx="45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af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notub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4876920" cy="16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Nanotubos de paredes simples y múltip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pared si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red de una sóla capa atómica, diámetro de 1-5 n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celentes propieda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ísicas y eléct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pared múlt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W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ámetro interior: 1.5 – 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ámetro 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ior: 2.5 – 3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últiples cap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ás simples de constru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836720"/>
            <a:ext cx="3471840" cy="1770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2401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a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E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éctr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tá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i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du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edades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trol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r la dirección de enrrol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4000" cy="434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34290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Fís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cán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 altamente re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 flex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3733920"/>
          <a:ext cx="4572000" cy="158436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295280"/>
                <a:gridCol w="99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lo de Young (G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rza Tensil (G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dad (g/cm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Fís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687840"/>
            <a:ext cx="4038840" cy="257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érm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ta con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able a altas temper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40384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Nanotubo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ión de partíc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ión de electrones, luz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5638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31:27Z</dcterms:created>
  <dc:creator>ksc</dc:creator>
  <dc:description/>
  <dc:language>en-US</dc:language>
  <cp:lastModifiedBy>Jorge Valenzuela</cp:lastModifiedBy>
  <dcterms:modified xsi:type="dcterms:W3CDTF">2004-11-05T11:20:59Z</dcterms:modified>
  <cp:revision>55</cp:revision>
  <dc:subject/>
  <dc:title>Carbon Nanotubes</dc:title>
</cp:coreProperties>
</file>