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029F-C153-48D9-B122-C4F8B3C24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F798-70E9-480F-AC67-962F6E02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EF8A-99D0-4F2C-A7CD-6A7C9141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CDCF-49DB-42EE-A580-5115D6E6E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B1D1-A14D-42F5-B245-72C1B4C23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DD6C-2AC7-48C2-82C2-96F777C7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0C20-8AC4-4A90-BEE1-5459D346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3229-A811-4A58-9B0A-C9A1F759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9470-BBFB-4AF2-BDF5-FE3796DA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555E-69BB-48EF-873D-B61DE918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932D-C3D3-46EC-9173-9AD9A6D3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D44B-6810-4C53-A576-9F9C3779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50CC-119F-48B6-8871-8FFD0502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CE74-5D2A-491B-9FB7-578B257D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55EF-2761-4F34-86DB-4F6D02E6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2F3B-B2E2-4751-B9FD-9280763E2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A154-4AF5-4B9C-8EDD-DD77E3681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872B-3CE9-4C88-8436-53A586B1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5C98-397A-43BD-BFBD-F9A83C1B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C34F-BF12-43D7-A4DC-DA51E0D0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8D05-2EDC-482D-99DF-A7288FD1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AEC4-29B5-4ECD-BB9E-5DC2EE0C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B4C5-BEB1-4F71-AF1B-4D3F0D3B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C276-3F4A-426F-92FB-EB0B6713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915D-610E-423E-A016-C9BF6D29889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6847-5BDA-4C72-8D32-AEFEC38CD65A}" type="slidenum">
              <a:rPr b="1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Nanotubos de Carbono</a:t>
            </a:r>
            <a:endParaRPr b="0" lang="en-US" sz="6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Gabriel Bra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Jorge Valenzu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05/11/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Historia I</a:t>
            </a:r>
            <a:br>
              <a:rPr sz="4000"/>
            </a:br>
            <a:r>
              <a:rPr b="0" lang="en-US" sz="40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Buckyball (      )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do comienza en 1985 con el descubrimiento de la Buckyb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evo tipo de molécula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ller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 1990 se teoriza que fulleranos tubulares deberian ser posib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973760" y="1986120"/>
            <a:ext cx="3510000" cy="3433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971800" y="1066680"/>
                <a:ext cx="685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5565240" y="5638680"/>
            <a:ext cx="153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http://www.slb.com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Historia II</a:t>
            </a:r>
            <a:br>
              <a:rPr sz="4000"/>
            </a:br>
            <a:r>
              <a:rPr b="0" lang="en-US" sz="40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La historia de los nanotubos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realidad los nanotubos habían sido descubiertos 30 años antes por Francis Ba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finales de los 70’s Morinobu Endo volvio a observar estos tub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1991 después del  descubrimiento de los fulleranos Sumio Iijima (NEC) observó MW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1993 Sumio Iijima y Donald Bethune (IBM) observaron, de manera independiente, SW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19810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Producción de Nanotubos de Carbono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aporización por pulsos de láser (PL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scarga de arco o arco de carb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posición de vapor químico (CV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ta presión (HiPC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2080" y="914400"/>
            <a:ext cx="8064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Producción I</a:t>
            </a:r>
            <a:br>
              <a:rPr sz="4000"/>
            </a:br>
            <a:r>
              <a:rPr b="0" lang="en-US" sz="40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Vaporización por pulsos láser (PLV)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93600" y="1828800"/>
            <a:ext cx="6855120" cy="24652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829440" y="4495680"/>
            <a:ext cx="7698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bjetivo de grafito con un .5% atómico de Ni y/o 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~500 Torr Ar fluyendo por un tubo de cuar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 un horno a ~1000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áser de pulsos de Nd:YAG (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eodymium: Yttrium-Aluminum-Garnet 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 60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yor pureza pero escasa producción (~0.4 gramos/hor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sarrollado por el grupo JSC de la NASA establecido en las instalaciones de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niversidad Rice (19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4960" y="833040"/>
            <a:ext cx="81518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Producción II</a:t>
            </a:r>
            <a:br>
              <a:rPr sz="4000"/>
            </a:br>
            <a:r>
              <a:rPr b="0" lang="en-US" sz="40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Descarga de arco ó arco de carbono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87440" y="1973160"/>
            <a:ext cx="4496040" cy="17398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826920" y="3886200"/>
            <a:ext cx="820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l primer método disponible (199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n arco eléctrico vaporiza un ánodo de carbon que cont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s catalizadores (Ni y 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tmósfera de 500 Torr de He, Corriente: 100 amp y 35 vo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a cámara es enfriada usando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s nanotubos se forman en las murallas interiores de la cám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sarrollado por un grupo en la Universidad de Monpel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60400" y="990720"/>
            <a:ext cx="7826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Producción III</a:t>
            </a:r>
            <a:br>
              <a:rPr sz="4000"/>
            </a:br>
            <a:r>
              <a:rPr b="0" lang="en-US" sz="40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Deposición de vapor químico (CVD)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dea: precubrir el substrato con un catalizador y hacer crecer  nanotubos en ellos por medio de CV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aso clave: depositar el catalizador en lugares predefini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entaja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recimiento selectiv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podemos hacer crecer nanotubos en el lugar que quer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sarrollado por el grupo Xie en China en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a hidrocarbonos como fu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743200" y="2104920"/>
            <a:ext cx="388620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Producción III:</a:t>
            </a:r>
            <a:br>
              <a:rPr sz="4000"/>
            </a:br>
            <a:r>
              <a:rPr b="0" lang="en-US" sz="40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Pasos del CVD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[Se cubre el substrato por una(s) capa(s) metalica no catalitic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 deposita el catalizador sobre el sus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 deja entrar gas hidrocarbónico a la cám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VD crecimiento de nanotubos de carbon en el catalizado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80988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79040" y="833040"/>
            <a:ext cx="7907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Producción IV</a:t>
            </a:r>
            <a:br>
              <a:rPr sz="4000"/>
            </a:br>
            <a:r>
              <a:rPr b="0" lang="en-US" sz="40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HiPCO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647800" y="4935600"/>
                <a:ext cx="324000" cy="2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980640" y="4556160"/>
            <a:ext cx="78339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duce nanotubos de paredes simples en fase gaseosa (1200C, 10 at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+CO       C+               catalizad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 hace pasar monóxido de carbono a altas presiones junto a pequeñas cant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 catalizador a traves de un reactor calentado a altas temperaturas (800-1200º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ermite producir grandes cantidades de SWNT (~450mg/h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edidas de purificación son inncesarias debido al uso de CO como materia pr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P. Nikolaev et al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608360" y="4856040"/>
                <a:ext cx="7257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CO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70" name=""/>
          <p:cNvGrpSpPr/>
          <p:nvPr/>
        </p:nvGrpSpPr>
        <p:grpSpPr>
          <a:xfrm>
            <a:off x="1600200" y="1903320"/>
            <a:ext cx="5411880" cy="2570400"/>
            <a:chOff x="1600200" y="1903320"/>
            <a:chExt cx="5411880" cy="257040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1600200" y="1903320"/>
              <a:ext cx="5411880" cy="257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 txBox="1"/>
            <p:nvPr/>
          </p:nvSpPr>
          <p:spPr>
            <a:xfrm>
              <a:off x="1600200" y="1903320"/>
              <a:ext cx="5411880" cy="2570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469800" indent="-469800">
                <a:spcBef>
                  <a:spcPts val="700"/>
                </a:spcBef>
                <a:buClr>
                  <a:srgbClr val="660000"/>
                </a:buClr>
                <a:buSzPct val="70000"/>
                <a:buFont typeface="Wingdings" charset="2"/>
                <a:buChar char="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420000"/>
                </a:solidFill>
                <a:latin typeface="Times New Roman"/>
              </a:rPr>
              <a:t>Comparació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80880" y="2058840"/>
          <a:ext cx="8534520" cy="4189320"/>
        </p:xfrm>
        <a:graphic>
          <a:graphicData uri="http://schemas.openxmlformats.org/drawingml/2006/table">
            <a:tbl>
              <a:tblPr/>
              <a:tblGrid>
                <a:gridCol w="1295280"/>
                <a:gridCol w="2133720"/>
                <a:gridCol w="2514600"/>
                <a:gridCol w="25909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to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arga de Ar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V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ado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íp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-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-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sta 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bos cortos con diámetros ent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-1.4 n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bos largos con diámetros entre 0.6-4n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rgos manojos de tubos (5-20 micrones) con diámetros individuales de 1 a 2 n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W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bos cortos con diámetro interno de  1-3 nm y externo de ~10 n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bos largos con diámetros entre l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240 n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hay mucho interés en esta tecnica debido a ser muy costosa, pero la sintesis de MWNT es posibl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420000"/>
                </a:solidFill>
                <a:latin typeface="Times New Roman"/>
              </a:rPr>
              <a:t>Comparación (Cont.)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57200" y="1828800"/>
          <a:ext cx="8229600" cy="4834080"/>
        </p:xfrm>
        <a:graphic>
          <a:graphicData uri="http://schemas.openxmlformats.org/drawingml/2006/table">
            <a:tbl>
              <a:tblPr/>
              <a:tblGrid>
                <a:gridCol w="1295280"/>
                <a:gridCol w="2819520"/>
                <a:gridCol w="2057400"/>
                <a:gridCol w="2057400"/>
              </a:tblGrid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to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arga de Ar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V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ntaj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ede producir fácilmente SWNT, MWNTs. Los SWNT tienen pocos defectos estructurales; Puede producir MWNTs sin catalizador, no es demasiado costosa, la síntesis al aire libre es posib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 más fácil de escalar a producción industrial; tubos largos, proceso simple, el diámetro de los SWNT es controlable, alta pure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cipalmente SWNTs, con buen control del diámetro y pocos defectos. El producto de la reacción es bastante pu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ventaj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s tubos tienden a ser cortos con tamaños y direcciones aleatorias; a menudo necesita mucha purifica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s nanotubos típicamente son MWNTs y a menudo están llenos de defecto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écnica costosa porque requiere láser caros y grandes cantidades de energía, pero está mejoran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Nanotubo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pie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ist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br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plic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Aplicacion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nsis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nsistor de efecto de ca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untas de S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ntallas basadas en emisión de partícu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ás aplicaciones posi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Transistor de nanotubo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38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nsistor de Efec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 Ca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s efi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jo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3219480" cy="41148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066680" y="3505320"/>
            <a:ext cx="365760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Puntas de SP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as puntas de los Scanning Probe Microscopes (SPM) usualmente son cables de metal pero pocas veces sobreviven un gol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anotubos: alto aspect-ratio, punta bien definida, mucho mas resist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724280" y="2336760"/>
            <a:ext cx="3810240" cy="28004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718880" y="5396040"/>
            <a:ext cx="4215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nanotube  was directly grown by CVD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ntilever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rom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J. Hafner et al, Nature 398, 761 (1999)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Pantallas basadas en emisión de partículas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2047680"/>
            <a:ext cx="4496040" cy="38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ma ventaja de las propiedades de alta corriente y al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pect rati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til como fuente de electrones para la pantalla plana, bajo consumo de energ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amsung mos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un prototipo de una pantalla de 9” a color con una resoluc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 576 X 242 pix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170760" y="1828800"/>
            <a:ext cx="1922400" cy="18842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873760" y="3505320"/>
            <a:ext cx="30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amsung 4.5” full-color nanotube displ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257800" y="4294080"/>
            <a:ext cx="3333600" cy="1663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165640" y="5979960"/>
            <a:ext cx="382608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squema del funcionamientode la pantalla basada en nanotubo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53280" y="56386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Cath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81880" y="4267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An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Más aplicaciones posibl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nsores de Nanotub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a conductividad 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trica de los  SWNT cambia d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icamente cuando son expuestos a ciertas moléculas gase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macenamiento de Hidróg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teria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parato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az de almacenar una carga, 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9336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Introducción</a:t>
            </a:r>
            <a:br>
              <a:rPr sz="4400"/>
            </a:b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¿Qué es un nanotubo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846000" cy="858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64560" y="3622680"/>
            <a:ext cx="512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tomos de Carb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rreglo Hexagonal, fuertes enl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 ensamblamos estos patrones entre s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 unimos los bor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anotubo de carbo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981080" y="2133720"/>
            <a:ext cx="2048040" cy="914400"/>
            <a:chOff x="1981080" y="2133720"/>
            <a:chExt cx="2048040" cy="914400"/>
          </a:xfrm>
        </p:grpSpPr>
        <p:sp>
          <p:nvSpPr>
            <p:cNvPr id="105" name=""/>
            <p:cNvSpPr/>
            <p:nvPr/>
          </p:nvSpPr>
          <p:spPr>
            <a:xfrm>
              <a:off x="2971800" y="213372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81080" y="2514600"/>
              <a:ext cx="762120" cy="380880"/>
            </a:xfrm>
            <a:custGeom>
              <a:avLst/>
              <a:gdLst>
                <a:gd name="textAreaLeft" fmla="*/ 118800 w 762120"/>
                <a:gd name="textAreaRight" fmla="*/ 667080 w 76212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495680" y="2133360"/>
            <a:ext cx="3695760" cy="1523520"/>
            <a:chOff x="4495680" y="2133360"/>
            <a:chExt cx="3695760" cy="1523520"/>
          </a:xfrm>
        </p:grpSpPr>
        <p:grpSp>
          <p:nvGrpSpPr>
            <p:cNvPr id="108" name=""/>
            <p:cNvGrpSpPr/>
            <p:nvPr/>
          </p:nvGrpSpPr>
          <p:grpSpPr>
            <a:xfrm>
              <a:off x="5738760" y="2133360"/>
              <a:ext cx="2452680" cy="1523520"/>
              <a:chOff x="5738760" y="2133360"/>
              <a:chExt cx="2452680" cy="1523520"/>
            </a:xfrm>
          </p:grpSpPr>
          <p:sp>
            <p:nvSpPr>
              <p:cNvPr id="109" name=""/>
              <p:cNvSpPr/>
              <p:nvPr/>
            </p:nvSpPr>
            <p:spPr>
              <a:xfrm rot="10350000">
                <a:off x="7566840" y="2213280"/>
                <a:ext cx="585000" cy="641160"/>
              </a:xfrm>
              <a:custGeom>
                <a:avLst/>
                <a:gdLst>
                  <a:gd name="textAreaLeft" fmla="*/ 78120 w 585000"/>
                  <a:gd name="textAreaRight" fmla="*/ 506880 w 585000"/>
                  <a:gd name="textAreaTop" fmla="*/ 111960 h 641160"/>
                  <a:gd name="textAreaBottom" fmla="*/ 464760 h 641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0800000">
                <a:off x="5738760" y="2133360"/>
                <a:ext cx="438840" cy="801720"/>
              </a:xfrm>
              <a:custGeom>
                <a:avLst/>
                <a:gdLst>
                  <a:gd name="textAreaLeft" fmla="*/ 58680 w 438840"/>
                  <a:gd name="textAreaRight" fmla="*/ 380160 w 438840"/>
                  <a:gd name="textAreaTop" fmla="*/ 140040 h 801720"/>
                  <a:gd name="textAreaBottom" fmla="*/ 581400 h 801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543720" y="3175920"/>
                <a:ext cx="658080" cy="480960"/>
              </a:xfrm>
              <a:custGeom>
                <a:avLst/>
                <a:gdLst>
                  <a:gd name="textAreaLeft" fmla="*/ 115200 w 658080"/>
                  <a:gd name="textAreaRight" fmla="*/ 477360 w 658080"/>
                  <a:gd name="textAreaTop" fmla="*/ 64440 h 480960"/>
                  <a:gd name="textAreaBottom" fmla="*/ 416520 h 480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24480" y="2214000"/>
                <a:ext cx="1023840" cy="729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3" name=""/>
            <p:cNvSpPr/>
            <p:nvPr/>
          </p:nvSpPr>
          <p:spPr>
            <a:xfrm>
              <a:off x="4495680" y="2454480"/>
              <a:ext cx="804240" cy="480960"/>
            </a:xfrm>
            <a:custGeom>
              <a:avLst/>
              <a:gdLst>
                <a:gd name="textAreaLeft" fmla="*/ 125640 w 804240"/>
                <a:gd name="textAreaRight" fmla="*/ 703800 w 804240"/>
                <a:gd name="textAreaTop" fmla="*/ 120240 h 480960"/>
                <a:gd name="textAreaBottom" fmla="*/ 360720 h 4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781680" y="3733920"/>
            <a:ext cx="739800" cy="2849400"/>
            <a:chOff x="6781680" y="3733920"/>
            <a:chExt cx="739800" cy="2849400"/>
          </a:xfrm>
        </p:grpSpPr>
        <p:pic>
          <p:nvPicPr>
            <p:cNvPr id="115" name="" descr=""/>
            <p:cNvPicPr/>
            <p:nvPr/>
          </p:nvPicPr>
          <p:blipFill>
            <a:blip r:embed="rId3"/>
            <a:stretch/>
          </p:blipFill>
          <p:spPr>
            <a:xfrm>
              <a:off x="6781680" y="4876920"/>
              <a:ext cx="739800" cy="17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 rot="5400000">
              <a:off x="6689160" y="3902040"/>
              <a:ext cx="822240" cy="485640"/>
            </a:xfrm>
            <a:custGeom>
              <a:avLst/>
              <a:gdLst>
                <a:gd name="textAreaLeft" fmla="*/ 128520 w 822240"/>
                <a:gd name="textAreaRight" fmla="*/ 719640 w 822240"/>
                <a:gd name="textAreaTop" fmla="*/ 121320 h 485640"/>
                <a:gd name="textAreaBottom" fmla="*/ 36432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685800" y="487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5181480"/>
            <a:ext cx="533520" cy="228600"/>
          </a:xfrm>
          <a:custGeom>
            <a:avLst/>
            <a:gdLst>
              <a:gd name="textAreaLeft" fmla="*/ 66600 w 533520"/>
              <a:gd name="textAreaRight" fmla="*/ 46692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Introducción</a:t>
            </a:r>
            <a:br>
              <a:rPr sz="4400"/>
            </a:b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¿Qué es un nanotubo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3048120" cy="26337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85800" y="5029200"/>
            <a:ext cx="45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raf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anotubos de carb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487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809880" y="2590920"/>
            <a:ext cx="4876920" cy="161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Introducción</a:t>
            </a:r>
            <a:br>
              <a:rPr sz="3200"/>
            </a:br>
            <a:r>
              <a:rPr b="0" lang="en-US" sz="32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Nanotubos de paredes simples y múltiples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anotubo de pared si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W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ared de una sóla capa atómica, diámetro de 1-5 n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celentes propiedad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físicas y eléctr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anotubo de pared múlti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W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ámetro interior: 1.5 – 15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ámetro 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rior: 2.5 – 30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últiples cap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ás simples de construi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48320" y="1836720"/>
            <a:ext cx="3471840" cy="1770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410080" y="3809880"/>
            <a:ext cx="24019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Propiedades</a:t>
            </a:r>
            <a:r>
              <a:rPr b="0" lang="en-US" sz="31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:</a:t>
            </a:r>
            <a:br>
              <a:rPr sz="3100"/>
            </a:br>
            <a:r>
              <a:rPr b="0" lang="en-US" sz="31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Las </a:t>
            </a:r>
            <a:r>
              <a:rPr b="0" lang="en-US" sz="31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P</a:t>
            </a:r>
            <a:r>
              <a:rPr b="0" lang="en-US" sz="31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ropiedades </a:t>
            </a:r>
            <a:r>
              <a:rPr b="0" lang="en-US" sz="31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E</a:t>
            </a:r>
            <a:r>
              <a:rPr b="0" lang="en-US" sz="31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léctricas</a:t>
            </a:r>
            <a:endParaRPr b="0" lang="en-US" sz="31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86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76840" indent="-27684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tál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6840" indent="-27684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mi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duc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6840" indent="-27684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piedades 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trol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r la dirección de enrrol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6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6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6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6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194000" cy="4343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029200" y="3581280"/>
            <a:ext cx="342900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Propiedades</a:t>
            </a:r>
            <a:r>
              <a:rPr b="0" lang="en-US" sz="31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:</a:t>
            </a:r>
            <a:br>
              <a:rPr sz="3100"/>
            </a:br>
            <a:r>
              <a:rPr b="0" lang="en-US" sz="31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P</a:t>
            </a:r>
            <a:r>
              <a:rPr b="0" lang="en-US" sz="31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ropiedades </a:t>
            </a:r>
            <a:r>
              <a:rPr b="0" lang="en-US" sz="31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Físicas</a:t>
            </a:r>
            <a:endParaRPr b="0" lang="en-US" sz="31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2133720"/>
            <a:ext cx="7848720" cy="35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ecán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terial altamente resist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terial flex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371600" y="3733920"/>
          <a:ext cx="4572000" cy="1584360"/>
        </p:xfrm>
        <a:graphic>
          <a:graphicData uri="http://schemas.openxmlformats.org/drawingml/2006/table">
            <a:tbl>
              <a:tblPr/>
              <a:tblGrid>
                <a:gridCol w="914400"/>
                <a:gridCol w="1371600"/>
                <a:gridCol w="1295280"/>
                <a:gridCol w="990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e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ó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lo de Young (GP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erza Tensil (GP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nsidad (g/cm</a:t>
                      </a:r>
                      <a:r>
                        <a:rPr b="0" lang="es-ES_tradnl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W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Propiedades</a:t>
            </a:r>
            <a:r>
              <a:rPr b="0" lang="en-US" sz="31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:</a:t>
            </a:r>
            <a:br>
              <a:rPr sz="3100"/>
            </a:br>
            <a:r>
              <a:rPr b="0" lang="en-US" sz="31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P</a:t>
            </a:r>
            <a:r>
              <a:rPr b="0" lang="en-US" sz="31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ropiedades </a:t>
            </a:r>
            <a:r>
              <a:rPr b="0" lang="en-US" sz="31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Físicas</a:t>
            </a:r>
            <a:endParaRPr b="0" lang="en-US" sz="31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0880" y="3687840"/>
            <a:ext cx="4038840" cy="2579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38080" y="2133720"/>
            <a:ext cx="7848720" cy="35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érmic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lta condu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stable a altas temperatu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72000" y="3657600"/>
            <a:ext cx="403848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Propiedades</a:t>
            </a:r>
            <a:r>
              <a:rPr b="0" lang="en-US" sz="31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:</a:t>
            </a:r>
            <a:br>
              <a:rPr sz="3100"/>
            </a:br>
            <a:r>
              <a:rPr b="0" lang="en-US" sz="31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P</a:t>
            </a:r>
            <a:r>
              <a:rPr b="0" lang="en-US" sz="3100" spc="-1" strike="noStrike">
                <a:solidFill>
                  <a:srgbClr val="420000"/>
                </a:solidFill>
                <a:latin typeface="Times New Roman"/>
                <a:ea typeface="新細明體"/>
              </a:rPr>
              <a:t>ropiedades </a:t>
            </a:r>
            <a:r>
              <a:rPr b="0" lang="en-US" sz="31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Nanotubos</a:t>
            </a:r>
            <a:endParaRPr b="0" lang="en-US" sz="31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2133720"/>
            <a:ext cx="7848720" cy="35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misión de partícul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misión de electrones, luz vi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371600" y="3048120"/>
            <a:ext cx="56386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31:27Z</dcterms:created>
  <dc:creator>ksc</dc:creator>
  <dc:description/>
  <dc:language>en-US</dc:language>
  <cp:lastModifiedBy>Jorge Valenzuela</cp:lastModifiedBy>
  <dcterms:modified xsi:type="dcterms:W3CDTF">2004-11-05T11:20:59Z</dcterms:modified>
  <cp:revision>55</cp:revision>
  <dc:subject/>
  <dc:title>Carbon Nanotubes</dc:title>
</cp:coreProperties>
</file>