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png" ContentType="image/png"/>
  <Override PartName="/ppt/media/image23.png" ContentType="image/png"/>
  <Override PartName="/ppt/media/image22.png" ContentType="image/png"/>
  <Override PartName="/ppt/media/image21.jpeg" ContentType="image/jpeg"/>
  <Override PartName="/ppt/media/image19.png" ContentType="image/png"/>
  <Override PartName="/ppt/media/image17.png" ContentType="image/png"/>
  <Override PartName="/ppt/media/image32.jpeg" ContentType="image/jpeg"/>
  <Override PartName="/ppt/media/image16.jpeg" ContentType="image/jpeg"/>
  <Override PartName="/ppt/media/image15.png" ContentType="image/png"/>
  <Override PartName="/ppt/media/image11.png" ContentType="image/png"/>
  <Override PartName="/ppt/media/image35.png" ContentType="image/png"/>
  <Override PartName="/ppt/media/image5.png" ContentType="image/png"/>
  <Override PartName="/ppt/media/image29.jpeg" ContentType="image/jpeg"/>
  <Override PartName="/ppt/media/image8.jpeg" ContentType="image/jpeg"/>
  <Override PartName="/ppt/media/image38.png" ContentType="image/png"/>
  <Override PartName="/ppt/media/image9.png" ContentType="image/png"/>
  <Override PartName="/ppt/media/image34.png" ContentType="image/png"/>
  <Override PartName="/ppt/media/image12.png" ContentType="image/pn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13.png" ContentType="image/png"/>
  <Override PartName="/ppt/media/image37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28.jpeg" ContentType="image/jpeg"/>
  <Override PartName="/ppt/media/image36.png" ContentType="image/png"/>
  <Override PartName="/ppt/media/image6.png" ContentType="image/png"/>
  <Override PartName="/ppt/media/image10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7102475" cy="93884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AB88-177B-42BD-84E3-3EC8422D8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A15E-9F32-4D6D-9404-470523F60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8375-5B35-4F47-8AB4-5238F2D9C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89A6-DB0A-4B9B-8D71-F8BD3F71C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F98C8-9ACE-49EB-BBDB-D2A1881B6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F65D6-6C54-4C4D-B622-37398F847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1297C-9DCE-45CD-9AA1-662DF6FD9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846F5-06C8-45EB-BF94-9577BF87E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A1907-5B62-44BB-BC07-594B4395A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4645B-20BA-42F0-BF3A-5673D0346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C6E4F-DED4-4C1E-BD64-AE652CBBC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2DBD-E2DD-40AA-807A-4898394E5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685F5-D989-4213-A48A-9AD80E086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BBB8C-842B-4A59-A398-95FBF5AE5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E60F7-EA52-48B5-B1BA-B76E84B43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274BF-E50E-43AF-BE23-993BF9474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F655A-3E9F-4829-99D7-AA61FA912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ECE1-8F20-4E5C-9C3D-7972C720B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3C19-3366-40E0-802D-C4B491311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1FB1-7503-4A86-A5FF-82F5386E9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E3D0-FCD1-4D04-926A-71ECE112F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53B8-14EE-4C32-B01C-7071105E7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7E5E-9DE3-4022-A528-740EEB8A1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706F-43C9-4B9C-832F-33FB7130C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FC149-D87B-4332-A715-C24BA64EE961}" type="slidenum">
              <a:rPr b="0" lang="es-E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29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7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8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70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1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4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5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6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7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8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4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5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7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3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4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5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7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7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8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4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5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DA1E1-1618-463D-BBD1-9B1B094FD3F8}" type="slidenum">
              <a:rPr b="0" lang="es-E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nttdocomo.com/index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8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8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0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eurotechnology.com/store/imode/index.html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4360" y="2492280"/>
            <a:ext cx="77724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700" spc="-1" strike="noStrike">
                <a:solidFill>
                  <a:srgbClr val="c4c3aa"/>
                </a:solidFill>
                <a:latin typeface="Arial"/>
              </a:rPr>
              <a:t>i-mode</a:t>
            </a:r>
            <a:endParaRPr b="0" lang="en-US" sz="47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2556000" y="5444640"/>
            <a:ext cx="6400800" cy="12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Presentan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spcBef>
                <a:spcPts val="45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Navarro, Christia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spcBef>
                <a:spcPts val="45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Selman, José Migu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"/>
          <p:cNvSpPr/>
          <p:nvPr/>
        </p:nvSpPr>
        <p:spPr>
          <a:xfrm>
            <a:off x="1845000" y="404640"/>
            <a:ext cx="553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CC60L – Seminario de Comunicaciones Avanzad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4" name="" descr="NTT DoCoM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11640" y="1700280"/>
            <a:ext cx="981000" cy="51444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/>
          <p:nvPr/>
        </p:nvSpPr>
        <p:spPr>
          <a:xfrm>
            <a:off x="179280" y="3284640"/>
            <a:ext cx="8964720" cy="1152360"/>
          </a:xfrm>
          <a:custGeom>
            <a:avLst/>
            <a:gdLst>
              <a:gd name="textAreaLeft" fmla="*/ 0 w 8964720"/>
              <a:gd name="textAreaRight" fmla="*/ 8965080 w 8964720"/>
              <a:gd name="textAreaTop" fmla="*/ 0 h 1152360"/>
              <a:gd name="textAreaBottom" fmla="*/ 115236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ac2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http://www.jselman.com/cc60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326880"/>
            <a:ext cx="822960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c4c3aa"/>
                </a:solidFill>
                <a:latin typeface="Arial"/>
              </a:rPr>
              <a:t>Usuarios i-mode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pic>
        <p:nvPicPr>
          <p:cNvPr id="359" name="" descr="35 million i-mode users"/>
          <p:cNvPicPr/>
          <p:nvPr/>
        </p:nvPicPr>
        <p:blipFill>
          <a:blip r:embed="rId1"/>
          <a:stretch/>
        </p:blipFill>
        <p:spPr>
          <a:xfrm>
            <a:off x="684360" y="1341360"/>
            <a:ext cx="7704000" cy="493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4c3aa"/>
                </a:solidFill>
                <a:latin typeface="Arial"/>
              </a:rPr>
              <a:t>Usuarios i-mode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467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Verdana"/>
              </a:rPr>
              <a:t>Usuarios de Mediana Eda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Verdana"/>
              </a:rPr>
              <a:t>Similar distribución de sexo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62" name="" descr="i-mode user age profile"/>
          <p:cNvPicPr/>
          <p:nvPr/>
        </p:nvPicPr>
        <p:blipFill>
          <a:blip r:embed="rId1"/>
          <a:stretch/>
        </p:blipFill>
        <p:spPr>
          <a:xfrm>
            <a:off x="3924360" y="1413000"/>
            <a:ext cx="5040360" cy="504036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/>
          <p:nvPr/>
        </p:nvSpPr>
        <p:spPr>
          <a:xfrm>
            <a:off x="0" y="5661000"/>
            <a:ext cx="1763640" cy="1197000"/>
          </a:xfrm>
          <a:prstGeom prst="rect">
            <a:avLst/>
          </a:prstGeom>
          <a:solidFill>
            <a:srgbClr val="9ac2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Verdana"/>
              </a:rPr>
              <a:t>Mina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Verdana"/>
              </a:rPr>
              <a:t>de Dat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4c3aa"/>
                </a:solidFill>
                <a:latin typeface="Arial"/>
              </a:rPr>
              <a:t>Factores de Éxito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Verdana"/>
              </a:rPr>
              <a:t>Bajo costo de terminales compatibl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Verdana"/>
              </a:rPr>
              <a:t>Los Japoneses adoran los “Gadgets”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Verdana"/>
              </a:rPr>
              <a:t>Relativamente baja penetración de PCs en el hoga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Verdana"/>
              </a:rPr>
              <a:t>Always 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Verdana"/>
              </a:rPr>
              <a:t>Eficiente sistema de cobro de servicios de valor agregad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Verdana"/>
              </a:rPr>
              <a:t>cHTML facilita el desarroll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Verdana"/>
              </a:rPr>
              <a:t>Ecosistem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419640" y="6021360"/>
            <a:ext cx="5616360" cy="692280"/>
          </a:xfrm>
          <a:custGeom>
            <a:avLst/>
            <a:gdLst>
              <a:gd name="textAreaLeft" fmla="*/ 877320 w 5616360"/>
              <a:gd name="textAreaRight" fmla="*/ 4914360 w 5616360"/>
              <a:gd name="textAreaTop" fmla="*/ 173160 h 692280"/>
              <a:gd name="textAreaBottom" fmla="*/ 519480 h 692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ac2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Export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4c3aa"/>
                </a:solidFill>
                <a:latin typeface="Arial"/>
              </a:rPr>
              <a:t>Exportación de este modelo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El servicio i-mode se ha lanzado en algunos países de Europa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Cada país ofrece sus propios contenidos y terminal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También se están estableciendo importantes relaciones en EEUU, donde NTT participa junto a AT&amp;T Wireles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4781520" y="1650960"/>
            <a:ext cx="3772080" cy="2085840"/>
          </a:xfrm>
          <a:prstGeom prst="rect">
            <a:avLst/>
          </a:prstGeom>
          <a:ln w="0">
            <a:noFill/>
          </a:ln>
        </p:spPr>
      </p:pic>
      <p:pic>
        <p:nvPicPr>
          <p:cNvPr id="370" name="" descr=""/>
          <p:cNvPicPr/>
          <p:nvPr/>
        </p:nvPicPr>
        <p:blipFill>
          <a:blip r:embed="rId2"/>
          <a:stretch/>
        </p:blipFill>
        <p:spPr>
          <a:xfrm>
            <a:off x="4781520" y="3992400"/>
            <a:ext cx="3772080" cy="20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4c3aa"/>
                </a:solidFill>
                <a:latin typeface="Arial"/>
              </a:rPr>
              <a:t>Exportación de este modelo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Hasta marzo de 2002 i-mode solo estaba disponible en Japó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En Japón casi todos servicios i-mode están en japoné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En la cumbre de los G7/G8 en Okinawa una sección del menú en inglés fue agregada con contenidos limitados (CNN, Disney, etc.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Los contenidos en inglés están separados y son diferentes de los contenidos en japoné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4c3aa"/>
                </a:solidFill>
                <a:latin typeface="Arial"/>
              </a:rPr>
              <a:t>Exportación de este modelo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NTT DoCoMo ha establecido relaciones en EEUU, América, Europa y Asia y Australi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Además NTT coopera con otros países en la estandarización y el desarrollo de servicios 3G y 4G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En EEUU, AT&amp;T lanzó su servicio mMod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Este servicio carece del software de cobro que ha hecho a i-mode tan popula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Aunque no soporta todas las características (micropayment y cHTML), da una idea de lo que será i-mode cuando se implemente en EEUU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4c3aa"/>
                </a:solidFill>
                <a:latin typeface="Arial"/>
              </a:rPr>
              <a:t>i-mode v/s WAP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Verdana"/>
              </a:rPr>
              <a:t>WAP es un protocolo para presentar e interactuar con informació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Modelo Capas OSI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Verdana"/>
              </a:rPr>
              <a:t>i-mode es un completo servicio wireless de acceso a interne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Verdana"/>
              </a:rPr>
              <a:t>WAP es típicamente Circuit Switched (dial-up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Verdana"/>
              </a:rPr>
              <a:t>i-mode es packet switche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Verdana"/>
              </a:rPr>
              <a:t>WAP puede funcionar sobre GPRS/EDGE/etc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4c3aa"/>
                </a:solidFill>
                <a:latin typeface="Arial"/>
              </a:rPr>
              <a:t>Seguridad en i-mode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A diferencia de WAP, i-mode fue construido considerando la segurida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Verdana"/>
              </a:rPr>
              <a:t>WAP Gap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Clave para habilitar el m-commerce (Ej: remote banking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SSL incorporado en handset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Link entre terminal y estación base controlado por NTT DoCoMo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Clásicas amenazas de la computación distribuida: Integridad, Confidencialidad, No repudiación, etc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SPAM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4c3aa"/>
                </a:solidFill>
                <a:latin typeface="Arial"/>
              </a:rPr>
              <a:t>SMS/E-Mail/i-mode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Existen distintos servicios de mensajes en i-mode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Emai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Short Messages o SMS (en el caso de FOMA/3G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Message-Fre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Message-Reques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4c3aa"/>
                </a:solidFill>
                <a:latin typeface="Arial"/>
              </a:rPr>
              <a:t>SMS/E-Mail/i-mode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Los emails en i-mode son como los emails ordinarios de internet, los usuarios pueden enviar y recibir desde y hacia cualquier email en el mund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1"/>
          <a:stretch/>
        </p:blipFill>
        <p:spPr>
          <a:xfrm>
            <a:off x="4800600" y="2208240"/>
            <a:ext cx="3733920" cy="33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4c3aa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Verdana"/>
              </a:rPr>
              <a:t>¿Que es i-mode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Verdana"/>
              </a:rPr>
              <a:t>Modelo de Negocio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Verdana"/>
              </a:rPr>
              <a:t>Factores de Éxit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Verdana"/>
              </a:rPr>
              <a:t>Exportació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Verdana"/>
              </a:rPr>
              <a:t>¿Cómo Funciona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Verdana"/>
              </a:rPr>
              <a:t>Comparación con otras propuesta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Verdana"/>
              </a:rPr>
              <a:t>Aplicacion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Verdana"/>
              </a:rPr>
              <a:t>Futur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Verdana"/>
              </a:rPr>
              <a:t>Conclusion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8317080" y="1268280"/>
            <a:ext cx="431640" cy="5183280"/>
          </a:xfrm>
          <a:custGeom>
            <a:avLst/>
            <a:gdLst>
              <a:gd name="textAreaLeft" fmla="*/ 0 w 431640"/>
              <a:gd name="textAreaRight" fmla="*/ 432000 w 431640"/>
              <a:gd name="textAreaTop" fmla="*/ 1295640 h 5183280"/>
              <a:gd name="textAreaBottom" fmla="*/ 3887640 h 5183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9ac2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Discus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4c3aa"/>
                </a:solidFill>
                <a:latin typeface="Arial"/>
              </a:rPr>
              <a:t>SMS/E-Mail/i-mode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SMS y 2G/MOVA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Son llamados iM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Los mensajes iMS pueden ser enviados directamente a otro telefono DoCoMo, el cual está suscrito al servicio iMS, pero que no necesita estar suscrito a i-mod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Los límites y características son diferentes a los emails de i-mode, así como los costo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4c3aa"/>
                </a:solidFill>
                <a:latin typeface="Arial"/>
              </a:rPr>
              <a:t>SMS/E-Mail/i-mode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SMS y 3G/FOMA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SMS esta instalado en FOMA, pero es menos flexible y más caro que el emai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Es mucho menos usado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Message-Free y Message-Reques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Estos son mensajes “opt-in”, los cuales pueden ser grátis o pagado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En estos mensajes la información es enviada al usuario, más que pedida por el usuario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4c3aa"/>
                </a:solidFill>
                <a:latin typeface="Arial"/>
              </a:rPr>
              <a:t>Como funciona i-mode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Verdana"/>
              </a:rPr>
              <a:t>El servicio i-mode utiliza i-HTML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Verdana"/>
              </a:rPr>
              <a:t>El transporte se realiza por HTTP sobre TCP/IP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Verdana"/>
              </a:rPr>
              <a:t>Para mejorar la transmisión, se creo el “wireless-profiled TCP”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Verdana"/>
              </a:rPr>
              <a:t>Hay múltiples “mobile message packet gateways”, que se conectan a cada servidor i-mo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4c3aa"/>
                </a:solidFill>
                <a:latin typeface="Arial"/>
              </a:rPr>
              <a:t>Como funciona i-mode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971280" y="5877000"/>
            <a:ext cx="745164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Verdana"/>
              </a:rPr>
              <a:t>Packet Switched/No Circuit Switche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92" name="" descr="Functions of the i-mode server"/>
          <p:cNvPicPr/>
          <p:nvPr/>
        </p:nvPicPr>
        <p:blipFill>
          <a:blip r:embed="rId1"/>
          <a:stretch/>
        </p:blipFill>
        <p:spPr>
          <a:xfrm>
            <a:off x="1476360" y="1268280"/>
            <a:ext cx="619776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4c3aa"/>
                </a:solidFill>
                <a:latin typeface="Arial"/>
              </a:rPr>
              <a:t>chtml/ihtml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4716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Verdana"/>
              </a:rPr>
              <a:t>Subconjunto de HTML (W3C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Compact HTML for Small Information Applianc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Verdana"/>
              </a:rPr>
              <a:t>iHTML introduce extensiones específicas para i-mod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95" name="" descr="Translation of the sample code on a browser screen"/>
          <p:cNvPicPr/>
          <p:nvPr/>
        </p:nvPicPr>
        <p:blipFill>
          <a:blip r:embed="rId1"/>
          <a:stretch/>
        </p:blipFill>
        <p:spPr>
          <a:xfrm>
            <a:off x="6732720" y="4005360"/>
            <a:ext cx="1488960" cy="22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4c3aa"/>
                </a:solidFill>
                <a:latin typeface="Arial"/>
              </a:rPr>
              <a:t>Anchos de Banda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Verdana"/>
              </a:rPr>
              <a:t>Dependiendo del terminal/red los anchos de banda varía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Verdana"/>
              </a:rPr>
              <a:t>2G (MOVA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Downstream: 27.8 kbp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Upstream: 9.6 kbps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Verdana"/>
              </a:rPr>
              <a:t>3G (FOMA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Downstream: 384 kbp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Upstream: 64 kbp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Verdana"/>
              </a:rPr>
              <a:t>Servicios como transferencia de video y animaciones solamente disponible para terminales/redes 3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4c3aa"/>
                </a:solidFill>
                <a:latin typeface="Arial"/>
              </a:rPr>
              <a:t>Servicios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Verdana"/>
              </a:rPr>
              <a:t>i-appl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Verdana"/>
              </a:rPr>
              <a:t>i-are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Verdana"/>
              </a:rPr>
              <a:t>Marunouchi Shuttl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Verdana"/>
              </a:rPr>
              <a:t>i-mo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Verdana"/>
              </a:rPr>
              <a:t>i-sho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Verdana"/>
              </a:rPr>
              <a:t>Ima-DoCo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Verdana"/>
              </a:rPr>
              <a:t>FeliC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Verdana"/>
              </a:rPr>
              <a:t>cmo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4c3aa"/>
                </a:solidFill>
                <a:latin typeface="Arial"/>
              </a:rPr>
              <a:t>Servicios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Verdana"/>
              </a:rPr>
              <a:t>i-appli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Extensiones a J2M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Gráficamente poderoso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Sun/NT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Segurida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2700360" y="1484280"/>
            <a:ext cx="933480" cy="28584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i-appli"/>
          <p:cNvPicPr/>
          <p:nvPr/>
        </p:nvPicPr>
        <p:blipFill>
          <a:blip r:embed="rId2"/>
          <a:stretch/>
        </p:blipFill>
        <p:spPr>
          <a:xfrm>
            <a:off x="5219640" y="1773360"/>
            <a:ext cx="3733920" cy="314316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/>
          <p:nvPr/>
        </p:nvSpPr>
        <p:spPr>
          <a:xfrm>
            <a:off x="395280" y="4941720"/>
            <a:ext cx="73026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Because i-appli incorporates so many advanced security features, it is an attractive and powerful tool for businesses — especially those that rely on safe transmission of confidential information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http://www.nttdocomo.com/corebiz/imode/services/iappli.htm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2700360" y="4221000"/>
            <a:ext cx="138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0" y="6208560"/>
            <a:ext cx="9144000" cy="649440"/>
          </a:xfrm>
          <a:prstGeom prst="rect">
            <a:avLst/>
          </a:prstGeom>
          <a:solidFill>
            <a:srgbClr val="9ac2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Verdana"/>
              </a:rPr>
              <a:t>Muchos terminales no i-mode vienen con un Runtime J2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3"/>
          <a:stretch/>
        </p:blipFill>
        <p:spPr>
          <a:xfrm>
            <a:off x="2195640" y="1149480"/>
            <a:ext cx="5184720" cy="48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4c3aa"/>
                </a:solidFill>
                <a:latin typeface="Arial"/>
              </a:rPr>
              <a:t>Servicios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Verdana"/>
              </a:rPr>
              <a:t>i-are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Entrega contenido i-mode según la ubicación del suscripto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Restaurantes, Clima, Servicios, Mapas, etc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Verdana"/>
              </a:rPr>
              <a:t>Marunouchi Shuttl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Servicio de localización de bus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10" name="" descr="Restaurants"/>
          <p:cNvPicPr/>
          <p:nvPr/>
        </p:nvPicPr>
        <p:blipFill>
          <a:blip r:embed="rId1"/>
          <a:stretch/>
        </p:blipFill>
        <p:spPr>
          <a:xfrm>
            <a:off x="6300720" y="1700280"/>
            <a:ext cx="1038240" cy="1324080"/>
          </a:xfrm>
          <a:prstGeom prst="rect">
            <a:avLst/>
          </a:prstGeom>
          <a:ln w="0">
            <a:noFill/>
          </a:ln>
        </p:spPr>
      </p:pic>
      <p:pic>
        <p:nvPicPr>
          <p:cNvPr id="411" name="" descr=""/>
          <p:cNvPicPr/>
          <p:nvPr/>
        </p:nvPicPr>
        <p:blipFill>
          <a:blip r:embed="rId2"/>
          <a:stretch/>
        </p:blipFill>
        <p:spPr>
          <a:xfrm>
            <a:off x="7667640" y="3284640"/>
            <a:ext cx="1038240" cy="1323720"/>
          </a:xfrm>
          <a:prstGeom prst="rect">
            <a:avLst/>
          </a:prstGeom>
          <a:ln w="0">
            <a:noFill/>
          </a:ln>
        </p:spPr>
      </p:pic>
      <p:pic>
        <p:nvPicPr>
          <p:cNvPr id="412" name="" descr=""/>
          <p:cNvPicPr/>
          <p:nvPr/>
        </p:nvPicPr>
        <p:blipFill>
          <a:blip r:embed="rId3"/>
          <a:stretch/>
        </p:blipFill>
        <p:spPr>
          <a:xfrm>
            <a:off x="7596360" y="1628640"/>
            <a:ext cx="1037880" cy="1324080"/>
          </a:xfrm>
          <a:prstGeom prst="rect">
            <a:avLst/>
          </a:prstGeom>
          <a:ln w="0">
            <a:noFill/>
          </a:ln>
        </p:spPr>
      </p:pic>
      <p:pic>
        <p:nvPicPr>
          <p:cNvPr id="413" name="" descr=""/>
          <p:cNvPicPr/>
          <p:nvPr/>
        </p:nvPicPr>
        <p:blipFill>
          <a:blip r:embed="rId4"/>
          <a:stretch/>
        </p:blipFill>
        <p:spPr>
          <a:xfrm>
            <a:off x="6372360" y="3284640"/>
            <a:ext cx="1038240" cy="1323720"/>
          </a:xfrm>
          <a:prstGeom prst="rect">
            <a:avLst/>
          </a:prstGeom>
          <a:ln w="0">
            <a:noFill/>
          </a:ln>
        </p:spPr>
      </p:pic>
      <p:pic>
        <p:nvPicPr>
          <p:cNvPr id="414" name="" descr=""/>
          <p:cNvPicPr/>
          <p:nvPr/>
        </p:nvPicPr>
        <p:blipFill>
          <a:blip r:embed="rId5"/>
          <a:stretch/>
        </p:blipFill>
        <p:spPr>
          <a:xfrm>
            <a:off x="2124000" y="1125360"/>
            <a:ext cx="5256360" cy="487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4c3aa"/>
                </a:solidFill>
                <a:latin typeface="Arial"/>
              </a:rPr>
              <a:t>Servicios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Verdana"/>
              </a:rPr>
              <a:t>i-mo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Servicio de distribución de video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Solo para 3G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Envío entre terminal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17" name="" descr=""/>
          <p:cNvPicPr/>
          <p:nvPr/>
        </p:nvPicPr>
        <p:blipFill>
          <a:blip r:embed="rId1"/>
          <a:stretch/>
        </p:blipFill>
        <p:spPr>
          <a:xfrm>
            <a:off x="2700360" y="1773360"/>
            <a:ext cx="914400" cy="285480"/>
          </a:xfrm>
          <a:prstGeom prst="rect">
            <a:avLst/>
          </a:prstGeom>
          <a:ln w="0">
            <a:noFill/>
          </a:ln>
        </p:spPr>
      </p:pic>
      <p:pic>
        <p:nvPicPr>
          <p:cNvPr id="418" name="" descr=""/>
          <p:cNvPicPr/>
          <p:nvPr/>
        </p:nvPicPr>
        <p:blipFill>
          <a:blip r:embed="rId2"/>
          <a:stretch/>
        </p:blipFill>
        <p:spPr>
          <a:xfrm>
            <a:off x="7020000" y="2781360"/>
            <a:ext cx="1038240" cy="1324080"/>
          </a:xfrm>
          <a:prstGeom prst="rect">
            <a:avLst/>
          </a:prstGeom>
          <a:ln w="0">
            <a:noFill/>
          </a:ln>
        </p:spPr>
      </p:pic>
      <p:pic>
        <p:nvPicPr>
          <p:cNvPr id="419" name="" descr=""/>
          <p:cNvPicPr/>
          <p:nvPr/>
        </p:nvPicPr>
        <p:blipFill>
          <a:blip r:embed="rId3"/>
          <a:stretch/>
        </p:blipFill>
        <p:spPr>
          <a:xfrm>
            <a:off x="6084720" y="1341360"/>
            <a:ext cx="1038240" cy="1324080"/>
          </a:xfrm>
          <a:prstGeom prst="rect">
            <a:avLst/>
          </a:prstGeom>
          <a:ln w="0">
            <a:noFill/>
          </a:ln>
        </p:spPr>
      </p:pic>
      <p:pic>
        <p:nvPicPr>
          <p:cNvPr id="420" name="" descr=""/>
          <p:cNvPicPr/>
          <p:nvPr/>
        </p:nvPicPr>
        <p:blipFill>
          <a:blip r:embed="rId4"/>
          <a:stretch/>
        </p:blipFill>
        <p:spPr>
          <a:xfrm>
            <a:off x="5076720" y="2781360"/>
            <a:ext cx="1038240" cy="132408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/>
          <p:nvPr/>
        </p:nvSpPr>
        <p:spPr>
          <a:xfrm>
            <a:off x="0" y="6093000"/>
            <a:ext cx="9144000" cy="765000"/>
          </a:xfrm>
          <a:prstGeom prst="rect">
            <a:avLst/>
          </a:prstGeom>
          <a:solidFill>
            <a:srgbClr val="9ac2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Verdana"/>
              </a:rPr>
              <a:t>Esto es similar a los servicios de TV-Móvil/MM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Verdana"/>
              </a:rPr>
              <a:t>ofrecidos sobre otras plataform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4c3aa"/>
                </a:solidFill>
                <a:latin typeface="Arial"/>
              </a:rPr>
              <a:t>¿Qué es i-mode?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s-MX" sz="3200" spc="-1" strike="noStrike">
                <a:solidFill>
                  <a:srgbClr val="ffffff"/>
                </a:solidFill>
                <a:latin typeface="Verdana"/>
              </a:rPr>
              <a:t>i-mode es un revolucionario servicio de telefonía móvil que ha revolucionado grandes aspectos del trabajo y recreación en Japón. Ofreciendo acceso a más de 83.000 sitios de Internet ha atraído a más de 42 millones de suscriptores desde su introducción en Febrero 1999.”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1" name=""/>
          <p:cNvSpPr/>
          <p:nvPr/>
        </p:nvSpPr>
        <p:spPr>
          <a:xfrm>
            <a:off x="2364480" y="6165720"/>
            <a:ext cx="488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http://www.nttdocomo.com/corebiz/imode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900000" y="5734080"/>
            <a:ext cx="7344000" cy="1123920"/>
          </a:xfrm>
          <a:custGeom>
            <a:avLst/>
            <a:gdLst>
              <a:gd name="textAreaLeft" fmla="*/ 1147320 w 7344000"/>
              <a:gd name="textAreaRight" fmla="*/ 6426000 w 7344000"/>
              <a:gd name="textAreaTop" fmla="*/ 280800 h 1123920"/>
              <a:gd name="textAreaBottom" fmla="*/ 843120 h 1123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ac2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¿Qué hay de novedoso en esto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4c3aa"/>
                </a:solidFill>
                <a:latin typeface="Arial"/>
              </a:rPr>
              <a:t>Servicios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384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Verdana"/>
              </a:rPr>
              <a:t>i-sho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24" name="" descr=""/>
          <p:cNvPicPr/>
          <p:nvPr/>
        </p:nvPicPr>
        <p:blipFill>
          <a:blip r:embed="rId1"/>
          <a:stretch/>
        </p:blipFill>
        <p:spPr>
          <a:xfrm>
            <a:off x="2124000" y="1268280"/>
            <a:ext cx="1181160" cy="285840"/>
          </a:xfrm>
          <a:prstGeom prst="rect">
            <a:avLst/>
          </a:prstGeom>
          <a:ln w="0">
            <a:noFill/>
          </a:ln>
        </p:spPr>
      </p:pic>
      <p:pic>
        <p:nvPicPr>
          <p:cNvPr id="425" name="" descr="i-shot Service"/>
          <p:cNvPicPr/>
          <p:nvPr/>
        </p:nvPicPr>
        <p:blipFill>
          <a:blip r:embed="rId2"/>
          <a:stretch/>
        </p:blipFill>
        <p:spPr>
          <a:xfrm>
            <a:off x="250920" y="1700280"/>
            <a:ext cx="3909960" cy="4608360"/>
          </a:xfrm>
          <a:prstGeom prst="rect">
            <a:avLst/>
          </a:prstGeom>
          <a:ln w="0">
            <a:noFill/>
          </a:ln>
        </p:spPr>
      </p:pic>
      <p:sp>
        <p:nvSpPr>
          <p:cNvPr id="426" name=""/>
          <p:cNvSpPr/>
          <p:nvPr/>
        </p:nvSpPr>
        <p:spPr>
          <a:xfrm>
            <a:off x="4781520" y="1197000"/>
            <a:ext cx="40384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19000"/>
          </a:bodyPr>
          <a:p>
            <a:pPr marL="65160" indent="-65160">
              <a:lnSpc>
                <a:spcPct val="10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Verdana"/>
              </a:rPr>
              <a:t>Ima-DoC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41120" indent="-540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Localiz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217080" indent="-4320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Intern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217080" indent="-4320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Browser i-m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217080" indent="-4320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G3FA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41120" indent="-540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Diversos us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217080" indent="-4320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Niñ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217080" indent="-4320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Automóvi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217080" indent="-4320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Motociclet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41120" indent="-54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7" name="" descr=""/>
          <p:cNvPicPr/>
          <p:nvPr/>
        </p:nvPicPr>
        <p:blipFill>
          <a:blip r:embed="rId3"/>
          <a:stretch/>
        </p:blipFill>
        <p:spPr>
          <a:xfrm>
            <a:off x="4427640" y="1700280"/>
            <a:ext cx="417816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4c3aa"/>
                </a:solidFill>
                <a:latin typeface="Arial"/>
              </a:rPr>
              <a:t>Servicios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i-mode FeliCa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Incorporación del Sony’s contactless IC Chip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Convierte al terminal en una herramienta que habilita nuevos usos como e-money, e-tickets, credit card hasta llav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Característica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Network Function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Verdana"/>
              </a:rPr>
              <a:t>Pagos con dinero electrónico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Verdana"/>
              </a:rPr>
              <a:t>Compra de Tickets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Viewer Function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Verdana"/>
              </a:rPr>
              <a:t>Historial, Saldos, etc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Multi-Application Function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Verdana"/>
              </a:rPr>
              <a:t>Agregación de Distintos servicios dentro del mismo aparato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30" name="" descr=""/>
          <p:cNvPicPr/>
          <p:nvPr/>
        </p:nvPicPr>
        <p:blipFill>
          <a:blip r:embed="rId1"/>
          <a:stretch/>
        </p:blipFill>
        <p:spPr>
          <a:xfrm>
            <a:off x="4572000" y="1413000"/>
            <a:ext cx="2801880" cy="1805040"/>
          </a:xfrm>
          <a:prstGeom prst="rect">
            <a:avLst/>
          </a:prstGeom>
          <a:ln w="0">
            <a:noFill/>
          </a:ln>
        </p:spPr>
      </p:pic>
      <p:pic>
        <p:nvPicPr>
          <p:cNvPr id="431" name="" descr=""/>
          <p:cNvPicPr/>
          <p:nvPr/>
        </p:nvPicPr>
        <p:blipFill>
          <a:blip r:embed="rId2"/>
          <a:stretch/>
        </p:blipFill>
        <p:spPr>
          <a:xfrm>
            <a:off x="4427640" y="3284640"/>
            <a:ext cx="4529160" cy="2755800"/>
          </a:xfrm>
          <a:prstGeom prst="rect">
            <a:avLst/>
          </a:prstGeom>
          <a:ln w="0">
            <a:noFill/>
          </a:ln>
        </p:spPr>
      </p:pic>
      <p:sp>
        <p:nvSpPr>
          <p:cNvPr id="432" name=""/>
          <p:cNvSpPr/>
          <p:nvPr/>
        </p:nvSpPr>
        <p:spPr>
          <a:xfrm>
            <a:off x="0" y="6093000"/>
            <a:ext cx="9144000" cy="765000"/>
          </a:xfrm>
          <a:prstGeom prst="rect">
            <a:avLst/>
          </a:prstGeom>
          <a:solidFill>
            <a:srgbClr val="9ac2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Verdana"/>
              </a:rPr>
              <a:t>Dos plataformas de “e-money” compiten en Japón: SUICA y EDY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Verdana"/>
              </a:rPr>
              <a:t>Ambas basadas en la tecnología Smartcard multi-aplicación de So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4c3aa"/>
                </a:solidFill>
                <a:latin typeface="Arial"/>
              </a:rPr>
              <a:t>Servicios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770400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Verdana"/>
              </a:rPr>
              <a:t>Cmod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Servicio que conecta i-mode con maquinas de Coca-Col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35" name="" descr="Cmode drinks vending machine and i-mode"/>
          <p:cNvPicPr/>
          <p:nvPr/>
        </p:nvPicPr>
        <p:blipFill>
          <a:blip r:embed="rId1"/>
          <a:stretch/>
        </p:blipFill>
        <p:spPr>
          <a:xfrm>
            <a:off x="1763640" y="2492280"/>
            <a:ext cx="5834160" cy="4118040"/>
          </a:xfrm>
          <a:prstGeom prst="rect">
            <a:avLst/>
          </a:prstGeom>
          <a:ln w="0">
            <a:noFill/>
          </a:ln>
        </p:spPr>
      </p:pic>
      <p:sp>
        <p:nvSpPr>
          <p:cNvPr id="436" name=""/>
          <p:cNvSpPr/>
          <p:nvPr/>
        </p:nvSpPr>
        <p:spPr>
          <a:xfrm>
            <a:off x="0" y="6165720"/>
            <a:ext cx="9144000" cy="692280"/>
          </a:xfrm>
          <a:prstGeom prst="rect">
            <a:avLst/>
          </a:prstGeom>
          <a:solidFill>
            <a:srgbClr val="9ac2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Verdana"/>
              </a:rPr>
              <a:t>Esto se hace en Chile usando mensajeria SMS con maquinas de Coca-Cola 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Verdana"/>
              </a:rPr>
              <a:t>Venta de boletos de metr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4c3aa"/>
                </a:solidFill>
                <a:latin typeface="Arial"/>
              </a:rPr>
              <a:t>Evolución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pic>
        <p:nvPicPr>
          <p:cNvPr id="438" name="" descr=""/>
          <p:cNvPicPr/>
          <p:nvPr/>
        </p:nvPicPr>
        <p:blipFill>
          <a:blip r:embed="rId1"/>
          <a:stretch/>
        </p:blipFill>
        <p:spPr>
          <a:xfrm>
            <a:off x="179280" y="1484280"/>
            <a:ext cx="8785440" cy="47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4c3aa"/>
                </a:solidFill>
                <a:latin typeface="Arial"/>
              </a:rPr>
              <a:t>Futuro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Capacidades futuristas de las comunicaciones 3G han sido anticipadas mundialment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Además de nuevos y sofisticados terminales, se planean terminales más pequeños y más liviano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FOMA-GSM, FOMA-WLAN en el 2004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Roaming Service mundia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Otros servicios permitirán manejar la casa, alimentos, entretenimiento, etc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41" name="" descr="Future Development of FOMA"/>
          <p:cNvPicPr/>
          <p:nvPr/>
        </p:nvPicPr>
        <p:blipFill>
          <a:blip r:embed="rId1"/>
          <a:stretch/>
        </p:blipFill>
        <p:spPr>
          <a:xfrm>
            <a:off x="4946760" y="1600200"/>
            <a:ext cx="3441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4c3aa"/>
                </a:solidFill>
                <a:latin typeface="Arial"/>
              </a:rPr>
              <a:t>Futuro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6840" y="4723920"/>
            <a:ext cx="8218440" cy="14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Ejemplo interesante es el uso de códigos de barra en 2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Los terminales con cámara tienen estas facilidad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44" name="" descr=""/>
          <p:cNvPicPr/>
          <p:nvPr/>
        </p:nvPicPr>
        <p:blipFill>
          <a:blip r:embed="rId1"/>
          <a:stretch/>
        </p:blipFill>
        <p:spPr>
          <a:xfrm>
            <a:off x="1835280" y="1268280"/>
            <a:ext cx="52578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4c3aa"/>
                </a:solidFill>
                <a:latin typeface="Arial"/>
              </a:rPr>
              <a:t>Futuro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5229360"/>
            <a:ext cx="82296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En este ejemplo el sistema enseña la ruta hasta el destino buscad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47" name="" descr=""/>
          <p:cNvPicPr/>
          <p:nvPr/>
        </p:nvPicPr>
        <p:blipFill>
          <a:blip r:embed="rId1"/>
          <a:stretch/>
        </p:blipFill>
        <p:spPr>
          <a:xfrm>
            <a:off x="1403280" y="1312920"/>
            <a:ext cx="6337440" cy="36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4c3aa"/>
                </a:solidFill>
                <a:latin typeface="Arial"/>
              </a:rPr>
              <a:t>Futuro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Este código fue desarrollado por Dendo Co. en 1994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En este código es posible guardar mucha información, en comparación al código de barras antigu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Este sistema permite manejar información con mucha seguridad, permitiendo su uso en aplicaciones comercial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Se pueden vender bienes usando teléfonos i-mode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Proxy claim servic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Conbien servic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91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Conbien servic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El pago se realiza a través del codigo de barra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51" name="" descr=""/>
          <p:cNvPicPr/>
          <p:nvPr/>
        </p:nvPicPr>
        <p:blipFill>
          <a:blip r:embed="rId1"/>
          <a:stretch/>
        </p:blipFill>
        <p:spPr>
          <a:xfrm>
            <a:off x="468360" y="1700280"/>
            <a:ext cx="4176720" cy="3852720"/>
          </a:xfrm>
          <a:prstGeom prst="rect">
            <a:avLst/>
          </a:prstGeom>
          <a:ln w="0">
            <a:noFill/>
          </a:ln>
        </p:spPr>
      </p:pic>
      <p:pic>
        <p:nvPicPr>
          <p:cNvPr id="452" name="" descr=""/>
          <p:cNvPicPr/>
          <p:nvPr/>
        </p:nvPicPr>
        <p:blipFill>
          <a:blip r:embed="rId2"/>
          <a:stretch/>
        </p:blipFill>
        <p:spPr>
          <a:xfrm>
            <a:off x="4643280" y="1700280"/>
            <a:ext cx="4176720" cy="3854520"/>
          </a:xfrm>
          <a:prstGeom prst="rect">
            <a:avLst/>
          </a:prstGeom>
          <a:ln w="0">
            <a:noFill/>
          </a:ln>
        </p:spPr>
      </p:pic>
      <p:pic>
        <p:nvPicPr>
          <p:cNvPr id="453" name="" descr=""/>
          <p:cNvPicPr/>
          <p:nvPr/>
        </p:nvPicPr>
        <p:blipFill>
          <a:blip r:embed="rId3"/>
          <a:stretch/>
        </p:blipFill>
        <p:spPr>
          <a:xfrm>
            <a:off x="395280" y="1700280"/>
            <a:ext cx="8497800" cy="4199040"/>
          </a:xfrm>
          <a:prstGeom prst="rect">
            <a:avLst/>
          </a:prstGeom>
          <a:ln w="0">
            <a:noFill/>
          </a:ln>
        </p:spPr>
      </p:pic>
      <p:sp>
        <p:nvSpPr>
          <p:cNvPr id="454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4c3aa"/>
                </a:solidFill>
                <a:latin typeface="Arial"/>
              </a:rPr>
              <a:t>Futuro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4c3aa"/>
                </a:solidFill>
                <a:latin typeface="Arial"/>
              </a:rPr>
              <a:t>Conclusiones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Verdana"/>
              </a:rPr>
              <a:t>La clave del éxito de i-mode es su revolucionario modelo de negocio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Verdana"/>
              </a:rPr>
              <a:t>Esquema de Colaboración (Win-Win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Verdana"/>
              </a:rPr>
              <a:t>Aprender de los casos de éxito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Verdana"/>
              </a:rPr>
              <a:t>Especialmente en el ámbito naciona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s-CL" sz="3200" spc="-1" strike="noStrike">
                <a:solidFill>
                  <a:srgbClr val="ffffff"/>
                </a:solidFill>
                <a:latin typeface="Verdana"/>
              </a:rPr>
              <a:t>Foco en la I en la TI” –Nicholas G. Car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4c3aa"/>
                </a:solidFill>
                <a:latin typeface="Arial"/>
              </a:rPr>
              <a:t>i-mode, más que una tecnología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Verdana"/>
              </a:rPr>
              <a:t>i-mode introdujo un revolucionario modelo de negocio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Verdana"/>
              </a:rPr>
              <a:t>NTT DoCoMo sincroniza la cadena de valor para maximizar la calidad de los servicio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Verdana"/>
              </a:rPr>
              <a:t>Always 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395280" y="2781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4c3aa"/>
                </a:solidFill>
                <a:latin typeface="Arial"/>
              </a:rPr>
              <a:t>¿Preguntas?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4c3aa"/>
                </a:solidFill>
                <a:latin typeface="Arial"/>
              </a:rPr>
              <a:t>Esquema de Colaboración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pic>
        <p:nvPicPr>
          <p:cNvPr id="346" name="" descr="i-mode Collaboration Concept"/>
          <p:cNvPicPr/>
          <p:nvPr/>
        </p:nvPicPr>
        <p:blipFill>
          <a:blip r:embed="rId1"/>
          <a:stretch/>
        </p:blipFill>
        <p:spPr>
          <a:xfrm>
            <a:off x="1979640" y="1413000"/>
            <a:ext cx="5329080" cy="51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4c3aa"/>
                </a:solidFill>
                <a:latin typeface="Arial"/>
              </a:rPr>
              <a:t>Contenido Oficial/No Oficial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Verdana"/>
              </a:rPr>
              <a:t>Todo terminal i-mode tiene un botón “i-mode”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Verdana"/>
              </a:rPr>
              <a:t>4000 Sitios Oficiales/80000 No Oficial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Verdana"/>
              </a:rPr>
              <a:t>Sitios oficiales son partners de DoCoM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49" name="" descr="Your official and unofficial content providers working in harmony"/>
          <p:cNvPicPr/>
          <p:nvPr/>
        </p:nvPicPr>
        <p:blipFill>
          <a:blip r:embed="rId1"/>
          <a:stretch/>
        </p:blipFill>
        <p:spPr>
          <a:xfrm>
            <a:off x="4716360" y="1989000"/>
            <a:ext cx="4038840" cy="170820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i-mode menu schematics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39640" y="1197000"/>
            <a:ext cx="8280360" cy="51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4c3aa"/>
                </a:solidFill>
                <a:latin typeface="Arial"/>
              </a:rPr>
              <a:t>i-mode para negocios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Verdana"/>
              </a:rPr>
              <a:t>La banca japonesa apoyo mucho el desarrollo de i-mo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Verdana"/>
              </a:rPr>
              <a:t>Introducción del concepto de m-commerc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Verdana"/>
              </a:rPr>
              <a:t>Remote Bankin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Verdana"/>
              </a:rPr>
              <a:t>Airline Ticket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Verdana"/>
              </a:rPr>
              <a:t>Lottery Ticket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Verdana"/>
              </a:rPr>
              <a:t>CR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Verdana"/>
              </a:rPr>
              <a:t>Existencia de VPN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c4c3aa"/>
                </a:solidFill>
                <a:latin typeface="Arial"/>
              </a:rPr>
              <a:t>Términos Comerciales Suscripción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906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Verdana"/>
              </a:rPr>
              <a:t>Cargo Mensual Fijo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Verdana"/>
              </a:rPr>
              <a:t>~US$2.8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Verdana"/>
              </a:rPr>
              <a:t>Cobro por paquet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Verdana"/>
              </a:rPr>
              <a:t>~US$0.003 / 128 byt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Verdana"/>
              </a:rPr>
              <a:t>Always 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5" name="" descr="Billing System Structure"/>
          <p:cNvPicPr/>
          <p:nvPr/>
        </p:nvPicPr>
        <p:blipFill>
          <a:blip r:embed="rId1"/>
          <a:stretch/>
        </p:blipFill>
        <p:spPr>
          <a:xfrm>
            <a:off x="4859280" y="4076640"/>
            <a:ext cx="373392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4c3aa"/>
                </a:solidFill>
                <a:latin typeface="Arial"/>
              </a:rPr>
              <a:t>Los Building-Blocks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pic>
        <p:nvPicPr>
          <p:cNvPr id="357" name="" descr="i-mode service for 2G-3G networks "/>
          <p:cNvPicPr/>
          <p:nvPr/>
        </p:nvPicPr>
        <p:blipFill>
          <a:blip r:embed="rId1"/>
          <a:stretch/>
        </p:blipFill>
        <p:spPr>
          <a:xfrm>
            <a:off x="2050920" y="1341360"/>
            <a:ext cx="5400720" cy="50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1T00:12:58Z</dcterms:created>
  <dc:creator>José M. Selman</dc:creator>
  <dc:description/>
  <dc:language>en-US</dc:language>
  <cp:lastModifiedBy>José M. Selman</cp:lastModifiedBy>
  <dcterms:modified xsi:type="dcterms:W3CDTF">2004-10-29T13:48:48Z</dcterms:modified>
  <cp:revision>90</cp:revision>
  <dc:subject/>
  <dc:title>I-Mod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