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1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3.png" ContentType="image/png"/>
  <Override PartName="/ppt/media/image37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E03-C75E-400F-BCA6-85E0B9ED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3C1-5455-40B0-A200-E13B9E72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63F-B14C-493A-B4E4-3E882CF9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49CC-52DD-495D-9044-7EB15256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56B8-9184-46E4-BC10-9C818715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AAC2-41E4-4C95-B9F4-468C13DA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F9CF-7CE8-44F9-8269-7CA2594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71FF-D71E-4806-9C9F-3A7492F2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EB7-B205-49DC-B48D-7CFDD9D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BC53-146F-4D27-80F8-1F5E3BB8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4016-DC78-439C-A10E-499D9D6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32B-D20B-463F-B52D-043F0FA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3566-FB84-4AFA-B1C1-3F7E9D72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FD1C-E8B6-4950-8932-92F7B5C0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572-1D93-404D-821A-8C425B39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3449-AAA1-4525-87A0-7C98FDFA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529A-4C9B-47B4-A73F-F14C6613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B22-82EC-4536-8D20-146A1F9C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FBD-627D-499D-9AAA-E1BB6EB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40F-A005-49E9-BEE7-0FA8B9FF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46B-3EE9-463F-95C2-B80557DB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287-8C88-4A5B-9C94-3FF52F47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167-0068-4DB7-AAB0-4A53F70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2C7-290E-40E6-9CC1-439AEB19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39F7-C081-4B16-B7CD-77C16D3F22D4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17AA-9153-4CDD-9274-89C0D655141B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ttdocomo.com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urotechnology.com/store/imode/index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700" spc="-1" strike="noStrike">
                <a:solidFill>
                  <a:srgbClr val="c4c3aa"/>
                </a:solidFill>
                <a:latin typeface="Arial"/>
              </a:rPr>
              <a:t>i-mode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2556000" y="544464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esenta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avarro, Christi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lman, José Migu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1845000" y="40464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C60L – Seminario de Comunicaciones Avan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NTT DoCoM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700280"/>
            <a:ext cx="981000" cy="5144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79280" y="3284640"/>
            <a:ext cx="8964720" cy="1152360"/>
          </a:xfrm>
          <a:custGeom>
            <a:avLst/>
            <a:gdLst>
              <a:gd name="textAreaLeft" fmla="*/ 0 w 8964720"/>
              <a:gd name="textAreaRight" fmla="*/ 8965080 w 896472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http://www.jselman.com/cc60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4c3aa"/>
                </a:solidFill>
                <a:latin typeface="Arial"/>
              </a:rPr>
              <a:t>Usuarios i-mode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9" name="" descr="35 million i-mode users"/>
          <p:cNvPicPr/>
          <p:nvPr/>
        </p:nvPicPr>
        <p:blipFill>
          <a:blip r:embed="rId1"/>
          <a:stretch/>
        </p:blipFill>
        <p:spPr>
          <a:xfrm>
            <a:off x="684360" y="1341360"/>
            <a:ext cx="77040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Usuarios 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Usuarios de Mediana E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Similar distribución de sex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" descr="i-mode user age profile"/>
          <p:cNvPicPr/>
          <p:nvPr/>
        </p:nvPicPr>
        <p:blipFill>
          <a:blip r:embed="rId1"/>
          <a:stretch/>
        </p:blipFill>
        <p:spPr>
          <a:xfrm>
            <a:off x="3924360" y="1413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5661000"/>
            <a:ext cx="1763640" cy="119700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M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de 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Factores de Éxi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Bajo costo de terminales compatib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os Japoneses adoran los “Gadget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Relativamente baja penetración de PCs en el hog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lways 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Eficiente sistema de cobro de servicios de valor agreg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HTML facilita el desarrol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Ecosist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419640" y="6021360"/>
            <a:ext cx="5616360" cy="692280"/>
          </a:xfrm>
          <a:custGeom>
            <a:avLst/>
            <a:gdLst>
              <a:gd name="textAreaLeft" fmla="*/ 877320 w 5616360"/>
              <a:gd name="textAreaRight" fmla="*/ 4914360 w 5616360"/>
              <a:gd name="textAreaTop" fmla="*/ 173160 h 692280"/>
              <a:gd name="textAreaBottom" fmla="*/ 519480 h 69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por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xportación de este mode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l servicio i-mode se ha lanzado en algunos países de Europ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ada país ofrece sus propios contenidos y termin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ambién se están estableciendo importantes relaciones en EEUU, donde NTT participa junto a AT&amp;T Wirel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781520" y="1650960"/>
            <a:ext cx="3772080" cy="20858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781520" y="3992400"/>
            <a:ext cx="3772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xportación de este mode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asta marzo de 2002 i-mode solo estaba disponible en Jap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n Japón casi todos servicios i-mode están en japon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n la cumbre de los G7/G8 en Okinawa una sección del menú en inglés fue agregada con contenidos limitados (CNN, Disney, etc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s contenidos en inglés están separados y son diferentes de los contenidos en japon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xportación de este mode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NTT DoCoMo ha establecido relaciones en EEUU, América, Europa y Asia y Austral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demás NTT coopera con otros países en la estandarización y el desarrollo de servicios 3G y 4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n EEUU, AT&amp;T lanzó su servicio m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ste servicio carece del software de cobro que ha hecho a i-mode tan popu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unque no soporta todas las características (micropayment y cHTML), da una idea de lo que será i-mode cuando se implemente en EEU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i-mode v/s WAP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WAP es un protocolo para presentar e interactuar con inform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odelo Capas O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mode es un completo servicio wireless de acceso a intern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WAP es típicamente Circuit Switched (dial-u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mode es packet switc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WAP puede funcionar sobre GPRS/EDGE/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Seguridad en 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 diferencia de WAP, i-mode fue construido considerando la segur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WAP G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lave para habilitar el m-commerce (Ej: remote bank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SL incorporado en hands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ink entre terminal y estación base controlado por NTT DoCoM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lásicas amenazas de la computación distribuida: Integridad, Confidencialidad, No repudiación,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P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MS/E-Mail/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xisten distintos servicios de mensajes en i-mod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hort Messages o SMS (en el caso de FOMA/3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essage-Fr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essage-Requ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MS/E-Mail/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os emails en i-mode son como los emails ordinarios de internet, los usuarios pueden enviar y recibir desde y hacia cualquier email en el mun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800600" y="2208240"/>
            <a:ext cx="37339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¿Que es i-mo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Modelo de Negoci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Factores de Éxi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Export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¿Cómo Funcion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omparación con otras propuest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8317080" y="1268280"/>
            <a:ext cx="431640" cy="5183280"/>
          </a:xfrm>
          <a:custGeom>
            <a:avLst/>
            <a:gdLst>
              <a:gd name="textAreaLeft" fmla="*/ 0 w 431640"/>
              <a:gd name="textAreaRight" fmla="*/ 432000 w 431640"/>
              <a:gd name="textAreaTop" fmla="*/ 1295640 h 5183280"/>
              <a:gd name="textAreaBottom" fmla="*/ 3887640 h 518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iscu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MS/E-Mail/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MS y 2G/MOV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on llamados i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s mensajes iMS pueden ser enviados directamente a otro telefono DoCoMo, el cual está suscrito al servicio iMS, pero que no necesita estar suscrito a i-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s límites y características son diferentes a los emails de i-mode, así como los cos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MS/E-Mail/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MS y 3G/FO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MS esta instalado en FOMA, pero es menos flexible y más caro que el ema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s mucho menos us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Message-Free y Message-Requ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stos son mensajes “opt-in”, los cuales pueden ser grátis o pagad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n estos mensajes la información es enviada al usuario, más que pedida por el usuari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omo funciona 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El servicio i-mode utiliza i-HTM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El transporte se realiza por HTTP sobre TCP/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ara mejorar la transmisión, se creo el “wireless-profiled TCP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Hay múltiples “mobile message packet gateways”, que se conectan a cada servidor i-m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omo funciona 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71280" y="5877000"/>
            <a:ext cx="74516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Packet Switched/No Circuit Switc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2" name="" descr="Functions of the i-mode server"/>
          <p:cNvPicPr/>
          <p:nvPr/>
        </p:nvPicPr>
        <p:blipFill>
          <a:blip r:embed="rId1"/>
          <a:stretch/>
        </p:blipFill>
        <p:spPr>
          <a:xfrm>
            <a:off x="1476360" y="1268280"/>
            <a:ext cx="6197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html/ihtm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ubconjunto de HTML (W3C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act HTML for Small Information Applian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HTML introduce extensiones específicas para i-m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5" name="" descr="Translation of the sample code on a browser screen"/>
          <p:cNvPicPr/>
          <p:nvPr/>
        </p:nvPicPr>
        <p:blipFill>
          <a:blip r:embed="rId1"/>
          <a:stretch/>
        </p:blipFill>
        <p:spPr>
          <a:xfrm>
            <a:off x="6732720" y="4005360"/>
            <a:ext cx="14889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Anchos de Ban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Dependiendo del terminal/red los anchos de banda varí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2G (MOV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wnstream: 27.8 kb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pstream: 9.6 kbp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3G (FOM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wnstream: 384 kb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pstream: 64 kb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ervicios como transferencia de video y animaciones solamente disponible para terminales/redes 3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app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ar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Marunouchi Shut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mo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sh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ma-Do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Fel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cm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app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tensiones a J2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Gráficamente podero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un/NT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933480" cy="285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i-appli"/>
          <p:cNvPicPr/>
          <p:nvPr/>
        </p:nvPicPr>
        <p:blipFill>
          <a:blip r:embed="rId2"/>
          <a:stretch/>
        </p:blipFill>
        <p:spPr>
          <a:xfrm>
            <a:off x="5219640" y="1773360"/>
            <a:ext cx="3733920" cy="31431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95280" y="4941720"/>
            <a:ext cx="7302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ecause i-appli incorporates so many advanced security features, it is an attractive and powerful tool for businesses — especially those that rely on safe transmission of confidential inform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ttp://www.nttdocomo.com/corebiz/imode/services/iappli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00360" y="422100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Muchos terminales no i-mode vienen con un Runtime J2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195640" y="1149480"/>
            <a:ext cx="518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are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trega contenido i-mode según la ubicación del suscrip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staurantes, Clima, Servicios, Mapas,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Marunouchi Shut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rvicio de localización de bu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0" name="" descr="Restaurants"/>
          <p:cNvPicPr/>
          <p:nvPr/>
        </p:nvPicPr>
        <p:blipFill>
          <a:blip r:embed="rId1"/>
          <a:stretch/>
        </p:blipFill>
        <p:spPr>
          <a:xfrm>
            <a:off x="6300720" y="1700280"/>
            <a:ext cx="1038240" cy="1324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7667640" y="3284640"/>
            <a:ext cx="1038240" cy="1323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7596360" y="1628640"/>
            <a:ext cx="1037880" cy="1324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1038240" cy="1323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2124000" y="1125360"/>
            <a:ext cx="5256360" cy="48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mo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rvicio de distribución de vide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olo para 3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vío entre termin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914400" cy="2854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020000" y="2781360"/>
            <a:ext cx="1038240" cy="1324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038240" cy="1324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5076720" y="2781360"/>
            <a:ext cx="1038240" cy="1324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Esto es similar a los servicios de TV-Móvil/M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ofrecidos sobre otras plataf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¿Qué es i-mode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mode es un revolucionario servicio de telefonía móvil que ha revolucionado grandes aspectos del trabajo y recreación en Japón. Ofreciendo acceso a más de 83.000 sitios de Internet ha atraído a más de 42 millones de suscriptores desde su introducción en Febrero 1999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2364480" y="616572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http://www.nttdocomo.com/corebiz/imod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5734080"/>
            <a:ext cx="7344000" cy="1123920"/>
          </a:xfrm>
          <a:custGeom>
            <a:avLst/>
            <a:gdLst>
              <a:gd name="textAreaLeft" fmla="*/ 1147320 w 7344000"/>
              <a:gd name="textAreaRight" fmla="*/ 6426000 w 7344000"/>
              <a:gd name="textAreaTop" fmla="*/ 280800 h 1123920"/>
              <a:gd name="textAreaBottom" fmla="*/ 843120 h 1123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¿Qué hay de novedoso en es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sh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1181160" cy="2858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i-shot Service"/>
          <p:cNvPicPr/>
          <p:nvPr/>
        </p:nvPicPr>
        <p:blipFill>
          <a:blip r:embed="rId2"/>
          <a:stretch/>
        </p:blipFill>
        <p:spPr>
          <a:xfrm>
            <a:off x="250920" y="1700280"/>
            <a:ext cx="3909960" cy="46083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781520" y="1197000"/>
            <a:ext cx="4038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ma-Do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oc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Browser i-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G3F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iversos 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Ni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utomóv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otocicle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178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-mode Feli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corporación del Sony’s contactless IC C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onvierte al terminal en una herramienta que habilita nuevos usos como e-money, e-tickets, credit card hasta lla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aracterístic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etwork 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Verdana"/>
              </a:rPr>
              <a:t>Pagos con dinero electrónic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Verdana"/>
              </a:rPr>
              <a:t>Compra de Ticke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Viewer 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Verdana"/>
              </a:rPr>
              <a:t>Historial, Saldos, et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ulti-Application 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Verdana"/>
              </a:rPr>
              <a:t>Agregación de Distintos servicios dentro del mismo aparat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2801880" cy="18050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4529160" cy="2755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Dos plataformas de “e-money” compiten en Japón: SUICA y ED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Ambas basadas en la tecnología Smartcard multi-aplicación de S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7040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m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ervicio que conecta i-mode con maquinas de Coca-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" descr="Cmode drinks vending machine and i-mode"/>
          <p:cNvPicPr/>
          <p:nvPr/>
        </p:nvPicPr>
        <p:blipFill>
          <a:blip r:embed="rId1"/>
          <a:stretch/>
        </p:blipFill>
        <p:spPr>
          <a:xfrm>
            <a:off x="1763640" y="2492280"/>
            <a:ext cx="5834160" cy="41180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Esto se hace en Chile usando mensajeria SMS con maquinas de Coca-Col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Venta de boletos de met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volució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pacidades futuristas de las comunicaciones 3G han sido anticipadas mundialm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demás de nuevos y sofisticados terminales, se planean terminales más pequeños y más livian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FOMA-GSM, FOMA-WLAN en el 20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aming Service mund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tros servicios permitirán manejar la casa, alimentos, entretenimiento,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" descr="Future Development of FOMA"/>
          <p:cNvPicPr/>
          <p:nvPr/>
        </p:nvPicPr>
        <p:blipFill>
          <a:blip r:embed="rId1"/>
          <a:stretch/>
        </p:blipFill>
        <p:spPr>
          <a:xfrm>
            <a:off x="4946760" y="1600200"/>
            <a:ext cx="3441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2184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jemplo interesante es el uso de códigos de barra en 2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s terminales con cámara tienen estas facilida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2578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n este ejemplo el sistema enseña la ruta hasta el destino busc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403280" y="1312920"/>
            <a:ext cx="63374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ste código fue desarrollado por Dendo Co. en 199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n este código es posible guardar mucha información, en comparación al código de barras antigu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ste sistema permite manejar información con mucha seguridad, permitiendo su uso en aplicaciones comerci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e pueden vender bienes usando teléfonos i-mod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Proxy claim serv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nbien serv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onbien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 pago se realiza a través del codigo de bar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176720" cy="38527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38545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8497800" cy="41990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a clave del éxito de i-mode es su revolucionario modelo de negoc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squema de Colaboración (Win-Wi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Aprender de los casos de éx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specialmente en el ámbito nac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Foco en la I en la TI” –Nicholas G. Car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i-mode, más que una tecnologí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mode introdujo un revolucionario modelo de negoc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NTT DoCoMo sincroniza la cadena de valor para maximizar la calidad de los servic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lways 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squema de Colaboració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6" name="" descr="i-mode Collaboration Concept"/>
          <p:cNvPicPr/>
          <p:nvPr/>
        </p:nvPicPr>
        <p:blipFill>
          <a:blip r:embed="rId1"/>
          <a:stretch/>
        </p:blipFill>
        <p:spPr>
          <a:xfrm>
            <a:off x="1979640" y="1413000"/>
            <a:ext cx="532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ontenido Oficial/No Oficia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odo terminal i-mode tiene un botón “i-mod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4000 Sitios Oficiales/80000 No Ofici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itios oficiales son partners de DoCo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" descr="Your official and unofficial content providers working in harmony"/>
          <p:cNvPicPr/>
          <p:nvPr/>
        </p:nvPicPr>
        <p:blipFill>
          <a:blip r:embed="rId1"/>
          <a:stretch/>
        </p:blipFill>
        <p:spPr>
          <a:xfrm>
            <a:off x="4716360" y="1989000"/>
            <a:ext cx="4038840" cy="1708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i-mode menu schematic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19700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i-mode para nego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a banca japonesa apoyo mucho el desarrollo de i-m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troducción del concepto de m-commer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emote Ban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Airline Tick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Lottery Tick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xistencia de VP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4c3aa"/>
                </a:solidFill>
                <a:latin typeface="Arial"/>
              </a:rPr>
              <a:t>Términos Comerciales Suscripció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Cargo Mensual Fij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~US$2.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Cobro por paque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~US$0.003 / 128 b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Always 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" descr="Billing System Structure"/>
          <p:cNvPicPr/>
          <p:nvPr/>
        </p:nvPicPr>
        <p:blipFill>
          <a:blip r:embed="rId1"/>
          <a:stretch/>
        </p:blipFill>
        <p:spPr>
          <a:xfrm>
            <a:off x="4859280" y="4076640"/>
            <a:ext cx="3733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Los Building-Block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7" name="" descr="i-mode service for 2G-3G networks "/>
          <p:cNvPicPr/>
          <p:nvPr/>
        </p:nvPicPr>
        <p:blipFill>
          <a:blip r:embed="rId1"/>
          <a:stretch/>
        </p:blipFill>
        <p:spPr>
          <a:xfrm>
            <a:off x="2050920" y="1341360"/>
            <a:ext cx="5400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0:12:58Z</dcterms:created>
  <dc:creator>José M. Selman</dc:creator>
  <dc:description/>
  <dc:language>en-US</dc:language>
  <cp:lastModifiedBy>José M. Selman</cp:lastModifiedBy>
  <dcterms:modified xsi:type="dcterms:W3CDTF">2004-10-29T13:48:48Z</dcterms:modified>
  <cp:revision>90</cp:revision>
  <dc:subject/>
  <dc:title>I-Mo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