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4AFDBB-4CA1-4E4F-9A92-0C0946BE14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ta densidad de puertos, más de 1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ta densidad de puertos, más de 1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dea general es dividir la luz en 2 canales iguales y luego usando calor o un estimulo electrico, se cambia el indice de refraccion del material, lo que resulta en un cambio de fase de la luz, permitiendo diferenciar el canal de sal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capa de arriba es de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capa de debajo es de silicona y lleva los canales de tinta y luz quienes se intersectan en 12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 nm -&gt; ultraviol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 nm -&gt; ultraviol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 nm -&gt; ultraviol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velocidad depende de que tan rapido se pueda hacer la resintonización del la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mamente simple, ya que trabajan solo al nivel físico de la fi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ñaden o Botan longitudes de on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que constituyen los canales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n capaces de traducir longitudes de onda -&gt; lambda gro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synchronous Transfer Mode) – Is a dedicated connection switching technology that organises digital data into 53 – byte cell units and transmits them over a physical medium using digital signal technology. Individually, a cell is processed asynchronously relative to other related cells and is queued before being multiplexed over the transmission path. The pre-specified bit rates are either 155.520 Mbps or 622.080 Mbps, though speeds on ATM networks can reach 10 Gbps. Go to 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mbda Switches: canal persistente. Varias maneras de hacerl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anual por el operador de la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matico se aplica generalmente a los switch de prot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ynamic lambda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artefactos en las puntas mandan una señal a la red para pedir un wevelen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 una red de control fast-ethernet (todos los aparatos de la red deben estar conectados a ell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ptical Burst Switches: nace por la ineficiencia de la red usando lambda switching, ya que muchos canales quedan tomados , pero nadie los esta ocupan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BS pide un canal para un determinado numero de datos que son mandados como una ráfaga, luego se corta la con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ptical Packet Switches: KEOPS (KEys to Optical Packet Switching) define un estándar de comunicación de la linea de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quiere poder leer bits a alta velocidad, cosa que se ha tratado de evi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PLS: provee una via para setear conexiones logicas a trevés de redes basadas en paquetes , creando el equivalente de “express length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de onda son agrupaciones de we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ADM: optical add drop multti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de onda son agrupaciones de we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ADM: optical add drop multti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de onda son agrupaciones de we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ADM: optical add drop multti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hacer buffer a nivel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switch electriucos son ,los que encontramos todos comun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switch electriucos son ,los que encontramos todos comun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R =  reshaping, retiming, re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: da la oportunidad de sub.lambda grooming y stitistical m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er = bit error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j de Material semiconductor: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do los espejos están abajo, la luz pasa derecho y sino se desvían a otro puer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s 3d se requiere de gran precisión para moverse en millones de grados disti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el que ha tenido más éxito en la empresa de telecomunicaciones dado su performance comparado con otros switches opto-mecan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379-D74C-4836-9467-D07AAD8D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DAB-A1B5-4023-B00F-0D00B3AD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5D9-F58F-4866-966B-147B1EC0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28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28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449-D8C8-46A6-9266-0A04E7AC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FA2-E357-4E88-97F9-1D2A566A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B0D2-A845-4043-9C42-DBF87B74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607-80FC-491A-9EB6-A253A7E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6ED2-ED9F-4E10-971C-0902CBA3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62F9-FC4C-484C-8C33-FB241E2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62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6AB4-BF9F-45A5-8A40-0AF1DF16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01A-1CB3-4153-9B12-FD9C05C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1B8-FEA8-472C-A138-CF1180B5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0C6-ECB0-4DD2-9175-C08391CA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DE53-A197-4A7D-A4F6-D6B3D45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ED3-DEC0-42CC-B047-11046AC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7063-C485-4465-82ED-A5243E4B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28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28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1E46-E5A8-4EEF-AF18-5073C634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F13-2673-4986-BC70-4949D1A0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C7F-2AA1-4CC8-9026-4D69611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44F-53C8-4296-918D-A2968C68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62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EF1-AD6E-4F23-8F73-A8D6AEE8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489-1A4D-4894-9962-FA4B2249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C0B-1C73-46AC-9FAA-C04B702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774-FEFF-4B01-A109-0DEA7D9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24360" y="6453360"/>
            <a:ext cx="3168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453000"/>
            <a:ext cx="385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44000" y="6453360"/>
            <a:ext cx="57600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22F5-53A7-4599-A174-F1B90F733EC6}" type="slidenum"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2831-FE66-4904-8D0C-27AC1C8E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rvices.eng.uts.edu.au/~kumbes/ra/Emerging/OpticalSwitchingReport/Paul-Free/OpticSwitching.htm" TargetMode="External"/><Relationship Id="rId3" Type="http://schemas.openxmlformats.org/officeDocument/2006/relationships/hyperlink" Target="http://www.lightreading.com/document.asp?doc_id=9016" TargetMode="External"/><Relationship Id="rId4" Type="http://schemas.openxmlformats.org/officeDocument/2006/relationships/hyperlink" Target="http://www.lightreading.com/document.asp?doc_id=311" TargetMode="External"/><Relationship Id="rId5" Type="http://schemas.openxmlformats.org/officeDocument/2006/relationships/hyperlink" Target="http://lightwave.ee.columbia.edu/files/Papadimitriou2003.pdf" TargetMode="External"/><Relationship Id="rId6" Type="http://schemas.openxmlformats.org/officeDocument/2006/relationships/hyperlink" Target="http://www.2cool4u.ch/wdm_dwdm/intro_allopticalswitching/intro_allopticalswitching.htm" TargetMode="External"/><Relationship Id="rId7" Type="http://schemas.openxmlformats.org/officeDocument/2006/relationships/hyperlink" Target="http://services.eng.uts.edu.au/~kumbes/ra/Emerging/OpticalSwitchingReport/justin/optical.htm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Verdana"/>
              </a:rPr>
              <a:t>OPTICAL SWITCHING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50864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drés Cheu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Javier Villanue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duardo Vera Sobr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C60L - Seminario de Comunicaciones Avanz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 3D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pic>
        <p:nvPicPr>
          <p:cNvPr id="131" name="" descr="Figure_02.gif 2"/>
          <p:cNvPicPr/>
          <p:nvPr/>
        </p:nvPicPr>
        <p:blipFill>
          <a:blip r:embed="rId2"/>
          <a:stretch/>
        </p:blipFill>
        <p:spPr>
          <a:xfrm>
            <a:off x="4140360" y="2997360"/>
            <a:ext cx="2382840" cy="31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7340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recen una alta densidad de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muy prec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ere Software muy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321-1069-4A84-9649-0BADD9F544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 3D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pic>
        <p:nvPicPr>
          <p:cNvPr id="135" name="" descr="Figure_02.gif 2"/>
          <p:cNvPicPr/>
          <p:nvPr/>
        </p:nvPicPr>
        <p:blipFill>
          <a:blip r:embed="rId2"/>
          <a:stretch/>
        </p:blipFill>
        <p:spPr>
          <a:xfrm>
            <a:off x="4140360" y="2997360"/>
            <a:ext cx="2382840" cy="316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recen una alta densidad de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muy prec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ere Software muy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365720"/>
            <a:ext cx="1655640" cy="1512720"/>
          </a:xfrm>
          <a:prstGeom prst="wedgeRectCallout">
            <a:avLst>
              <a:gd name="adj1" fmla="val -144916"/>
              <a:gd name="adj2" fmla="val 1208"/>
            </a:avLst>
          </a:prstGeom>
          <a:solidFill>
            <a:srgbClr val="ffff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MicrostarPic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557360" cy="14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47C-1492-47A0-A498-0BE8A92094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3200" spc="-1" strike="noStrike">
                <a:solidFill>
                  <a:srgbClr val="0066ff"/>
                </a:solidFill>
                <a:latin typeface="Verdana"/>
              </a:rPr>
              <a:t>Waveguide</a:t>
            </a:r>
            <a:endParaRPr b="0" lang="en-US" sz="32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uz es guiada a través de un med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métodos para realizar el swit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ectro-Óp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o-Óptica (interferometría ó digi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de 1x1, 1x2 y 2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403200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434-F588-4F61-91DB-E3AAB419C8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CRISTALES LÍQUIDO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 las propiedades de polarización de la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uz se switchea en mucha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lo más 80 longitudes de o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243320" cy="250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9A5-195E-4823-9746-1CA7E1E81A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Burbujas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de Impresoras de 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hasta 32x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C87-7521-47F8-AD25-151CE2970C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Rejillas y Circuladore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jillas son una estructura periódica, con índices de refracción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scribe sobre fibra con un láser de onda corta (240 n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470052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094-BBDF-48AC-9369-7EB40BC0CD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Rejillas y Circuladore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circuladores son componentes donde el rayo de luz entra por un puerto y sale por el sigu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35319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B8C-F3EC-4584-BBE1-B343A9039C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Rejillas y Circuladore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jillas y circuladores se utilizan de forma combinada para añadir longitudes de 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4840560" cy="24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38A-616F-4238-AF52-E5B3F6C83D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Verdana"/>
              </a:rPr>
              <a:t>Tecnología: </a:t>
            </a:r>
            <a:r>
              <a:rPr b="1" lang="es-ES_tradnl" sz="3600" spc="-1" strike="noStrike">
                <a:solidFill>
                  <a:srgbClr val="0066ff"/>
                </a:solidFill>
                <a:latin typeface="Verdana"/>
              </a:rPr>
              <a:t>Hologramas</a:t>
            </a:r>
            <a:endParaRPr b="0" lang="en-US" sz="36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jillas reflectantes para una longitud de onda escritas en forma de holograma dentro de un cri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de hasta 16x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496872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290-5375-44EB-AE47-491FA0708E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800" spc="-1" strike="noStrike">
                <a:solidFill>
                  <a:srgbClr val="0066ff"/>
                </a:solidFill>
                <a:latin typeface="Verdana"/>
              </a:rPr>
              <a:t>Acusto-Óptica</a:t>
            </a:r>
            <a:endParaRPr b="0" lang="en-US" sz="28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basa en la interacción sonido –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hasta 256x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7132680" cy="15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308-2913-4934-803A-2768875EBA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FCA-CAEF-47AA-8404-85C6C655F8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Verdana"/>
              </a:rPr>
              <a:t>Tecnologias: </a:t>
            </a:r>
            <a:r>
              <a:rPr b="1" lang="es-ES_tradnl" sz="2800" spc="-1" strike="noStrike">
                <a:solidFill>
                  <a:srgbClr val="0066ff"/>
                </a:solidFill>
                <a:latin typeface="Verdana"/>
              </a:rPr>
              <a:t>Tuneable Láser</a:t>
            </a:r>
            <a:endParaRPr b="0" lang="en-US" sz="28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basa en un arreglo de rejillas (forma más eficiente  del pris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sintonizar el láser a una cierta longitud de onda, la luz saldrá por un puert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27640" y="3811680"/>
            <a:ext cx="3963960" cy="21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263-F6E5-436E-99DA-E411ADAA6E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ction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Add-Drop Multiplexers (OA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Cross-Connects (O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F02-A5DF-4B4D-B0DD-D59AFADA5E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ction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lmente son de 1x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do en casos de fail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mamente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igen el todo el tráfico de una fibra a o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6D9-FE9F-4F2C-A3DF-7EB60B34FE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Add-Drop Multiplexers (OA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ntos de acceso a las Redes Óp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ñaden o Botan longitude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capaces de traducir longitude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010-7E10-4615-8546-553A2EAEAD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Cross-Connects (O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pista de las redes óp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mplen un rol similar al de los switches ATM de hoy en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futuro se espera que los OXC evolucionen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mbda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tical Bur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tical Packe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3D3-2FCD-420A-B59D-8BD5B66783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Protection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Optical Add-Drop Multiplexers (OA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Optical Crossconnects (O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44800" y="1628640"/>
            <a:ext cx="5191200" cy="388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A8D-1C9A-4A32-BD72-5BA40EA2F9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ualmente existe MPLS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ltiProtocol Label Switching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integrar esta nueva tecnología a lo ya exist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MPLS: Generalized 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tiende MPLS para agregarle capacidades de control dinámico a los equipos Sonet/SDH y DW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squeja 4 interfaces para un swi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Package Switching (P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Time Division Multiplex (T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Lambda Switching (L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Fiber Switching (F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7FA-2047-477A-8E5E-D760F021CF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PSC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interfaz de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nocer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nocer paqu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decisiones de forwarding, según el header MP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ibir y procesar mensajes de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Router, ATM Switch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2236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EC0-05C7-4153-BCE5-46027CB767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TDM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interfaz de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r estructuras de frames repetitivas y sinc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r forwarding de datos basándose en slots de ti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ibir y procesar información del plano de control, dentro de los frames sincr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Sonet/SDH Add-Drop Mux (ADM), Digital Cross-Connect (DXC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27008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9CF-CB46-4411-9BF7-1EACC4E309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LSC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interfa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conoce bits ni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lizar forwarding de rayos de luz, basándose en su longitud de onda o ban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se asume que sean capaces de recibir ni procesar información del plan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OADM, OX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0976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63A-D01B-4C71-B3B8-11DF652029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swit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el tráfico desde un puerto o punto  y dirigirlo a otro según algún crite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comunicación de datos existen aparatos de interconexión llamados switches, encargados de realizar esta t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A63-CE7B-43DC-AF3C-4793AF7D2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FSC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interfa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conoce bits ni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quiere ver longitude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hacer forwarding según su configuració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se asume que sean capaces de recibir ni procesar información del plan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Protection Sw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0976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BCE-FAD5-4E8B-88F4-E523918EEE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todo lo anterior se mantiene la consistencia de la siguiente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72360" cy="364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D69-F8A3-423C-B08E-A15EE54547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hacer buffer a nivel ópt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gelando Fo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os de propagación más l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eer bits a muy alta veloc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cerlo. Tener un canal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51E-EFAA-4719-9AB4-DC2BB090C3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querimientos según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08000" y="2125800"/>
            <a:ext cx="5411880" cy="360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AFF-D00C-46FA-8669-88424CAF8C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querimientos según Tecnolog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65160" y="2125800"/>
            <a:ext cx="5411880" cy="360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07F-710B-4AEC-AEAF-452BB47062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970600" cy="431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ón v/s Tecnolog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79-9813-4698-8BB4-41E9539A5F2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La posible evolución a redes fotón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633564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E21-458D-42CD-AAE1-AFC505DF00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Preguntas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21932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1EC-4BEA-44E3-AFAE-2549B03069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Enlaces bibliográficos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ervices.eng.uts.edu.au/~kumbes/ra/Emerging/OpticalSwitchingReport/Paul-Free/OpticSwitch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ightreading.com/document.asp?doc_id=9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ightreading.com/document.asp?doc_id=3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ightwave.ee.columbia.edu/files/Papadimitriou2003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2cool4u.ch/wdm_dwdm/intro_allopticalswitching/intro_allopticalswitch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ervices.eng.uts.edu.au/~kumbes/ra/Emerging/OpticalSwitchingReport/justin/optic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B10-0791-4BDF-BBA4-FEB33DC814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– Eléctricos – Ópticos 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21A-8717-4E9A-B796-4870125BF2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– Eléctricos – Ópticos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87640" y="2133360"/>
            <a:ext cx="5425920" cy="3840480"/>
            <a:chOff x="2987640" y="2133360"/>
            <a:chExt cx="5425920" cy="38404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500360" y="3573360"/>
              <a:ext cx="3913200" cy="2400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 flipV="1">
              <a:off x="6588000" y="213336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213372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55640" y="3500280"/>
            <a:ext cx="360036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ultiplexación estadí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ogía sumamente 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generación “3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de escal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nto v/s Fi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8F8-8272-4FF9-BDF6-82612F56DF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– Eléctricos – Ópticos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00720" y="2852280"/>
            <a:ext cx="3913200" cy="3048480"/>
            <a:chOff x="4500720" y="2852280"/>
            <a:chExt cx="3913200" cy="304848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8" name=""/>
            <p:cNvSpPr/>
            <p:nvPr/>
          </p:nvSpPr>
          <p:spPr>
            <a:xfrm flipV="1">
              <a:off x="6445440" y="285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755640" y="3500280"/>
            <a:ext cx="360036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ogía 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generación “3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endiente de la tasa d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endiente de protocolo/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B55-79F1-45B1-8A38-F21C09530F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– Eléctricos – Ópticos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95640" y="3141720"/>
            <a:ext cx="4418280" cy="2759040"/>
            <a:chOff x="3995640" y="3141720"/>
            <a:chExt cx="4418280" cy="27590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 flipV="1">
              <a:off x="64450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5640" y="3141720"/>
              <a:ext cx="24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755640" y="3500280"/>
            <a:ext cx="360036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a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dependiente de la tasa d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dependiente de protocolo/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itoreo de BER es casi im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sa amplificación y no regene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64E-2658-4488-BBCC-253679C3F5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ICRO-ELECTRO-MECHANICAL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rreglo de diminutos espejos inclin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espejo es del tamaño de una cabeza de alfi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esculpen en materiales semicondu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xisten en 2 y 3 dimen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2D: se mueven hacia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3D: se pueden mover en cualquier dir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DF3-ACB0-472A-A249-B41D8D323E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 2D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es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o: refleja el rayo de luz en 4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ctivo: deja pasar el rayo de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de NxN (hasta 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427640" y="3716280"/>
            <a:ext cx="2736360" cy="2319120"/>
            <a:chOff x="4427640" y="3716280"/>
            <a:chExt cx="2736360" cy="23191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427640" y="3716280"/>
              <a:ext cx="2736360" cy="20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30800" y="5821920"/>
              <a:ext cx="18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C5D-CFB9-4546-8FEB-7EC554086B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22:07:37Z</dcterms:created>
  <dc:creator>jvillanu</dc:creator>
  <dc:description/>
  <dc:language>en-US</dc:language>
  <cp:lastModifiedBy>acheuque</cp:lastModifiedBy>
  <cp:lastPrinted>2004-10-22T12:56:07Z</cp:lastPrinted>
  <dcterms:modified xsi:type="dcterms:W3CDTF">2004-10-22T13:04:04Z</dcterms:modified>
  <cp:revision>28</cp:revision>
  <dc:subject/>
  <dc:title>Slide 1</dc:title>
</cp:coreProperties>
</file>