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A951BA-7098-4E0D-9FDE-190937449A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ta densidad de puertos, más de 1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ta densidad de puertos, más de 1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idea general es dividir la luz en 2 canales iguales y luego usando calor o un estimulo electrico, se cambia el indice de refraccion del material, lo que resulta en un cambio de fase de la luz, permitiendo diferenciar el canal de sal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capa de arriba es de sil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capa de debajo es de silicona y lleva los canales de tinta y luz quienes se intersectan en 120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 nm -&gt; ultraviol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 nm -&gt; ultraviol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 nm -&gt; ultraviol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velocidad depende de que tan rapido se pueda hacer la resintonización del la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umamente simple, ya que trabajan solo al nivel físico de la fi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ñaden o Botan longitudes de ond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que constituyen los canales de comun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n capaces de traducir longitudes de onda -&gt; lambda groo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synchronous Transfer Mode) – Is a dedicated connection switching technology that organises digital data into 53 – byte cell units and transmits them over a physical medium using digital signal technology. Individually, a cell is processed asynchronously relative to other related cells and is queued before being multiplexed over the transmission path. The pre-specified bit rates are either 155.520 Mbps or 622.080 Mbps, though speeds on ATM networks can reach 10 Gbps. Go to t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mbda Switches: canal persistente. Varias maneras de hacerlo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anual por el operador de la 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matico se aplica generalmente a los switch de prote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ynamic lambda swit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os artefactos en las puntas mandan una señal a la red para pedir un wevelen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 una red de control fast-ethernet (todos los aparatos de la red deben estar conectados a ell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ptical Burst Switches: nace por la ineficiencia de la red usando lambda switching, ya que muchos canales quedan tomados , pero nadie los esta ocupan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BS pide un canal para un determinado numero de datos que son mandados como una ráfaga, luego se corta la conex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ptical Packet Switches: KEOPS (KEys to Optical Packet Switching) define un estándar de comunicación de la linea de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quiere poder leer bits a alta velocidad, cosa que se ha tratado de evi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PLS: provee una via para setear conexiones logicas a trevés de redes basadas en paquetes , creando el equivalente de “express length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andas de onda son agrupaciones de we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ADM: optical add drop multti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andas de onda son agrupaciones de we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ADM: optical add drop multti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andas de onda son agrupaciones de we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ADM: optical add drop multti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mo hacer buffer a nivel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switch electriucos son ,los que encontramos todos comunm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switch electriucos son ,los que encontramos todos comunm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R =  reshaping, retiming, resy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: da la oportunidad de sub.lambda grooming y stitistical m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er = bit error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j de Material semiconductor: sil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uando los espejos están abajo, la luz pasa derecho y sino se desvían a otro puer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los 3d se requiere de gran precisión para moverse en millones de grados disti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el que ha tenido más éxito en la empresa de telecomunicaciones dado su performance comparado con otros switches opto-mecan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603-FC8C-457C-9D54-C025F3BE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3826800"/>
            <a:ext cx="8064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198-B719-46BE-A1A6-A4AC373D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382680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82680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608-762B-4B95-A9F7-47FDEF11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640" y="126828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280" y="126828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382680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640" y="382680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280" y="382680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A89-6729-4232-9E39-ECDD780B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2F2C-3648-4E83-877E-2D08B41B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B113-6DD2-4742-8937-944C7FFF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6376-2CB5-4085-87FF-6A8D5D9E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87BF-E8CB-4DAA-9414-D3EBC8FF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0C6A-8DB0-4830-914E-B2D8D194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6227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2AD3-C625-4D3D-9D19-AD586C01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382680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A8C8-9B7D-4A1E-BC7C-7D57B62C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CA1-7768-4A4B-88B7-98490CE3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82680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8242-5477-4607-9C17-6D22965C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3826800"/>
            <a:ext cx="8064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BEDD-0C7C-407F-B7BC-17AD7EE1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3826800"/>
            <a:ext cx="8064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11AD-E9CF-4994-BF69-A98D2A7F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382680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82680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B327-DF12-456F-B0A9-72780A15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6640" y="126828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280" y="126828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382680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6640" y="382680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280" y="3826800"/>
            <a:ext cx="25966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4112-DA2A-4D16-8CD2-5712D793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E340-82B9-4440-A68D-E43D2AF5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ECE9-36A8-4D80-92B0-5DC82B18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A279-8AFC-4D6D-A2BC-346CBA2D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6227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F8E-AE56-4FCC-8CE9-E01C4557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382680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1CA-315B-4D7F-AFF7-FE26FC62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82680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34C-2028-44DF-9F51-D5B2D40C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268280"/>
            <a:ext cx="39355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3826800"/>
            <a:ext cx="80647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D9A-9B89-4C6B-877A-4F3543BC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24360" y="6453360"/>
            <a:ext cx="3168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6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453000"/>
            <a:ext cx="3851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6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44000" y="6453360"/>
            <a:ext cx="57600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0FB3-6D8C-4390-AB30-0E054C7A79AC}" type="slidenum"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8D28-11CD-43BB-B3F1-AA8DF2763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33"/>
              </a:buClr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rvices.eng.uts.edu.au/~kumbes/ra/Emerging/OpticalSwitchingReport/Paul-Free/OpticSwitching.htm" TargetMode="External"/><Relationship Id="rId3" Type="http://schemas.openxmlformats.org/officeDocument/2006/relationships/hyperlink" Target="http://www.lightreading.com/document.asp?doc_id=9016" TargetMode="External"/><Relationship Id="rId4" Type="http://schemas.openxmlformats.org/officeDocument/2006/relationships/hyperlink" Target="http://www.lightreading.com/document.asp?doc_id=311" TargetMode="External"/><Relationship Id="rId5" Type="http://schemas.openxmlformats.org/officeDocument/2006/relationships/hyperlink" Target="http://lightwave.ee.columbia.edu/files/Papadimitriou2003.pdf" TargetMode="External"/><Relationship Id="rId6" Type="http://schemas.openxmlformats.org/officeDocument/2006/relationships/hyperlink" Target="http://www.2cool4u.ch/wdm_dwdm/intro_allopticalswitching/intro_allopticalswitching.htm" TargetMode="External"/><Relationship Id="rId7" Type="http://schemas.openxmlformats.org/officeDocument/2006/relationships/hyperlink" Target="http://services.eng.uts.edu.au/~kumbes/ra/Emerging/OpticalSwitchingReport/justin/optical.htm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Verdana"/>
              </a:rPr>
              <a:t>OPTICAL SWITCHING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4508640"/>
            <a:ext cx="7561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grant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ndrés Cheu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Javier Villanue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fes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duardo Vera Sobri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C60L - Seminario de Comunicaciones Avanz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4000" spc="-1" strike="noStrike">
                <a:solidFill>
                  <a:srgbClr val="0066ff"/>
                </a:solidFill>
                <a:latin typeface="Verdana"/>
              </a:rPr>
              <a:t>MEMS 3D</a:t>
            </a:r>
            <a:endParaRPr b="0" lang="en-US" sz="4000" spc="-1" strike="noStrike">
              <a:solidFill>
                <a:srgbClr val="0066ff"/>
              </a:solidFill>
              <a:latin typeface="Verdana"/>
            </a:endParaRPr>
          </a:p>
        </p:txBody>
      </p:sp>
      <p:pic>
        <p:nvPicPr>
          <p:cNvPr id="131" name="" descr="Figure_02.gif 2"/>
          <p:cNvPicPr/>
          <p:nvPr/>
        </p:nvPicPr>
        <p:blipFill>
          <a:blip r:embed="rId2"/>
          <a:stretch/>
        </p:blipFill>
        <p:spPr>
          <a:xfrm>
            <a:off x="4140360" y="2997360"/>
            <a:ext cx="2382840" cy="3168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573408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frecen una alta densidad de pu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ser muy preci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iere Software muy compl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465-B388-4307-8FA2-73BE836B05C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4000" spc="-1" strike="noStrike">
                <a:solidFill>
                  <a:srgbClr val="0066ff"/>
                </a:solidFill>
                <a:latin typeface="Verdana"/>
              </a:rPr>
              <a:t>MEMS 3D</a:t>
            </a:r>
            <a:endParaRPr b="0" lang="en-US" sz="4000" spc="-1" strike="noStrike">
              <a:solidFill>
                <a:srgbClr val="0066ff"/>
              </a:solidFill>
              <a:latin typeface="Verdana"/>
            </a:endParaRPr>
          </a:p>
        </p:txBody>
      </p:sp>
      <p:pic>
        <p:nvPicPr>
          <p:cNvPr id="135" name="" descr="Figure_02.gif 2"/>
          <p:cNvPicPr/>
          <p:nvPr/>
        </p:nvPicPr>
        <p:blipFill>
          <a:blip r:embed="rId2"/>
          <a:stretch/>
        </p:blipFill>
        <p:spPr>
          <a:xfrm>
            <a:off x="4140360" y="2997360"/>
            <a:ext cx="2382840" cy="3168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frecen una alta densidad de pu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ser muy preci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iere Software muy compl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4365720"/>
            <a:ext cx="1655640" cy="1512720"/>
          </a:xfrm>
          <a:prstGeom prst="wedgeRectCallout">
            <a:avLst>
              <a:gd name="adj1" fmla="val -144916"/>
              <a:gd name="adj2" fmla="val 1208"/>
            </a:avLst>
          </a:prstGeom>
          <a:solidFill>
            <a:srgbClr val="ffff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MicrostarPic" descr=""/>
          <p:cNvPicPr/>
          <p:nvPr/>
        </p:nvPicPr>
        <p:blipFill>
          <a:blip r:embed="rId3"/>
          <a:stretch/>
        </p:blipFill>
        <p:spPr>
          <a:xfrm>
            <a:off x="6948360" y="4437000"/>
            <a:ext cx="1557360" cy="14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C59-D4F5-4C0F-B366-C01608DA133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3200" spc="-1" strike="noStrike">
                <a:solidFill>
                  <a:srgbClr val="0066ff"/>
                </a:solidFill>
                <a:latin typeface="Verdana"/>
              </a:rPr>
              <a:t>Waveguide</a:t>
            </a:r>
            <a:endParaRPr b="0" lang="en-US" sz="32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luz es guiada a través de un med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 métodos para realizar el switch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ectro-Óp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mo-Óptica (interferometría ó digi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witches de 1x1, 1x2 y 2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4032000" cy="192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688-D499-4E3C-B5A1-05CC30C9A60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2400" spc="-1" strike="noStrike">
                <a:solidFill>
                  <a:srgbClr val="0066ff"/>
                </a:solidFill>
                <a:latin typeface="Verdana"/>
              </a:rPr>
              <a:t>CRISTALES LÍQUIDOS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 las propiedades de polarización de la l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luz se switchea en mucha et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 lo más 80 longitudes de o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3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4243320" cy="250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24B-FE80-4CA1-8720-318CEF4C3E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4000" spc="-1" strike="noStrike">
                <a:solidFill>
                  <a:srgbClr val="0066ff"/>
                </a:solidFill>
                <a:latin typeface="Verdana"/>
              </a:rPr>
              <a:t>Burbujas</a:t>
            </a:r>
            <a:endParaRPr b="0" lang="en-US" sz="40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de Impresoras de Ti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witches hasta 32x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4114800" cy="253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462-78BB-4F97-8262-9B8E0E305E4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2400" spc="-1" strike="noStrike">
                <a:solidFill>
                  <a:srgbClr val="0066ff"/>
                </a:solidFill>
                <a:latin typeface="Verdana"/>
              </a:rPr>
              <a:t>Rejillas y Circuladores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Rejillas son una estructura periódica, con índices de refracción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escribe sobre fibra con un láser de onda corta (240 n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76720" y="3860640"/>
            <a:ext cx="4700520" cy="214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68E-797F-4DCC-BF13-F925DC4367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2400" spc="-1" strike="noStrike">
                <a:solidFill>
                  <a:srgbClr val="0066ff"/>
                </a:solidFill>
                <a:latin typeface="Verdana"/>
              </a:rPr>
              <a:t>Rejillas y Circuladores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circuladores son componentes donde el rayo de luz entra por un puerto y sale por el sigu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353196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11B-2584-42CA-9D24-4EB0D089441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2400" spc="-1" strike="noStrike">
                <a:solidFill>
                  <a:srgbClr val="0066ff"/>
                </a:solidFill>
                <a:latin typeface="Verdana"/>
              </a:rPr>
              <a:t>Rejillas y Circuladores</a:t>
            </a:r>
            <a:endParaRPr b="0" lang="en-US" sz="2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jillas y circuladores se utilizan de forma combinada para añadir longitudes de o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771640" y="3500280"/>
            <a:ext cx="4840560" cy="24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E60E-1C05-4814-97F1-CECB1AFC31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66ff"/>
                </a:solidFill>
                <a:latin typeface="Verdana"/>
              </a:rPr>
              <a:t>Tecnología: </a:t>
            </a:r>
            <a:r>
              <a:rPr b="1" lang="es-ES_tradnl" sz="3600" spc="-1" strike="noStrike">
                <a:solidFill>
                  <a:srgbClr val="0066ff"/>
                </a:solidFill>
                <a:latin typeface="Verdana"/>
              </a:rPr>
              <a:t>Hologramas</a:t>
            </a:r>
            <a:endParaRPr b="0" lang="en-US" sz="36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jillas reflectantes para una longitud de onda escritas en forma de holograma dentro de un cri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witches de hasta 16x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496872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A03-3C85-40A8-B0D8-0CD91D5C64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2800" spc="-1" strike="noStrike">
                <a:solidFill>
                  <a:srgbClr val="0066ff"/>
                </a:solidFill>
                <a:latin typeface="Verdana"/>
              </a:rPr>
              <a:t>Acusto-Óptica</a:t>
            </a:r>
            <a:endParaRPr b="0" lang="en-US" sz="28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basa en la interacción sonido – l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witches hasta 256x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900000" y="3933720"/>
            <a:ext cx="7132680" cy="15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A92-B2FA-4B0A-9AD6-0BD50C355C4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Agenda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g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c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9D8-6F21-4231-88C7-308DE4FE1C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ff"/>
                </a:solidFill>
                <a:latin typeface="Verdana"/>
              </a:rPr>
              <a:t>Tecnologias: </a:t>
            </a:r>
            <a:r>
              <a:rPr b="1" lang="es-ES_tradnl" sz="2800" spc="-1" strike="noStrike">
                <a:solidFill>
                  <a:srgbClr val="0066ff"/>
                </a:solidFill>
                <a:latin typeface="Verdana"/>
              </a:rPr>
              <a:t>Tuneable Láser</a:t>
            </a:r>
            <a:endParaRPr b="0" lang="en-US" sz="28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basa en un arreglo de rejillas (forma más eficiente  del pris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sintonizar el láser a una cierta longitud de onda, la luz saldrá por un puerto determi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427640" y="3811680"/>
            <a:ext cx="3963960" cy="21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35C-4A1E-487D-A8E6-0C77BF4612A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Aplicaciones</a:t>
            </a: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ection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tical Add-Drop Multiplexers (OAD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tical Cross-Connects (OX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0A9-6AA5-4E05-B3B0-A6A484CF9CE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Aplicaciones</a:t>
            </a: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tection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lmente son de 1x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ado en casos de failo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mamente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rigen el todo el tráfico de una fibra a o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9E30-0A43-4873-B11F-DF8C19C3FAD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Aplicaciones</a:t>
            </a: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tical Add-Drop Multiplexers (OAD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ntos de acceso a las Redes Óp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ñaden o Botan longitude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capaces de traducir longitude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950-C38D-4F47-BC17-BD8C0630B5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Aplicaciones</a:t>
            </a: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tical Cross-Connects (OX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opista de las redes óp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mplen un rol similar al de los switches ATM de hoy en d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futuro se espera que los OXC evolucionen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mbda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tical Burst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tical Packet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525-5633-4403-94FB-1BDD02FB61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Aplicaciones</a:t>
            </a: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	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2b2b2"/>
                </a:solidFill>
                <a:latin typeface="Arial"/>
              </a:rPr>
              <a:t>Protection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2b2b2"/>
                </a:solidFill>
                <a:latin typeface="Arial"/>
              </a:rPr>
              <a:t>Optical Add-Drop Multiplexers (OAD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2b2b2"/>
                </a:solidFill>
                <a:latin typeface="Arial"/>
              </a:rPr>
              <a:t>Optical Crossconnects (OX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044800" y="1628640"/>
            <a:ext cx="5191200" cy="388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D8B-7791-4B26-B1EA-EA957F7DFA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egrac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ualmente existe MPLS (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ultiProtocol Label Switching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mo integrar esta nueva tecnología a lo ya exist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MPLS: Generalized MP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tiende MPLS para agregarle capacidades de control dinámico a los equipos Sonet/SDH y DW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squeja 4 interfaces para un swit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cidad de Package Switching (P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cidad de Time Division Multiplex (T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cidad de Lambda Switching (L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cidad de Fiber Switching (F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7BC-B78B-4F2E-BF5E-34A6A60EF5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egración: </a:t>
            </a:r>
            <a:r>
              <a:rPr b="1" lang="es-ES_tradnl" sz="4400" spc="-1" strike="noStrike">
                <a:solidFill>
                  <a:srgbClr val="0066ff"/>
                </a:solidFill>
                <a:latin typeface="Verdana"/>
              </a:rPr>
              <a:t>PSC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 interfaz de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nocer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onocer paqu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decisiones de forwarding, según el header MP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ibir y procesar mensajes de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 Router, ATM Switch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42236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C80-0717-462D-BDFA-C1D825691D6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egración: </a:t>
            </a:r>
            <a:r>
              <a:rPr b="1" lang="es-ES_tradnl" sz="4400" spc="-1" strike="noStrike">
                <a:solidFill>
                  <a:srgbClr val="0066ff"/>
                </a:solidFill>
                <a:latin typeface="Verdana"/>
              </a:rPr>
              <a:t>TDM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interfaz de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onocer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onocer estructuras de frames repetitivas y sincró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r forwarding de datos basándose en slots de tiem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ibir y procesar información del plano de control, dentro de los frames sincr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Sonet/SDH Add-Drop Mux (ADM), Digital Cross-Connect (DXC)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270080" cy="101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381-CFF2-4948-ADC4-DAA0B72CAD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egración: </a:t>
            </a:r>
            <a:r>
              <a:rPr b="1" lang="es-ES_tradnl" sz="4400" spc="-1" strike="noStrike">
                <a:solidFill>
                  <a:srgbClr val="0066ff"/>
                </a:solidFill>
                <a:latin typeface="Verdana"/>
              </a:rPr>
              <a:t>LSC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 interfa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reconoce bits ni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alizar forwarding de rayos de luz, basándose en su longitud de onda o ban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se asume que sean capaces de recibir ni procesar información del plan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 OADM, OX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409760" cy="97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5B3-73E2-4F56-ADA7-02558DA94C6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Qué es switc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r el tráfico desde un puerto o punto  y dirigirlo a otro según algún crite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comunicación de datos existen aparatos de interconexión llamados switches, encargados de realizar esta t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708-98F7-4910-9EB0-3CD7671EA2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egración: </a:t>
            </a:r>
            <a:r>
              <a:rPr b="1" lang="es-ES_tradnl" sz="4400" spc="-1" strike="noStrike">
                <a:solidFill>
                  <a:srgbClr val="0066ff"/>
                </a:solidFill>
                <a:latin typeface="Verdana"/>
              </a:rPr>
              <a:t>FSC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 interfa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reconoce bits ni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requiere ver longitude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be hacer forwarding según su configuración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se asume que sean capaces de recibir ni procesar información del plano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: Protection Swi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409760" cy="97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C41B-D00F-4F88-8C29-0C4D2BC352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egrac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todo lo anterior se mantiene la consistencia de la siguiente 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472360" cy="3649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535-C732-4E0F-8DE0-D0C1FC1B3B5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Discus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hacer buffer a nivel ópt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gelando Fo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dios de propagación más l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leer bits a muy alta veloc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cerlo. Tener un canal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58A-6059-4DDA-AADC-4FB6015FC80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Discus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querimientos según 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908000" y="2125800"/>
            <a:ext cx="5411880" cy="3608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97C-472C-4848-91CC-80C3A176BB7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Discus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querimientos según Tecnolog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865160" y="2125800"/>
            <a:ext cx="5411880" cy="3608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BD5-8F32-40D7-BC41-C6025142F7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Discus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5970600" cy="4319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ón v/s Tecnolog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CB3-DEC0-4210-8125-DC15EB0FB37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Discus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La posible evolución a redes fotónic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6335640" cy="17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EF3-ECF0-42CF-95A8-8E10DFF99C6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Preguntas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121932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2D0-519B-443B-A0E7-4684BE31FA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Enlaces bibliográficos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ervices.eng.uts.edu.au/~kumbes/ra/Emerging/OpticalSwitchingReport/Paul-Free/OpticSwitchin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ightreading.com/document.asp?doc_id=9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ightreading.com/document.asp?doc_id=3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lightwave.ee.columbia.edu/files/Papadimitriou2003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2cool4u.ch/wdm_dwdm/intro_allopticalswitching/intro_allopticalswitchin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services.eng.uts.edu.au/~kumbes/ra/Emerging/OpticalSwitchingReport/justin/optica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AB5-1B17-4DA3-837D-203411D249B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Swit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éc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Ópticos – Eléctricos – Ópticos  (O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Ópticos (O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430-308A-4404-992B-548550516D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Swit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éc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2b2b2"/>
                </a:solidFill>
                <a:latin typeface="Arial"/>
              </a:rPr>
              <a:t>Ópticos – Eléctricos – Ópticos (O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2b2b2"/>
                </a:solidFill>
                <a:latin typeface="Arial"/>
              </a:rPr>
              <a:t>Ópticos (O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987640" y="2133360"/>
            <a:ext cx="5425920" cy="3840480"/>
            <a:chOff x="2987640" y="2133360"/>
            <a:chExt cx="5425920" cy="384048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500360" y="3573360"/>
              <a:ext cx="3913200" cy="24004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01" name=""/>
            <p:cNvSpPr/>
            <p:nvPr/>
          </p:nvSpPr>
          <p:spPr>
            <a:xfrm flipV="1">
              <a:off x="6588000" y="213336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87640" y="2133720"/>
              <a:ext cx="36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755640" y="3500280"/>
            <a:ext cx="360036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ultiplexación estadí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cnología sumamente mad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generación “3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blemas de escal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ento v/s Fi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4B62-30E4-4347-A8F4-F129D6034E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Swit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2b2b2"/>
                </a:solidFill>
                <a:latin typeface="Arial"/>
              </a:rPr>
              <a:t>Eléc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Ópticos – Eléctricos – Ópticos (O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2b2b2"/>
                </a:solidFill>
                <a:latin typeface="Arial"/>
              </a:rPr>
              <a:t>Ópticos (O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500720" y="2852280"/>
            <a:ext cx="3913200" cy="3048480"/>
            <a:chOff x="4500720" y="2852280"/>
            <a:chExt cx="3913200" cy="304848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4500720" y="3500280"/>
              <a:ext cx="3913200" cy="24004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08" name=""/>
            <p:cNvSpPr/>
            <p:nvPr/>
          </p:nvSpPr>
          <p:spPr>
            <a:xfrm flipV="1">
              <a:off x="6445440" y="2852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4500720" y="3500280"/>
              <a:ext cx="3913200" cy="24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755640" y="3500280"/>
            <a:ext cx="360036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cnología mad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generación “3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pendiente de la tasa de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pendiente de protocolo/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5FD-6B59-432D-866B-B50C602A2E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Swit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2b2b2"/>
                </a:solidFill>
                <a:latin typeface="Arial"/>
              </a:rPr>
              <a:t>Eléc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2b2b2"/>
                </a:solidFill>
                <a:latin typeface="Arial"/>
              </a:rPr>
              <a:t>Ópticos – Eléctricos – Ópticos (O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Ópticos (O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95640" y="3141720"/>
            <a:ext cx="4418280" cy="2759040"/>
            <a:chOff x="3995640" y="3141720"/>
            <a:chExt cx="4418280" cy="275904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4500720" y="3500280"/>
              <a:ext cx="3913200" cy="24004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15" name=""/>
            <p:cNvSpPr/>
            <p:nvPr/>
          </p:nvSpPr>
          <p:spPr>
            <a:xfrm flipV="1">
              <a:off x="644508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95640" y="3141720"/>
              <a:ext cx="24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4500720" y="3500280"/>
              <a:ext cx="3913200" cy="24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755640" y="3500280"/>
            <a:ext cx="3600360" cy="34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ca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dependiente de la tasa de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dependiente de protocolo/serv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cnología emer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itoreo de BER es casi impo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Usa amplificación y no regene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1A5-1E16-4E2B-AEB8-E539DD3871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4000" spc="-1" strike="noStrike">
                <a:solidFill>
                  <a:srgbClr val="0066ff"/>
                </a:solidFill>
                <a:latin typeface="Verdana"/>
              </a:rPr>
              <a:t>MEMS</a:t>
            </a:r>
            <a:endParaRPr b="0" lang="en-US" sz="40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ICRO-ELECTRO-MECHANICAL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rreglo de diminutos espejos inclin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ada espejo es del tamaño de una cabeza de alfi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e esculpen en materiales semicondu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xisten en 2 y 3 dimen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2D: se mueven hacia arriba y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3D: se pueden mover en cualquier dire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A6B-5673-4CAE-A489-2E733F8077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Verdana"/>
              </a:rPr>
              <a:t>Tecnologías: </a:t>
            </a:r>
            <a:r>
              <a:rPr b="1" lang="es-ES_tradnl" sz="4000" spc="-1" strike="noStrike">
                <a:solidFill>
                  <a:srgbClr val="0066ff"/>
                </a:solidFill>
                <a:latin typeface="Verdana"/>
              </a:rPr>
              <a:t>MEMS 2D</a:t>
            </a:r>
            <a:endParaRPr b="0" lang="en-US" sz="4000" spc="-1" strike="noStrike">
              <a:solidFill>
                <a:srgbClr val="0066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 est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o: refleja el rayo de luz en 45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activo: deja pasar el rayo de l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witches de NxN (hasta 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gen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427640" y="3716280"/>
            <a:ext cx="2736360" cy="2319120"/>
            <a:chOff x="4427640" y="3716280"/>
            <a:chExt cx="2736360" cy="231912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4427640" y="3716280"/>
              <a:ext cx="2736360" cy="20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230800" y="5821920"/>
              <a:ext cx="18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és Cheuque / Javier Villanuev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E72-E121-458E-99E2-114B4BC679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62L - Universidad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22:07:37Z</dcterms:created>
  <dc:creator>jvillanu</dc:creator>
  <dc:description/>
  <dc:language>en-US</dc:language>
  <cp:lastModifiedBy>acheuque</cp:lastModifiedBy>
  <cp:lastPrinted>2004-10-22T12:56:07Z</cp:lastPrinted>
  <dcterms:modified xsi:type="dcterms:W3CDTF">2004-10-22T13:04:04Z</dcterms:modified>
  <cp:revision>28</cp:revision>
  <dc:subject/>
  <dc:title>Slide 1</dc:title>
</cp:coreProperties>
</file>