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7E72-EEBE-44AF-A731-5987D24B3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A52F-EAE7-4FB5-8785-166827FA9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F587-4C25-4C2A-9F43-4FDB9B275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C982-6CBF-4337-8039-756B3FE5D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DFB8-9C98-452F-BA04-4FC602367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B980-E622-4B1E-B99D-EBF3C621F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3949-DD71-49E0-84C3-E3FDCE4E7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BD25-4DE0-4041-B2B5-287B2463E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927B-7707-4019-AA35-735003331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4B14-7B5C-4C8E-85BB-4B9C7BFB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CEC7-3D27-4E5F-889F-A85E839B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D24F-11CC-49EE-9D10-5D9092A6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08DDA-4886-4537-BBB9-D7A860829A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ación fi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L 65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Gestión de Empresas de Telecomunic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Aspectos estratég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nálisis estratégico ma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efinición del nego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apacidades o recursos distin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nálisis estratégico externo: atrac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odelo de las 5 fuerzas de Por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dentificación de oportunidades y amenaz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nálisis estratégico interno: compet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odelo de la cadena del valor de Por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Ventaja competitiva susten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rategia compet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ómo vamos a competir en el mercado seleccion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lan de a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Aspectos comerci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nálisis comercial mar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finición de personalidad de marca y atributos 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gm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racterización del mercado obje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Mix comer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trategia de produ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trategia de pre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trategia de dis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trategia de comun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valuación de proyec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valuación de proye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terminación de flujos de ca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timación de la 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Basado en el mercado objetivo y el produ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timación de costos de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timación de inver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terminación de tasas de descu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 sugiere usar varios escenarios para sensibilizar el proy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terminación de viabilidad del proy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VP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ay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or simplicidad vamos a suponer un proyecto 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valuación de Proyec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74760" y="876240"/>
          <a:ext cx="3400200" cy="567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4760" y="876240"/>
                    <a:ext cx="3400200" cy="56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860640" y="1282680"/>
            <a:ext cx="457200" cy="2286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96680" y="1230480"/>
            <a:ext cx="321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No existen ingresos diferentes a las ven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73600" y="1576440"/>
            <a:ext cx="457200" cy="2286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09640" y="1523880"/>
            <a:ext cx="322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No existen ganancias o pérdidas de capi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73600" y="2262240"/>
            <a:ext cx="457200" cy="2286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13960" y="2209680"/>
            <a:ext cx="172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No existen préstam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73600" y="4191120"/>
            <a:ext cx="457200" cy="2286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09640" y="4138560"/>
            <a:ext cx="322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No existen ganancias o pérdidas de capi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cl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77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ntabilidad del proy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¿Invertiría un inversionista externo en este proyect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notaciones estratég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xisten oportunidades de nego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enemos ventajas competi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uál es nuestra estrategia competi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puesta come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puesta de va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ix comercial adecuado para alcanzar propuesta estraté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spectos oper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Qué neces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ómo lo obten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ómo operar e implementar “el sistema” de mi nego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18:16:28Z</dcterms:created>
  <dc:creator>JMTORRES</dc:creator>
  <dc:description/>
  <dc:language>en-US</dc:language>
  <cp:lastModifiedBy>JMTORRES</cp:lastModifiedBy>
  <dcterms:modified xsi:type="dcterms:W3CDTF">2004-11-16T18:17:19Z</dcterms:modified>
  <cp:revision>2</cp:revision>
  <dc:subject/>
  <dc:title>Presentación final</dc:title>
</cp:coreProperties>
</file>