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F63-4876-4120-BC1A-FFE0BEC3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866-EB0F-4D07-B34F-9ED4A421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4F1-9766-4F2D-A43E-2BC8A169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BD4-5589-46D8-9181-BCD5C5C1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7A7-E73D-4C8C-8663-CEBDF304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E43-B115-44F3-812E-6B84E5A4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B29-70E1-41B7-B5F3-8EB36791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AF0-9F30-43B5-B21D-69DCA86B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86E-2893-4306-B8FD-6381733E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4AE-7361-45F1-83E0-EF914F5E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19A-F86B-4CA6-9FF8-9603E1DB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DF5-22B3-4734-B545-2DE43AC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A804-453B-4A4F-A6BD-47B080D06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spectos estratég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estratégico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finición del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dades o recursos disti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estratégico externo: 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 de las 5 fuerzas de P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 y amena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estratégico interno: compe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delo de la cadena del valor de P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entaja competitiva sust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rategi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ómo vamos a competir en el mercado seleccio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spectos comer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comercial m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finición de personalidad de marca y atributos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acterización del mercad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ix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valuación de proy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valuación de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ción de flujos de c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sado en el mercado objetivo y 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cost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inv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ción de tasa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 sugiere usar varios escenarios para sensibilizar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ción de viabilidad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y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simplicidad vamos a suponer un proyecto p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valuación de Proy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4760" y="876240"/>
          <a:ext cx="340020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876240"/>
                    <a:ext cx="34002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860640" y="128268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96680" y="1230480"/>
            <a:ext cx="32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 existen ingresos diferentes a las ve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3600" y="157644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09640" y="1523880"/>
            <a:ext cx="32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 existen ganancias o pérdida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73600" y="226224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3960" y="2209680"/>
            <a:ext cx="172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 existen prés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73600" y="41911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09640" y="4138560"/>
            <a:ext cx="32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 existen ganancias o pérdidas de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ntabilidad del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¿Invertiría un inversionista externo en este proyec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notaciones 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isten oportunidades de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nemos ventaj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nuestra estrategia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uesta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puesta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ix comercial adecuado para alcanzar propuesta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spectos ope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nece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ómo lo obte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ómo operar e implementar “el sistema” de mi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8:16:28Z</dcterms:created>
  <dc:creator>JMTORRES</dc:creator>
  <dc:description/>
  <dc:language>en-US</dc:language>
  <cp:lastModifiedBy>JMTORRES</cp:lastModifiedBy>
  <dcterms:modified xsi:type="dcterms:W3CDTF">2004-11-16T18:17:19Z</dcterms:modified>
  <cp:revision>2</cp:revision>
  <dc:subject/>
  <dc:title>Presentación final</dc:title>
</cp:coreProperties>
</file>