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DA0B34-FF69-4B4C-AA29-D41ED0D2BF1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FFE2436A-25D4-4A2F-A4F8-9965D59A4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47772C0C-1701-4F87-8D38-10354C59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D05ADAC8-E68E-4E2D-A76A-6EF1ED51787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5290C6-B219-4E57-B47D-25345A239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4C02A3-4AE2-46A3-9A71-8AFC6E176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F77994-FA19-4B0B-A219-723907498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7FF3B-F720-4F71-BB12-81DF0EB5E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5ABC41-D963-4308-98E7-EEB394620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5E4D88-4495-4189-8128-346B8595A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54E5B-2887-43FD-B33E-E1A06E5BC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D02434-7F03-4E6C-965B-F50C8AC56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D2CCF-86D8-40E6-BBE2-AA0A0E943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7612B-1591-45CE-9979-EFF40EBC8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CD2AB5-DFC9-4193-A082-4B2191BB4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A87490-90FE-4C2E-ADB8-C7C8823F72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8575DA-1C82-48E5-B057-F794AC6C37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9DF108-B228-4942-93DE-2EC96D6FF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F81CD10-2DA8-4E81-970F-A78991CC9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CE4FED93-9E1D-4B1D-BBC7-555087A03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D9B74D4-23F2-4BD3-A8D3-A80148AE8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FF3BE45-68B3-407A-AB9D-4F76AF389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9330070-0CC4-497A-8A61-DA4CB3D35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653C92F-35B6-4871-B64A-781545207C0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206D-04FF-4770-A864-2D789AC68CE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4273-9A5D-4E9C-8482-D1878851E8F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6BDF9E-F870-4777-8ECE-5880CF6A6B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D6B0CEE8-A414-404B-910C-29A279D64E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F9A355-05E1-4D5B-886C-5F0CF7A7D9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59A9D43-2A87-4179-8871-7C950F4960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7B726416-4EBD-48AD-8D29-AB1D04AECD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9AA4360B-D0DF-4AF9-8EB9-4CCC9DA409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F6D890-5E59-472F-8EF4-82D7A01093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84831748-99BE-491B-982E-C541FE83C6F0}"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57DF5E-571E-4F45-9A9B-802F8A9E8B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0BA6F9-E2DC-403F-818A-B959DC554D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A24919-6042-46EC-A3CE-171F566AF2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0)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260CF3-AB09-4A21-8C8B-A87FED630F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01F1D2EB-0837-418D-95A8-A67A06B4ED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76F90A-1569-4A92-B427-60CF0E96A6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2B2B5050-2941-4D5D-824C-D9E86E564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3E43DF6-09C3-434E-9314-0694E9B9A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14:41Z</dcterms:modified>
  <cp:revision>259</cp:revision>
  <dc:subject/>
  <dc:title>Módulo1_Tema1_Diplomado</dc:title>
</cp:coreProperties>
</file>