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3D8941-57E3-4C0D-A52F-CCFF3EA44CD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0CDA38B-4949-4204-AF7F-5C175C0AF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2576D7C3-3C8E-4FAF-BC77-737044C51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A1BCE625-DB62-492A-BD31-EEAAE3E95E0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6DE4CE-63BA-445C-A287-BCDCCA389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701FAC-7D3D-473B-B72D-D247B39B0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00E1BD-EF33-4498-BA9B-3E2F769DF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CCDD1C-0F45-4ED1-81B0-08E8F7148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A8CE7-D886-4FEB-89A6-83BBF3C274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B713A9-8A8B-45DA-9C13-BE47BB5E6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D92743-D85B-4A33-A0A7-24D279F86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F65D19-F5D5-422C-AD32-919FA3E09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6F862-7789-4523-B7F0-8E9374811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FF559C-B647-4619-BFA8-4754417A0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54CB6D-3267-4C88-A0CA-B432E05F0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B4FF75-5848-4D7C-9B66-D360069AB8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158CCB-556E-4509-892A-1E6032FC4D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2FD15E-7E89-4DC1-A0CB-DDD9106AB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947112A-ADEF-4CBD-B5C5-21EBD5699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B069C9B0-9CF5-4995-A19C-7579F109B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45E635E-4315-4FB1-A7AB-B5E6AE9B3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2ED4D98-7B4A-4D78-91CB-42B59F060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696E511-AD8F-4D25-BCD8-8119F1166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5410C093-82F5-48EF-8ED7-0E98DFB15FE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2391-A71A-4000-B123-8991FC62033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FC2A-F850-43A4-81BC-97943F4228F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E0DC7A-4047-4263-9FB9-8682955D81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800" y="1600200"/>
            <a:ext cx="777240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7D4552-55EB-4FE7-B67C-63FBB95E4E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A26723-BDB6-4D4D-B1EA-5C4903038B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B9A88A-5B7B-4121-8DCF-C37B10BFED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6E15005B-0739-40E6-825B-80871600DA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CD0D39-6606-445F-9DAC-F8C97D4C12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7583C77C-915F-488C-890C-77077658A3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8D5362-1121-422C-8DE6-38C5389D88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E18A7894-B203-49A3-A33E-B0FA4568A7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090567EB-3F96-4873-83DB-AFBD07FD1F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9870A372-0191-416A-A5D4-68A7FB94A7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EEF671-2A29-45F7-B6D9-F644CE376B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57A488-1494-496C-A82C-AA2D630C73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C0A9FD86-D6E7-4A86-8470-DFB5C67E55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1E0C69-A989-430D-BFAF-447D4B546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015909B6-9978-4412-B842-36992EB307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82880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A8788F44-4306-470E-B5DE-D665C06A89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43D9E805-C4D6-4FB3-BFF5-571FF18E40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A0E51360-D525-4820-8C5A-4614848524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DF43128-7529-4FA0-B055-8FCA2E8E24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0B07F6E5-F916-4589-8995-CA4A58AED2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7D3B558-451B-4BF2-AAA1-94A21A1A08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9AD54F-5BFC-42A2-91E4-912A4E7CA3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02C753-5790-425F-899B-744F885A29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DBBE17-1B06-4C27-A6D0-82ED1A532A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41CD25-E69F-4BD4-A9BC-0DE7BED345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0AA42E-9F05-4B1E-B38C-A802C3571F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0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33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ba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año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98CF5D-F149-49A5-BFF5-6D4346514D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06563E-DB22-48D8-93B7-B9CE100F2C43}"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inflación (t)</a:t>
            </a:r>
            <a:r>
              <a:rPr b="0" lang="en-US" sz="2000" spc="-1" strike="noStrike">
                <a:solidFill>
                  <a:srgbClr val="000000"/>
                </a:solidFill>
                <a:latin typeface="Arial"/>
              </a:rPr>
              <a:t>	</a:t>
            </a:r>
            <a:r>
              <a:rPr b="0" lang="en-US"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nominal (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E55754-0BE6-48AA-A7FD-EDF227DA44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2D1341-C309-492F-9457-933DB97414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11A6FFA3-9B83-4387-97EF-421CE85E3D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30020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17652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2D156B25-3A54-4373-8304-6F51B6302B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277800" y="2629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CD7E160F-C225-4026-89CF-EC903A88E9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27040" y="4419720"/>
                <a:ext cx="309096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r</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C50D331D-10BB-488F-9ACB-0468ACAD6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4-10-19T18:01:13Z</dcterms:modified>
  <cp:revision>253</cp:revision>
  <dc:subject/>
  <dc:title>Módulo1_Tema1_Diplomado</dc:title>
</cp:coreProperties>
</file>