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DD5AFE-45CD-466A-AF7A-D2CB5E065F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32440B69-6521-4484-B02D-0C120665A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4E42DF50-1DBA-457E-B702-7AC8164E5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DEA89D6C-906A-4F90-B480-3772C2727F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CB4E39-505E-4870-8249-DD986D484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763079-814E-48C9-860B-E68C0376E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CF314-E937-464B-B9BD-FC199E4D6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630C5-541C-4CF1-BFF8-2D96FE715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3DEE48-0676-4DBC-8B55-C73F76783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791061-0026-4072-A432-6AA783086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428EA-A773-4F19-9865-DC1C72B00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0AD97E-BDB5-4CE0-BB9E-BC2202B0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970EC-E6A4-47BE-AC2A-A36B40301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C00BC-AC09-4DEB-B305-C0C7AEA4B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02304-0E59-4331-AA5A-B123AA9FB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2F1566-C2C7-4585-AAD2-F972CACBE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19CCBB-B5FC-4FBE-99A1-17F78F997E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FF6C6A-6AA6-4F1E-B44C-D6B9CECFF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212BCA66-03B5-4794-82B9-670C4E371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E998A4DF-5309-4985-AF55-A0BA6932B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1D56450-D938-4DFE-B473-36EEE8ED1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AFB3D696-7683-4868-98C5-C8EE40672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BF1DC0E-104B-4A62-B417-5DF47B2ED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1D94E58-6957-4420-A8AA-D03C804EB22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4F60-061C-42BE-8DF1-BD0BABFDBDE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218E-C139-4500-9289-BD7D0463CC4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D85F99-2F62-45E4-B6C0-7729CA8423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ADA1716A-D8C6-4687-BBC3-FFE46E7355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543FB8-AF66-4346-A758-45FA17367D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008B9C1-69CC-40DC-A7F4-8BDE759647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CC280E87-26CA-428D-9878-E766C57C23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4500F79E-333E-44D1-94CE-8E20A51BAC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DF00BB-8E72-4EBB-9AED-C9CE4E3A8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473A365B-B4D4-403E-8A90-844F56F79207}"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6AC9EB-105B-43AF-8EB2-86BA6CF8FE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C5C05F-5860-4222-93CD-33CC288C0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9697A9-7E80-4150-84AE-7AD41D7A50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0)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84C2B3-7ACB-45EE-A232-499D2279F7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507DE0AA-DF27-440B-8AFA-FDB6552641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1C729A-24D4-4E8D-9601-98A09250B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744CA394-2055-48AC-8884-0313DA58C9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AEC1B3D-96B8-449A-96D3-A034D851C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14:18Z</dcterms:modified>
  <cp:revision>259</cp:revision>
  <dc:subject/>
  <dc:title>Módulo1_Tema1_Diplomado</dc:title>
</cp:coreProperties>
</file>