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40FA0-CE73-4A65-A085-17F380EBDFA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C1BC4B71-05EB-475C-A20C-85D7C8B76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7BA2598-FD2A-4A9E-A66A-0BB4E9D51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C84D2512-6316-40D0-95FE-F7A4004AA7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C3D961-6774-4A78-B0A3-42F11BEDC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9267D-9EA0-4831-AB9D-D33916D0D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7CFBE-9AF4-4E9D-826E-CF6FCA26A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0EC5ED-B1A6-4C09-BBA6-FD2E7EBFE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C2BC8E-49A2-4D79-8E6D-E3D2262FA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E115D-B5F5-4B67-A74C-8AFD38CAD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73EEC-2D12-4B62-8258-970AEE210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132E2E-F0AE-43E2-9D96-D500C0E65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11732B-E93A-420E-85F0-1B6C3CCB9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894DF-C4AE-40D0-B1D7-50CDF8CE9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158A86-805A-421B-9099-141389413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19F668-F5C6-4F89-BFE1-5919ACE7BD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190F2C-1D4A-4438-8269-7A50C8046E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03937D-B9BE-4278-9E82-6E8B0139B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742DF80C-9D75-459B-8103-C4519C14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E7F247B0-FBF8-4937-B371-5CBB7C12C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F91D8A3-E2F5-4EA6-83D3-481B9E045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258DA70-70EA-4BBC-89F8-CE7AFD52F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4AB535E-07F2-4429-AEB6-C582DE0B3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3E53B1E-B954-42A2-BE85-D774E238DD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F372-C82F-48B9-8167-02D3B84F2AF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7FDC-9ABC-47C2-BA56-D55F4991531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7D13E8-85FB-4658-9EB1-538857C27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22650A9B-0574-454D-83F4-31A9248819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98B83E-9488-420C-8691-825AF3D4B5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F67553A-2DA1-4494-93FF-B48687D725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1DB10862-968C-40AE-A7CF-EB9AE233BC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043D079F-1698-4413-9396-6AC69465A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DA943C-740C-4AC8-9534-AF9106809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DC21918C-2392-44DE-99B2-3A44A65AD43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0BEA3E-E44F-45B7-9B2F-66411A2539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78B56B-F4CE-46F5-82A9-EA406B3F8E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DC613C-8713-45C8-885B-98200A9DA1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0)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13028E-0B29-498F-899E-7DAAAE3C19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4CBA4530-95A0-47AF-BC8D-5E33BFDD5B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D094A0-BAEE-4E31-9FD6-6566401639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6F69FD4F-8775-4F56-A426-ECC909A387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FDECE64-1D10-4DE3-86D9-55C0EF4B8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14:18Z</dcterms:modified>
  <cp:revision>259</cp:revision>
  <dc:subject/>
  <dc:title>Módulo1_Tema1_Diplomado</dc:title>
</cp:coreProperties>
</file>