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CCDAC0-F83E-4A7E-83D2-C4C3255A8BB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8C5F8A9-8CC9-424B-B77B-B100FD4F2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72653AA2-5A75-48A4-B887-027DB634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C9141CEA-C9DF-4553-8F0C-562EEBB302C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1F81C8-707B-4596-BDA6-533D038B49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9A3382-70FB-4A5E-AB97-C2CFE8287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D4E178-B5A2-441A-8881-0AE4C22BE5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6D5F66-FA08-467B-B80B-EDEE74805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2B64B4-6920-40F5-80B1-42CC6E9D7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0E9DDE-FC07-4F99-BF42-99B527C61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8570D-EB54-4054-861C-673C028E6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2EB2E2-9248-45E3-8891-0E092CC95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62811-5AFB-4CB8-B447-5333BB007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B5854-DA9F-41B7-85D6-98E0EA6E3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F6DC4C-4800-4E70-BF19-DA608905E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658F12-02BE-48A4-A25F-839DA5B587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F908C1-FEE3-443D-989E-8D6DE49DCA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720711-6FDA-4712-928C-EFEE404B8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25A9AC0-DA97-453C-BB8E-36A48222A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C8EAA4C4-7122-464C-967B-0A96FB0B9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2EECC06-CEB4-4BC6-8495-B396F180A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ACFDF23-1F56-4072-BCFB-72CF7F8D0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BF4D1468-D75C-4ED3-9E7E-8BED17BA1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C72D67A-56E7-487B-9293-45DCF7D1D75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3A74-6EEB-4180-97FF-D264172D0A3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97AF-9165-486C-91BA-C5352AACA6C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C7C244-CB08-4E4E-B01C-E0523A4CCC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800" y="1600200"/>
            <a:ext cx="777240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A547C4-C078-4AC7-8B6C-C7C2AA0A20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7FAC1F-8FF1-48A3-A419-F2A5E29B5B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966833-5F12-452A-99A3-6AA1BA185D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967D557C-C134-43FA-A867-97A8EFA946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05F96F-89A8-4281-AF97-0083389B37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0670A350-EDE4-44B1-9F3D-A86C210FC3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425D5B-6E3C-45C3-82D2-9A4B9E5538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669FA626-D7AF-4933-983A-38B622B08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EF36D71C-3BB7-4F6E-8B6B-E7118B2684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4A0FF399-5950-4FA4-BAB0-FB28F44F9D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7B9A8F-29C6-4108-8A56-48ADC3F6A9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D5718D-FD98-4DAF-B80C-D55A97A30F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395E6866-7C68-436B-B68A-4672149CBB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305EFE-BD98-47FF-9E56-96E1984F61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F801940A-EC9C-4EAC-82CD-055F12139A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82880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9DDFFFDA-FCDB-4855-BFBB-20A4D1E474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3EBE4DEF-4441-4C33-8C93-6B6BDA4457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42BA69C3-D771-49A0-851B-CC0410B716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204983B-1225-43CE-BAB7-9D870198E7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264A1CD2-C4D3-462A-97B4-82FDFD3B26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7D7218E-1FDF-4329-9377-D648C98897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58B4FB-6696-4FE6-8668-B8A0DC71EE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CA0971-FA0A-4E82-8CA7-C1A7A28C9B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823081-BA55-4E89-9670-C0742653DE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CC78DD-4872-4419-A972-077CB4BA89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830A7B-CB79-4733-955A-E9F199E660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0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33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ba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año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12CCD2-6D75-4347-9411-A2D8CF3F8A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BC7D3D-A986-4A1D-8C92-4BB4CEABF4A9}"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inflación (t)</a:t>
            </a:r>
            <a:r>
              <a:rPr b="0" lang="en-US" sz="2000" spc="-1" strike="noStrike">
                <a:solidFill>
                  <a:srgbClr val="000000"/>
                </a:solidFill>
                <a:latin typeface="Arial"/>
              </a:rPr>
              <a:t>	</a:t>
            </a:r>
            <a:r>
              <a:rPr b="0" lang="en-US"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nominal (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39705F-C5CE-4A39-B2F5-6C9B7DA7E8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7B5035-2C99-4D20-8200-BD46ADB9B9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5EDC9AA0-89C1-4C91-8290-B4D808AC1F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30020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17652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BA1A40EA-B73F-4314-A90F-668A87AFF1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277800" y="2629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FC369F94-D806-478F-A027-9B1F065837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27040" y="4419720"/>
                <a:ext cx="309096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r</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807094A1-57C8-4675-906A-16E03DC30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4-10-19T18:01:13Z</dcterms:modified>
  <cp:revision>253</cp:revision>
  <dc:subject/>
  <dc:title>Módulo1_Tema1_Diplomado</dc:title>
</cp:coreProperties>
</file>