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D0D620-4395-436E-8A3D-24CAFD3F071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F347C21-01AA-4355-94E3-BB8AD797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84EC14A-E69B-47CB-BD18-1673F105C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F35DC909-44C2-48C0-9D8E-793051F5182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3CD09B-C224-49CD-9D4F-F57111917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36BF67-F4F7-4443-8870-AD6DA57108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751C0-4C5D-49AD-AD76-9FE490235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FCBE2E-931E-4957-854C-D2C583597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0BE37B-F47B-48C5-B013-422A3A74D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AEC599-CBB5-443C-8B99-0DF2A2B54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070582-CAD3-48EF-9461-EE7478BBE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FB03DB-9550-49D1-BFCC-90B647160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DF4A5-3981-4599-BEF4-5392F3D19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B62B58-BC2E-45E8-B05A-B9104E314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58A83B-4342-4CCF-8DE6-7272DC527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B3BBC6-75D3-4603-8F7B-593256756E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3FF5AF-2D62-49C3-A59C-7FF747A581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F34996-6A9D-4544-942E-48F95E2F4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A047F7DF-D3E3-4B9B-A5EA-78B7BCAF9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1F4D2E07-3183-4244-BFEA-2CD7D8A08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7BCB081-4B3C-4C99-A953-18BEF4711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403CE0C-4B5B-419D-856A-BFDCF5F62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27D52C0-040B-400A-9818-5DD3D9B08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DE8502F-FD93-4A38-B8AE-9D8608E7D2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02CB-11CA-47F1-B34C-0B3619DF8D2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086C-AE71-4A51-AD68-10FC25D4CFD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7A0415-65FD-4967-9601-528C11F69B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800" y="1600200"/>
            <a:ext cx="777240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83F5EF-4A9A-4442-AD57-20103727B8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3229EE-A6BE-4A88-9944-BEA808B3C3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6E5B96-2127-4BB3-BCFA-8C4BF02F4D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3785055C-C1E1-4C9C-8A4B-F8234EAC7A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A60814-1383-4F64-BAA8-BBD72215CF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A93F18FB-B45A-4BD5-B2FF-74D00AFDEF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24752C-0B12-4854-9E71-5D2E45BF2E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E49E9A06-01DA-4FA9-BC25-2547031A92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1CF311F9-AF06-476F-A8F6-DC45105488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B9394D7C-4E35-496D-9461-CFA1BE0A06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E06B7E-88A5-441E-BB2A-CAED5DCDA1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961627-44E4-4671-82F9-99D3B3D945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45985377-CDD7-48B5-A609-537181B59C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DFB3BF-D7C2-444C-BAAC-4F6D58872E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0909349C-AF56-46E7-9FFF-A9C3A1B555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82880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37FD1502-7E9B-4410-AFA2-1FAEF6F84E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BE6FF324-EE84-4D9E-98E4-E9AB870783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0928EA73-24B1-4B6F-92E7-3E9603CF58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595B748-4D19-4A82-9736-875788FBB9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D5FF9217-624C-4912-93DA-C4FABB46BD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CC412B3-15A3-4B6A-9B67-FB524B011C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6AF1FC-B991-4485-869D-65C143BCB0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C8E26A-DACE-4F26-82EE-CCF941080F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6FFB64-2B3F-4E16-8574-21F4929F66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3213EB-DFE3-4B4D-997E-7DF7CB0606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86C6F4-F058-41B5-9B07-750B007161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0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33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ba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año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18E789-E57E-41A6-B2B9-067D77AB8A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23E813-EB75-40C6-AAD3-16779DF213AD}"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inflación (t)</a:t>
            </a:r>
            <a:r>
              <a:rPr b="0" lang="en-US" sz="2000" spc="-1" strike="noStrike">
                <a:solidFill>
                  <a:srgbClr val="000000"/>
                </a:solidFill>
                <a:latin typeface="Arial"/>
              </a:rPr>
              <a:t>	</a:t>
            </a:r>
            <a:r>
              <a:rPr b="0" lang="en-US"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nominal (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850E01-47DD-41A4-A6FA-24C96B7AE6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B0DE75-327C-49D9-8A86-7A876EC28D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AA5FD40B-3E60-4F1A-8352-E5E5D64B33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30020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17652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ED96486A-E2B3-4155-B952-B5EBB1FCFD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277800" y="2629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793835C1-8AFD-4971-83F6-752317F98E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27040" y="4419720"/>
                <a:ext cx="309096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r</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003DE3BB-DA4D-4A21-9F03-D65E8B3A89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01:13Z</dcterms:modified>
  <cp:revision>253</cp:revision>
  <dc:subject/>
  <dc:title>Módulo1_Tema1_Diplomado</dc:title>
</cp:coreProperties>
</file>