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3EC48-309D-4600-B730-DB95F6E47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E1AE0-C6BB-4400-BDA8-6F447BA17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A1EAE-4E94-411E-B5BD-261C57FA7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38C3C-D764-42BE-A227-1F90FD25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F59D6-0DDF-4C67-BE81-38ED24A50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86EAB-D817-4637-AFE7-1C7FE099B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FF412-3BDC-463F-83C1-751DD85A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69BB6-F3C7-40D5-8951-9095B1DE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5D81-8890-4AAC-9F2C-9B7C4FEE4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4B58-B4F3-4465-BA91-06314C9D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0CD0-F152-4A92-868C-1C896204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1B0D9-FF1C-42D9-8F65-05E6E2266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932B-286D-46C8-BB81-6CC4F9F93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4-10-19T17:39:17Z</dcterms:modified>
  <cp:revision>41</cp:revision>
  <dc:subject/>
  <dc:title>Evaluación de Decisiones de Inversión</dc:title>
</cp:coreProperties>
</file>