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3AD8B-DB7E-4E78-AFCF-209612B07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7AFCE-3895-46A6-87AF-38635620E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F77EF-4F32-49D5-9409-7501D0E6F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E2527-734D-44CD-BAC3-C9226E774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4B4B-E8A2-46E9-A135-EA8D260BD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487F3-2E89-4607-81FD-86774F4E7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7DBE7-3EF0-48E7-8CA8-BA320ABA3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11F93-9BE5-4E42-9DF3-6597DC5B0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DB9CC-E707-4EDD-B2AE-4583AE176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999E-D6C5-4645-A1BC-400944C2F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7B974-66E4-4F89-A889-6077641E1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941BF-002B-4219-9C9D-548968C84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6016-0AED-432F-AB7C-1637BA74F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MTORRES</cp:lastModifiedBy>
  <dcterms:modified xsi:type="dcterms:W3CDTF">2004-10-19T17:39:17Z</dcterms:modified>
  <cp:revision>41</cp:revision>
  <dc:subject/>
  <dc:title>Evaluación de Decisiones de Inversión</dc:title>
</cp:coreProperties>
</file>