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EBE62-1897-4D54-896B-EC01DD9A9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BE739-04F3-433F-B324-6366CEAC7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4945A-4D8D-4671-B33C-EA27DD3D0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66543-1803-4B8B-BF88-CD45E066B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9EDBB-0D18-4770-8A26-A729C7C60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D416-BF44-4865-B7B2-A5E605991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F32DA-A69F-4D28-B2F8-82540BC83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BA11B-AC6E-4B59-BC64-7ADFD40A2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6F731-F958-4C1C-AAA5-E8E2291A4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D2BD-D1AC-403D-9BEE-D54D3382E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DCC4-A8FA-4DF4-898E-A5DC400BF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51BE-26F3-4EFE-A577-42A0CC79C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2295-D7AF-4F75-AD3E-C13E73577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MTORRES</cp:lastModifiedBy>
  <dcterms:modified xsi:type="dcterms:W3CDTF">2004-10-12T18:16:27Z</dcterms:modified>
  <cp:revision>38</cp:revision>
  <dc:subject/>
  <dc:title>Evaluación de Decisiones de Inversión</dc:title>
</cp:coreProperties>
</file>