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F46A5-0D2A-4E29-AD49-B5B722F69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04B3-BD0B-49A5-8326-29BC39A6E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F299A-56D9-454F-B642-38867023B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62D70-1B4D-4D48-99CC-6FD676B7D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89C6-D3BB-4EF7-9C5C-6312F7E07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1E304-9155-4001-8EA3-D6D41C70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5E254-38AE-44C4-9116-CA9DD6088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EABD-BA4A-4B1F-B299-83F181FAE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A0E48-53F2-45A5-B18B-F6769528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17E8-D7F6-4EAE-9E1F-40520C70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5117-34E1-458F-9132-A7C1F4BC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FC97-4D34-43C3-BB02-33817117B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CB7B-136D-4250-9DDB-6BD7EB906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4-10-12T18:16:27Z</dcterms:modified>
  <cp:revision>38</cp:revision>
  <dc:subject/>
  <dc:title>Evaluación de Decisiones de Inversión</dc:title>
</cp:coreProperties>
</file>