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8987E-FF8F-4E46-851E-5D9C36EFA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313B3-8297-488B-9752-E98406FA7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8AAD5-836A-431B-AAB7-5CEACADE8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AA10B-04D5-4D95-9C29-595112A8A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60C1D-95FC-404D-BBDD-55DB5CF53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4ECD-D686-41D6-897B-0E3E3AC49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E3C78-BC9F-4A62-8491-E15816ED4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92ACD-1B1F-4B39-86DE-89464DAD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F50A1-793E-4627-A103-04F9BF77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6521-77B4-46E9-99EE-7642F4A45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369C6-DE3F-4807-862E-75379E0CC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ED3E4-2FC9-442B-9F74-930F7A78B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4725-AC25-43EA-B5FD-A48873CBA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MTORRES</cp:lastModifiedBy>
  <dcterms:modified xsi:type="dcterms:W3CDTF">2004-10-12T18:16:27Z</dcterms:modified>
  <cp:revision>38</cp:revision>
  <dc:subject/>
  <dc:title>Evaluación de Decisiones de Inversión</dc:title>
</cp:coreProperties>
</file>